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B03A-01EE-41D4-8212-722014078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EA77-4D46-4B26-AC38-DD3E317CD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BB19-7727-46AA-91F0-25CAA2F4D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2350-4A1B-4CFE-B1D9-A96E2E2C8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BEBBA-0FDF-401B-A48C-8E32662BF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4BC1A-1A36-4FEC-BB29-82C864390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DE5EC-4A11-4F95-8ABD-51154EA25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56C98-94AF-43DF-B362-10202F230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B70EE-4303-40BD-B0C1-CA728650A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46D63-D03B-4B65-BA06-911B8C1DC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7D3A8-BCA1-4CBC-A2E1-08B312658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2230-1499-4A66-8F24-55304CD98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AC328-1032-490B-B794-9C9D6CEE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183B7-7CAB-41AC-88F1-40FCF93B0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0FA95-D972-41C6-B823-D1DA1A90A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21486-6D07-4F9D-936D-3934F51DE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4B9DF-7FD6-4363-B6C7-7FC91469B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1005-215C-41D0-8861-46E714084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7FE3-030E-41E2-AB82-FBA7DBB62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A963-BEBB-4532-B7A8-FDAA0477B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A0F4-D855-4AE0-B236-CCD7067A1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14A1-1FCD-4A0C-8644-A29B11A28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BE91-4A97-4604-8289-5DD1A5DF0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F63B-A472-4365-AE52-9C2BB2888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B3B7E-0337-4BEA-B966-4BB67E9AE668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D0451-09D4-45E9-B9AE-6C8A842BB54B}" type="slidenum">
              <a:rPr b="0" lang="cs-CZ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00000" y="1125360"/>
            <a:ext cx="76312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800"/>
            </a:br>
            <a:br>
              <a:rPr sz="5800"/>
            </a:br>
            <a:r>
              <a:rPr b="1" lang="cs-CZ" sz="5800" spc="-1" strike="noStrike">
                <a:solidFill>
                  <a:srgbClr val="00ff99"/>
                </a:solidFill>
                <a:latin typeface="Arial"/>
              </a:rPr>
              <a:t>Bitva na Bílé hoře</a:t>
            </a:r>
            <a:endParaRPr b="1" lang="en-US" sz="5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0" y="5157360"/>
            <a:ext cx="91440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Autorem materiálu a všech jeho částí, není-li uvedeno jinak,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je Mgr. Hana Zimová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Vytvořeno dne 24. 4. 2012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Nový začátek (New start) CZ.1.07/1.4.00/21.1409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Tento projekt je spolufinancován Evropským sociálním fondem a státním rozpočtem České republiky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obrázek 2" descr="Logolink_horizontal_zaklad_RGB"/>
          <p:cNvPicPr/>
          <p:nvPr/>
        </p:nvPicPr>
        <p:blipFill>
          <a:blip r:embed="rId1"/>
          <a:stretch/>
        </p:blipFill>
        <p:spPr>
          <a:xfrm>
            <a:off x="1979640" y="476280"/>
            <a:ext cx="575316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b9efee"/>
                </a:solidFill>
                <a:latin typeface="Verdana"/>
              </a:rPr>
              <a:t>Zdroje obrázků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647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Všechny uveřejněné odkazy [cit. 2012-04-24] dostupné pod licencí Creative Commons – </a:t>
            </a:r>
            <a:r>
              <a:rPr b="0" lang="cs-CZ" sz="1600" spc="-1" strike="noStrike" u="sng">
                <a:solidFill>
                  <a:srgbClr val="ffffff"/>
                </a:solidFill>
                <a:uFillTx/>
                <a:latin typeface="Verdana"/>
              </a:rPr>
              <a:t>http://wikimedia.org/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Defenestrace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http://commons.wikimedia.org/wiki/File:Karel_Svoboda_Defenestrace.jpg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Dobové vyobrazení bitvy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http://commons.wikimedia.org/wiki/File:Battle_of_White_Mountain.jpg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Vrchol návrší s pamětní mohylou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http://commons.wikimedia.org/wiki/File:Wite_Mountain_-_the_tumulus.JPG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¨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560" y="1989000"/>
            <a:ext cx="865080" cy="432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č. 18</a:t>
            </a:r>
            <a:endParaRPr b="1" lang="en-US" sz="20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79280" y="2637000"/>
          <a:ext cx="8785440" cy="3722400"/>
        </p:xfrm>
        <a:graphic>
          <a:graphicData uri="http://schemas.openxmlformats.org/drawingml/2006/table">
            <a:tbl>
              <a:tblPr/>
              <a:tblGrid>
                <a:gridCol w="3456000"/>
                <a:gridCol w="532944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náze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Bitva na Bílé hoř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ano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Žáci  poznají příčiny, průběh bitvy na Bílé hoře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očekávaný výstu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ZV – LMP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Člověk a společnost – 2. stupeň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 – 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mít přehled o zásadních historických událostech v našich zemíc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ruh učebního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ruh interaktiv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Výkla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"/>
                        </a:rPr>
                        <a:t>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8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b9efee"/>
                </a:solidFill>
                <a:latin typeface="Arial"/>
              </a:rPr>
              <a:t>Povstání českých stavů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0" y="981000"/>
            <a:ext cx="9144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Habsburští panovníci, kteří vládli po císaři Rudolfu II., stále víc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66"/>
                </a:solidFill>
                <a:latin typeface="Verdana"/>
              </a:rPr>
              <a:t>omezovali práva české šlechty a měst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roto se v Praze sešli a sepsali svoji stížnost a </a:t>
            </a:r>
            <a:r>
              <a:rPr b="1" lang="cs-CZ" sz="2800" spc="-1" strike="noStrike">
                <a:solidFill>
                  <a:srgbClr val="ff99ff"/>
                </a:solidFill>
                <a:latin typeface="Verdana"/>
              </a:rPr>
              <a:t>23. května 1618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se ji vydali předat na </a:t>
            </a: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Pražský hrad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zástupcům krále, který sídlil ve Vídni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Na Hradě však došlo k bitce, při které šlechtici </a:t>
            </a:r>
            <a:r>
              <a:rPr b="1" lang="cs-CZ" sz="2800" spc="-1" strike="noStrike">
                <a:solidFill>
                  <a:srgbClr val="00ff99"/>
                </a:solidFill>
                <a:latin typeface="Verdana"/>
              </a:rPr>
              <a:t>vyhodili královské zástupce z oke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do hradního příkop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= </a:t>
            </a:r>
            <a:r>
              <a:rPr b="1" i="1" lang="cs-CZ" sz="2800" spc="-1" strike="noStrike">
                <a:solidFill>
                  <a:srgbClr val="00ff99"/>
                </a:solidFill>
                <a:latin typeface="Verdana"/>
              </a:rPr>
              <a:t>defenestrac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Tím začala </a:t>
            </a:r>
            <a:r>
              <a:rPr b="1" i="1" lang="cs-CZ" sz="2800" spc="-1" strike="noStrike">
                <a:solidFill>
                  <a:srgbClr val="ffff66"/>
                </a:solidFill>
                <a:latin typeface="Verdana"/>
              </a:rPr>
              <a:t>válka</a:t>
            </a:r>
            <a:r>
              <a:rPr b="1" lang="cs-CZ" sz="2800" spc="-1" strike="noStrike">
                <a:solidFill>
                  <a:srgbClr val="ff99ff"/>
                </a:solidFill>
                <a:latin typeface="Verdana"/>
              </a:rPr>
              <a:t> mezi habsburským panovníkem a českými šlechtici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Válka se rozšířila do mnoha zemí a </a:t>
            </a: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trvala 30 let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roto ji nazýváme </a:t>
            </a:r>
            <a:r>
              <a:rPr b="1" i="1" lang="cs-CZ" sz="2800" spc="-1" strike="noStrike">
                <a:solidFill>
                  <a:srgbClr val="ccff66"/>
                </a:solidFill>
                <a:latin typeface="Verdana"/>
              </a:rPr>
              <a:t>třicetiletou válkou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b9efee"/>
                </a:solidFill>
                <a:latin typeface="Arial"/>
              </a:rPr>
              <a:t>Pražská defenestrac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22" name="Object 3"/>
          <p:cNvGraphicFramePr/>
          <p:nvPr/>
        </p:nvGraphicFramePr>
        <p:xfrm>
          <a:off x="684360" y="1268280"/>
          <a:ext cx="7704000" cy="540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268280"/>
                    <a:ext cx="770400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b9efee"/>
                </a:solidFill>
                <a:latin typeface="Arial"/>
              </a:rPr>
              <a:t>Bitva na Bílé hoř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964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Císař Ferdinand II. poslal do Čech armádu proti armádě českých šlechticů a měšťanů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Vojska se střetla </a:t>
            </a:r>
            <a:r>
              <a:rPr b="1" lang="cs-CZ" sz="3200" spc="-1" strike="noStrike">
                <a:solidFill>
                  <a:srgbClr val="ffff66"/>
                </a:solidFill>
                <a:latin typeface="Verdana"/>
              </a:rPr>
              <a:t>8. listopadu 1620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na</a:t>
            </a:r>
            <a:r>
              <a:rPr b="0" lang="cs-CZ" sz="3200" spc="-1" strike="noStrike">
                <a:solidFill>
                  <a:srgbClr val="ff99ff"/>
                </a:solidFill>
                <a:latin typeface="Verdana"/>
              </a:rPr>
              <a:t> </a:t>
            </a:r>
            <a:r>
              <a:rPr b="1" lang="cs-CZ" sz="3200" spc="-1" strike="noStrike">
                <a:solidFill>
                  <a:srgbClr val="ff99ff"/>
                </a:solidFill>
                <a:latin typeface="Verdana"/>
              </a:rPr>
              <a:t>Bílé hoře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nedaleko Prah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Česká vojska se dala brzy na ústup, neměla šanci proti přesile císařských vojsk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850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66"/>
                </a:solidFill>
                <a:latin typeface="Arial"/>
              </a:rPr>
              <a:t>Dobové vyobrazení bitvy </a:t>
            </a:r>
            <a:br>
              <a:rPr sz="4000"/>
            </a:br>
            <a:r>
              <a:rPr b="1" lang="cs-CZ" sz="4000" spc="-1" strike="noStrike">
                <a:solidFill>
                  <a:srgbClr val="ffff66"/>
                </a:solidFill>
                <a:latin typeface="Arial"/>
              </a:rPr>
              <a:t>na Bílé hoře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27" name="Object 3"/>
          <p:cNvGraphicFramePr/>
          <p:nvPr/>
        </p:nvGraphicFramePr>
        <p:xfrm>
          <a:off x="324000" y="1413000"/>
          <a:ext cx="8424720" cy="518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413000"/>
                    <a:ext cx="8424720" cy="51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66"/>
                </a:solidFill>
                <a:latin typeface="Arial"/>
              </a:rPr>
              <a:t>Vrchol návrší s pamětní mohylou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30" name="Object 3"/>
          <p:cNvGraphicFramePr/>
          <p:nvPr/>
        </p:nvGraphicFramePr>
        <p:xfrm>
          <a:off x="250920" y="1125360"/>
          <a:ext cx="8642160" cy="547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25360"/>
                    <a:ext cx="864216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66"/>
                </a:solidFill>
                <a:latin typeface="Arial"/>
              </a:rPr>
              <a:t>Potrestání českých šlechticů </a:t>
            </a:r>
            <a:br>
              <a:rPr sz="4000"/>
            </a:br>
            <a:r>
              <a:rPr b="1" lang="cs-CZ" sz="4000" spc="-1" strike="noStrike">
                <a:solidFill>
                  <a:srgbClr val="ffff66"/>
                </a:solidFill>
                <a:latin typeface="Arial"/>
              </a:rPr>
              <a:t>a měšťanů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Císař Ferdinand II. tvrdě potrestal vzbouřené české a moravské pány a měšťany. </a:t>
            </a:r>
            <a:r>
              <a:rPr b="1" lang="cs-CZ" sz="3200" spc="-1" strike="noStrike">
                <a:solidFill>
                  <a:srgbClr val="ff6600"/>
                </a:solidFill>
                <a:latin typeface="Verdana"/>
              </a:rPr>
              <a:t>21. června 1621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dal na Staroměstském náměstí postavit lešení a nechal </a:t>
            </a:r>
            <a:r>
              <a:rPr b="1" lang="cs-CZ" sz="3200" spc="-1" strike="noStrike">
                <a:solidFill>
                  <a:srgbClr val="ff99ff"/>
                </a:solidFill>
                <a:latin typeface="Verdana"/>
              </a:rPr>
              <a:t>popravit</a:t>
            </a:r>
            <a:r>
              <a:rPr b="1" lang="cs-CZ" sz="3200" spc="-1" strike="noStrike">
                <a:solidFill>
                  <a:srgbClr val="ffff66"/>
                </a:solidFill>
                <a:latin typeface="Verdana"/>
              </a:rPr>
              <a:t> 27 vůdců povstání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Ostatním vzpurným šlechticům </a:t>
            </a:r>
            <a:r>
              <a:rPr b="1" lang="cs-CZ" sz="3200" spc="-1" strike="noStrike">
                <a:solidFill>
                  <a:srgbClr val="ffffff"/>
                </a:solidFill>
                <a:latin typeface="Verdana"/>
              </a:rPr>
              <a:t>zabavil majetek a vyhnal je ze země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Nekatolíci museli přestoupit na katolickou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víru = </a:t>
            </a:r>
            <a:r>
              <a:rPr b="1" lang="cs-CZ" sz="3200" spc="-1" strike="noStrike">
                <a:solidFill>
                  <a:srgbClr val="ff99ff"/>
                </a:solidFill>
                <a:latin typeface="Verdana"/>
              </a:rPr>
              <a:t>konec náboženské svobod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v Čechách, kterou zaručil Rudolf II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b9efee"/>
                </a:solidFill>
                <a:latin typeface="Verdana"/>
              </a:rPr>
              <a:t>Zdroj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VALENTA, Milan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;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 MÜLLER, Oldřich. </a:t>
            </a:r>
            <a:r>
              <a:rPr b="0" i="1" lang="cs-CZ" sz="1400" spc="-1" strike="noStrike">
                <a:solidFill>
                  <a:srgbClr val="ffffff"/>
                </a:solidFill>
                <a:latin typeface="Verdana"/>
                <a:ea typeface="Verdana"/>
              </a:rPr>
              <a:t>Dějepis pro 2. stupeň základní školy praktické. 3. díl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1. vydání. Praha : Parta, 2009. ISBN 9788073201234. s. 16 - 17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KOHOUTKOVÁ, H.; KOMSOVÁ, M. 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Dějepis na dlani. 2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. vydání. Olomouc : Rubico,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2007. ISBN 8073460653. s. 107 - 108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6:30Z</dcterms:created>
  <dc:creator>Hana Zimová</dc:creator>
  <dc:description/>
  <dc:language>en-US</dc:language>
  <cp:lastModifiedBy>martina</cp:lastModifiedBy>
  <dcterms:modified xsi:type="dcterms:W3CDTF">2013-06-09T07:29:55Z</dcterms:modified>
  <cp:revision>18</cp:revision>
  <dc:subject/>
  <dc:title>  Bitva na Bílé hoře</dc:title>
</cp:coreProperties>
</file>