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2BB1-871E-458F-832F-34BF64E62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8599-8B5C-4443-93CE-C722F408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5EEA-7C33-4982-AB55-A4D9B0B1E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5B8A-D60A-4A8A-A2E1-A00AF1AA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9584-E4A7-43DB-B93E-D030665EB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8092-FE8B-4B34-B102-EAF3F8E7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7CDA-5DB1-4C3A-A971-6C3B4F6E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7298-241A-406B-8E81-47E78281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3A76-0DF3-4A9B-BBCD-872A3BB3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AAFA-93F9-4006-AADC-106AE0FE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1826-B692-4E7A-884E-D4985CDE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6F40-6C86-4FE6-B413-7FFE36C5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BC9B-C64B-44DE-8D8F-58946FFF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4FD1-A1C4-4C0E-BA04-4881A87B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5917-AD6A-431B-8AFA-DE33C952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AC84-8476-4257-B033-92F60D77B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6592-A254-48D1-8A52-D659A8553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65A6-7A55-4312-BA24-E9BDAD65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A31A-ABAB-49EE-A4C5-D6AED6F4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629E-A288-4B11-9407-7DD20A1D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F0E3-9C5F-4FE3-B7DB-52F18063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8A4A-3DD2-469B-A2E5-2F4BC03E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113C-BED8-4A99-93D9-41936CCD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746B-39CE-409B-A595-9E798966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E3AC-C039-4F9E-BF33-9703532B09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94D6-E816-496D-927D-C513918248B9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media.org/" TargetMode="External"/><Relationship Id="rId2" Type="http://schemas.openxmlformats.org/officeDocument/2006/relationships/hyperlink" Target="http://commons.wikimedia.org/wiki/File:Flag_of_the_Czech_Republic.svg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1360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700"/>
            </a:br>
            <a:br>
              <a:rPr sz="5700"/>
            </a:br>
            <a:r>
              <a:rPr b="1" lang="cs-CZ" sz="5700" spc="-1" strike="noStrike">
                <a:solidFill>
                  <a:srgbClr val="feec94"/>
                </a:solidFill>
                <a:latin typeface="Arial"/>
              </a:rPr>
              <a:t>Vznik ČR</a:t>
            </a:r>
            <a:endParaRPr b="1" lang="en-US" sz="57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28. 3. 2012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763640" y="33336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Arial"/>
              </a:rPr>
              <a:t>Státní znak Č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File:Coat of arms of the Czech Republic.svg"/>
          <p:cNvPicPr/>
          <p:nvPr/>
        </p:nvPicPr>
        <p:blipFill>
          <a:blip r:embed="rId1"/>
          <a:stretch/>
        </p:blipFill>
        <p:spPr>
          <a:xfrm>
            <a:off x="1979640" y="1143000"/>
            <a:ext cx="4753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Arial"/>
              </a:rPr>
              <a:t>Vlajka Slovenské republik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5" name="Object 4"/>
          <p:cNvGraphicFramePr/>
          <p:nvPr/>
        </p:nvGraphicFramePr>
        <p:xfrm>
          <a:off x="179280" y="2349360"/>
          <a:ext cx="4319640" cy="28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349360"/>
                    <a:ext cx="4319640" cy="28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5"/>
          <p:cNvGraphicFramePr/>
          <p:nvPr/>
        </p:nvGraphicFramePr>
        <p:xfrm>
          <a:off x="4854600" y="1600200"/>
          <a:ext cx="3624120" cy="453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4600" y="1600200"/>
                    <a:ext cx="36241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eec94"/>
                </a:solidFill>
                <a:latin typeface="Arial"/>
              </a:rPr>
              <a:t>Mapa ČR a znaky historických zemí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5" descr="File:Czech Rep. - Bohemia, Moravia and Silesia III.png"/>
          <p:cNvPicPr/>
          <p:nvPr/>
        </p:nvPicPr>
        <p:blipFill>
          <a:blip r:embed="rId1"/>
          <a:stretch/>
        </p:blipFill>
        <p:spPr>
          <a:xfrm>
            <a:off x="179280" y="1989000"/>
            <a:ext cx="8640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eec94"/>
                </a:solidFill>
                <a:latin typeface="Arial"/>
              </a:rPr>
              <a:t>Opětovné zvolení Václava Havla,</a:t>
            </a:r>
            <a:br>
              <a:rPr sz="4000"/>
            </a:br>
            <a:r>
              <a:rPr b="1" lang="cs-CZ" sz="4000" spc="-1" strike="noStrike">
                <a:solidFill>
                  <a:srgbClr val="feec94"/>
                </a:solidFill>
                <a:latin typeface="Arial"/>
              </a:rPr>
              <a:t>NA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áclav Havel byl českým prezidente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letech 1993 – 2003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 jaře 1999 vstoupila ČR do NATO =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everoatlantický pak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Verdana"/>
              </a:rPr>
              <a:t>Zdroj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2. stupeň základní školy praktické. </a:t>
            </a: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díl. 1. vydání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Praha : Parta, 20</a:t>
            </a: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ISBN 9</a:t>
            </a: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788073201241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s. 64 - 67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</a:t>
            </a: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243 - 244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eec94"/>
                </a:solidFill>
                <a:latin typeface="Verdana"/>
              </a:rPr>
              <a:t>Zdroje obrázků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šechny uveřejněné odkazy [cit. 2012-03-28] dostupné pod licencí Creative Commons – </a:t>
            </a:r>
            <a:r>
              <a:rPr b="0" lang="cs-CZ" sz="20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wikimedia.org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Vlajka Č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commons.wikimedia.org/wiki/File:Flag_of_the_Czech_Republic.sv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Znak Č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http://commons.wikimedia.org/wiki/File:Coat_of_arms_of_the_Czech_Republic.sv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Vlajka S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http://commons.wikimedia.org/wiki/File:Flag_of_Slovakia.sv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Znak S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http://commons.wikimedia.org/wiki/File:Coat_of_Arms_of_Slovakia.sv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apa Č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http://commons.wikimedia.org/wiki/File:Czech_Rep._-_Bohemia,_Moravia_and_Silesia_III.p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apa Československa 1969 – 19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http://commons.wikimedia.org/wiki/File:%C4%8CSSR-mapa.p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č. 8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9280" y="2637000"/>
          <a:ext cx="8785440" cy="4038480"/>
        </p:xfrm>
        <a:graphic>
          <a:graphicData uri="http://schemas.openxmlformats.org/drawingml/2006/table">
            <a:tbl>
              <a:tblPr/>
              <a:tblGrid>
                <a:gridCol w="4238640"/>
                <a:gridCol w="454680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znik Č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 popíší dobu vzniku ČR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chápat význam událostí v roc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1989 a vítězství demokracie v naší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vla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9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Arial"/>
              </a:rPr>
              <a:t>Zánik Československ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ánik Československa se udál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dvakrát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99ff"/>
                </a:solidFill>
                <a:latin typeface="Arial"/>
              </a:rPr>
              <a:t>poprvé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14.–15. března 1939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cs-CZ" sz="3200" spc="-1" strike="noStrike">
                <a:solidFill>
                  <a:srgbClr val="0099ff"/>
                </a:solidFill>
                <a:latin typeface="Arial"/>
              </a:rPr>
              <a:t>podruhé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definitivně 31. prosince 1992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dy Česká a Slovenská Federativní Republika zanikl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 dosavadní národní republik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(Česká republika i Slovenská republika) 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d </a:t>
            </a:r>
            <a:r>
              <a:rPr b="1" lang="cs-CZ" sz="3200" spc="-1" strike="noStrike">
                <a:solidFill>
                  <a:srgbClr val="66ff33"/>
                </a:solidFill>
                <a:latin typeface="Arial"/>
              </a:rPr>
              <a:t>1. ledna 1993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osamostatnil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 staly subjekty mezinárodního práv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Arial"/>
              </a:rPr>
              <a:t>Politické změn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29. prosince 1989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byl zvolen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rezidentem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oma i v zahraničí uznávaný </a:t>
            </a:r>
            <a:r>
              <a:rPr b="1" i="1" lang="cs-CZ" sz="3200" spc="-1" strike="noStrike">
                <a:solidFill>
                  <a:srgbClr val="ffff00"/>
                </a:solidFill>
                <a:latin typeface="Arial"/>
              </a:rPr>
              <a:t>Václav Havel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edsedou Federálního shromáždění se st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Alexandr Dubček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Komunistický režim definitivně padl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cs-CZ" sz="3200" spc="-1" strike="noStrike">
                <a:solidFill>
                  <a:srgbClr val="66ff33"/>
                </a:solidFill>
                <a:latin typeface="Arial"/>
              </a:rPr>
              <a:t>červnu 1990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se uskutečnily </a:t>
            </a:r>
            <a:r>
              <a:rPr b="1" lang="cs-CZ" sz="3200" spc="-1" strike="noStrike">
                <a:solidFill>
                  <a:srgbClr val="66ff33"/>
                </a:solidFill>
                <a:latin typeface="Arial"/>
              </a:rPr>
              <a:t>první svobodné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6ff33"/>
                </a:solidFill>
                <a:latin typeface="Arial"/>
              </a:rPr>
              <a:t>volby do parlament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Arial"/>
              </a:rPr>
              <a:t>Další změn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1. února 1990 byla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rušena Státní bezpeč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v březnu byl přijat 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zákon o rehabilitaci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lid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tíhaných komunistickým režim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byl přijat 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restituční zákon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navracející soukromý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ajetek zabavený po únoru 1948 jeh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ůvodním vlastníků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v březnu 1990 byl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měněn název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ČSSR n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Českou a Slovenskou federativní republik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ČSF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Arial"/>
              </a:rPr>
              <a:t>Zahraniční politik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Československo se rychle zbavovalo závislost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 Sovětském svazu a chystala se začleni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ezi evropské demokratické stá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a největší úspěch se považuje dohod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 odchodu sovětských vojsk z našeho územ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 20 lete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384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eec94"/>
                </a:solidFill>
                <a:latin typeface="Arial"/>
              </a:rPr>
              <a:t>Rozdělení československé republiky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0" y="1844280"/>
            <a:ext cx="9144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1. ledna 1993 došlo k rozdělení Československa na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va samostatné stát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6ff33"/>
                </a:solidFill>
                <a:latin typeface="Arial"/>
              </a:rPr>
              <a:t>Českou republik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cs-CZ" sz="3200" spc="-1" strike="noStrike">
                <a:solidFill>
                  <a:srgbClr val="0099ff"/>
                </a:solidFill>
                <a:latin typeface="Arial"/>
              </a:rPr>
              <a:t>Slovenskou republik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roce 2004 se naše republika stal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členskou zemí </a:t>
            </a:r>
            <a:r>
              <a:rPr b="1" i="1" lang="cs-CZ" sz="3200" spc="-1" strike="noStrike">
                <a:solidFill>
                  <a:srgbClr val="ffff00"/>
                </a:solidFill>
                <a:latin typeface="Arial"/>
              </a:rPr>
              <a:t>Evropské uni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eec94"/>
                </a:solidFill>
                <a:latin typeface="Arial"/>
              </a:rPr>
              <a:t>Mapa Československa 1969 - 1990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5" descr="File:ČSSR-mapa.png"/>
          <p:cNvPicPr/>
          <p:nvPr/>
        </p:nvPicPr>
        <p:blipFill>
          <a:blip r:embed="rId1"/>
          <a:stretch/>
        </p:blipFill>
        <p:spPr>
          <a:xfrm>
            <a:off x="179280" y="1413000"/>
            <a:ext cx="8713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Arial"/>
              </a:rPr>
              <a:t>Vlajka Č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09:21:27Z</dcterms:created>
  <dc:creator>Sbor</dc:creator>
  <dc:description/>
  <dc:language>en-US</dc:language>
  <cp:lastModifiedBy>martina</cp:lastModifiedBy>
  <dcterms:modified xsi:type="dcterms:W3CDTF">2013-06-09T07:21:02Z</dcterms:modified>
  <cp:revision>17</cp:revision>
  <dc:subject/>
  <dc:title>Vznik ČR</dc:title>
</cp:coreProperties>
</file>