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AED-700D-481E-BC88-2B841DEB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D62-BD9F-4883-9FC1-C851B1C5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D8A-73F7-4AC4-8A78-F951F09C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FA3-7449-4A1E-AA00-D2E16B0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50F6-0A9E-4C11-9392-CBFF2391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EF44-1493-4E30-B688-CD66A8D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E40-C4A4-40AE-87A8-9005E7B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1CE8-BD53-47B9-87D4-3AECE615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0159-EFF9-4AF3-88E4-7548E7FA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2EA-CAB4-413E-9F71-B4B53E8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260-13F4-4835-B29B-90AAEBE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A0E-5FB6-4E0F-8A8D-569FE18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8CEC-0CEA-4745-A7D4-E1EA9E2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6DB1-05EA-4760-906E-4C36116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02F7-9AD3-45A9-8B34-1B04BD35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153-71A1-4586-94B3-8DF11F45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6231-24D3-4297-B160-C3F46A2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ED1-236C-49C4-8204-47467FF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8BD-3BA2-4A29-8B81-263BF682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B13-390E-490C-BF14-7F0793C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EAA-879E-46BC-B053-71103A7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CB6-97D6-4937-B9A2-A2ED058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D25-E5A7-4DB8-9A95-535B6CB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9CF-4F97-4589-9E0A-C01A277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3AA-2E61-4CBA-BB0A-0EBF93F1116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0413-B35B-43E8-A856-55455036260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9/Kepler-solar-system-1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Kanuni.jpg" TargetMode="External"/><Relationship Id="rId3" Type="http://schemas.openxmlformats.org/officeDocument/2006/relationships/hyperlink" Target="http://commons.wikimedia.org/wiki/File:Moh&#225;cs_Historical_Monumen_(5).jpg" TargetMode="External"/><Relationship Id="rId4" Type="http://schemas.openxmlformats.org/officeDocument/2006/relationships/hyperlink" Target="http://commons.wikimedia.org/wiki/File:Louis2.jpg" TargetMode="External"/><Relationship Id="rId5" Type="http://schemas.openxmlformats.org/officeDocument/2006/relationships/hyperlink" Target="http://commons.wikimedia.org/wiki/File:Hans_Bocksberger_der_Aeltere_001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0/Hans_Bocksberger_der_Aeltere_00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upload.wikimedia.org/wikipedia/commons/4/49/The_Emperor_Ferdinand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Císařský dvůr </a:t>
            </a: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Rudolfa II.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1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Vlád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l v letech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576 – 1611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nování Rudolfa II. je dobou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alchymis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idé, kteří se snažili vyrobit zlato a elixí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živo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tekutinu, která omlazuje). Sice zlato a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xír nevyrobili, ale zato učinili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no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důležitých objev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to také doba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hvězdopravců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astrologové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z hvězdného nebe hádali osud lidí. Věřili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mohou svůj osud vyčíst z postav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beských těles jako jsou Slunce a Měsí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v Pra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jediný Habsburk přesídlil Rudolf II. se sv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vorem z Vídně do Prahy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na Pražský hrad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l obklopen alchymisty a také mnohý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vodníky, ale i různými učenci. Mezi nimi byli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nikající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hvězdář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cs-CZ" sz="2800" spc="-1" strike="noStrike">
                <a:solidFill>
                  <a:srgbClr val="00ff00"/>
                </a:solidFill>
                <a:latin typeface="Tahoma"/>
              </a:rPr>
              <a:t>Jan Kepler a Tycho de Brah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vlády Rudolfa II. se z Prahy stalo důležité kultur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ntrum Evropy, především díky vzácným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bírká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Tahoma"/>
              </a:rPr>
              <a:t>obrazů, zbraní, knih, skla a drahokam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Rudolfa II. byla podle pověstí i městem tajemný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jevení, jako např.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Golem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Model sluneční soustavy J. Keplera (1596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5" descr="File:Kepler-solar-system-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341360"/>
            <a:ext cx="5191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ycho de Brah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196640"/>
            <a:ext cx="60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4. prosince 1546,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nudstru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ánsko – 24. října 1601, Pra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ůvodním jménem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Tyge Ottes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Brah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nesprávně uváděný jak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yl to význačný dánský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n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log a alchymist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považován za nejlepšího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přesnějšího pozorovatele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hvězdn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obloh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jenž byl překonán až šedesát l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 vynalezení dalekohle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File:Tycho Brahe.JPG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476280"/>
            <a:ext cx="536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Golem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hebrejsky: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הגולם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v židovské mystice člověk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živená soch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ovo </a:t>
            </a:r>
            <a:r>
              <a:rPr b="1" i="1" lang="cs-CZ" sz="2400" spc="-1" strike="noStrike">
                <a:solidFill>
                  <a:srgbClr val="ffffff"/>
                </a:solidFill>
                <a:latin typeface="Tahoma"/>
              </a:rPr>
              <a:t>golem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amená v hebrejštině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úplnost, nedokonalost a takto by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aké tato oživená bytost pojím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měla vlastní myšlenky ani vlast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ůli, obvykle nemohla hovořit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ze plnila příkazy svého p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etí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šém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který golemy oživoval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chází z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aba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což je dru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ystiky, tzn. že mystik (kabalista)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cela oddává službě Boh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5" descr="File:Clay-golem.jpg"/>
          <p:cNvPicPr/>
          <p:nvPr/>
        </p:nvPicPr>
        <p:blipFill>
          <a:blip r:embed="rId1"/>
          <a:stretch/>
        </p:blipFill>
        <p:spPr>
          <a:xfrm>
            <a:off x="5148360" y="836640"/>
            <a:ext cx="3995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2 - 1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1] dostupné pod licencí Creative Commons – </a:t>
            </a:r>
            <a:r>
              <a:rPr b="0" lang="cs-CZ" sz="1600" spc="-1" strike="noStrike" u="sng">
                <a:solidFill>
                  <a:srgbClr val="a3c145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ultán Sulejm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commons.wikimedia.org/wiki/File:Kanun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Bitva u Moháč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commons.wikimedia.org/wiki/File:Moh%C3%A1cs_Historical_Monumen_(5)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udvík Jagellon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commons.wikimedia.org/wiki/File:Louis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I. Habsbur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commons.wikimedia.org/wiki/File:Hans_Bocksberger_der_Aeltere_00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v r. 1531 při jeho zvolení římskoněmeckým krá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he_Emperor_Ferdinand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udolf I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Hans_von_Aachen_003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LAR1600_AV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odel sluneční soustavy J. Kepl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Kepler-solar-system-1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ycho_Brahe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Go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lay-golem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6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168720"/>
                <a:gridCol w="56167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ísařský dvůr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se seznámí se životem lidí v době vlády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Tahoma"/>
              </a:rPr>
              <a:t>Bitva proti Turkům u Moháč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ec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sultán Sulejman I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yzbrojil velkou armádu, se kterou míří do Evropy pokořit celý křesťanský svět. Kradou a zapalují domy, pobíjejí muže, ženy s dětmi odvlékají do zaj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v Království českém mají velké obavy o své životy a majetky, proto </a:t>
            </a:r>
            <a:r>
              <a:rPr b="0" lang="cs-CZ" sz="3200" spc="-1" strike="noStrike">
                <a:solidFill>
                  <a:srgbClr val="ff00ff"/>
                </a:solidFill>
                <a:latin typeface="Tahoma"/>
              </a:rPr>
              <a:t>český král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Ludvík Jagellonský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. 152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se svým vojskem postavil proti Turkům poblíž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ěsta Moháče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Maďarsk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itva to byla ukrutná, Turci použili desítky děl, která rozhodla o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porážce vojsk krále Ludví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rál utekl z boje, ale utopil se v močá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Sultán Sulejman I.       Ludvík Jagellonský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Louis2"/>
          <p:cNvPicPr/>
          <p:nvPr/>
        </p:nvPicPr>
        <p:blipFill>
          <a:blip r:embed="rId2"/>
          <a:stretch/>
        </p:blipFill>
        <p:spPr>
          <a:xfrm>
            <a:off x="5219640" y="1484280"/>
            <a:ext cx="30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Bitva u Moháče v Maďarsk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Vznik habsburské říš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 smrti krále Ludvíka Jagellonského česká šlech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ela zvolit nového panovníka, kterým se s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akouský vévo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Ferdinand I. Habsburský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šlo ke spojení českých zemí a Uher s Rakousk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la nová říše – </a:t>
            </a:r>
            <a:r>
              <a:rPr b="1" lang="cs-CZ" sz="2800" spc="-1" strike="noStrike">
                <a:solidFill>
                  <a:srgbClr val="ff00ff"/>
                </a:solidFill>
                <a:latin typeface="Tahoma"/>
              </a:rPr>
              <a:t>habsburská říš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I. sídlil ve Vídni, v Čechách nech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očátku vládnout českou šlechtu, ale po čase zač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ovat její vliv a pravomoci, zřídil vlastní úřad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řídil velké daně a moc ve městech vložil moc do ru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diného královského úředníka –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rychtář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Ferdinand I. Habsbursk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40000" y="105264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v r. 1531 při je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volení římskoněmeck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rá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7" descr="File:Hans Bocksberger der Aelter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81000"/>
            <a:ext cx="2886120" cy="569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File:The Emperor Ferdin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2349360"/>
            <a:ext cx="252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Dob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volením Ferdinanda I. usedl na český trů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akous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rod Habsburk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Vládli v če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ích téměř 400 let –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až do r. 191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ním z vládců by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císař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Rudolf II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 kterém bylo napsáno mnoho knih – u nás by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točeny filmy o tomto panovníkovi – Císařů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ekař a Císařův pekař -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hlavní roli s Janem Weric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              Tol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0" descr="File:Hans von Aachen 003.jpg"/>
          <p:cNvPicPr/>
          <p:nvPr/>
        </p:nvPicPr>
        <p:blipFill>
          <a:blip r:embed="rId1"/>
          <a:stretch/>
        </p:blipFill>
        <p:spPr>
          <a:xfrm>
            <a:off x="324000" y="155736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0" y="184428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6" descr="File:TOLAR1600 AV.jpg"/>
          <p:cNvPicPr/>
          <p:nvPr/>
        </p:nvPicPr>
        <p:blipFill>
          <a:blip r:embed="rId2"/>
          <a:stretch/>
        </p:blipFill>
        <p:spPr>
          <a:xfrm>
            <a:off x="4427640" y="227664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5:51Z</dcterms:created>
  <dc:creator>Hana Zimová</dc:creator>
  <dc:description/>
  <dc:language>en-US</dc:language>
  <cp:lastModifiedBy>martina</cp:lastModifiedBy>
  <dcterms:modified xsi:type="dcterms:W3CDTF">2013-06-09T07:28:21Z</dcterms:modified>
  <cp:revision>29</cp:revision>
  <dc:subject/>
  <dc:title>  Počátek novověku</dc:title>
</cp:coreProperties>
</file>