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1CC0-B2A4-4DD6-8E38-BD91626E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6632-2537-4431-8A90-5552C236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DC8B-0512-4971-BFEB-927B5274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98A8-E6E9-4299-9281-004C5691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8C95-FCCE-4F6F-959C-FFE66585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FD3C-D3EC-4B0E-AA01-1A0354AC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15B2-80C5-430B-BCA1-0A27C6D2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3319-67C5-4A3A-8F47-DEDA200C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E2D8-FEF3-4BD8-87D1-23A47293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CCFF-BA7E-4516-8078-26346F60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F6AC-C840-4B4F-9C1B-48277BD8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5582-2ED4-4A2B-9B67-C73FCA0A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3E8F-2FAD-424B-BF33-1E63CCA5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0106-4FC9-489E-B31E-CEAD7BB0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CD31-F8A1-4A40-A61A-8FA4906E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6DC7-7B52-4067-AED5-2C62D9F4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DA94-56E5-4CED-AF9A-5A4537DC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BB74-45C8-4C6F-A400-57FC8290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35B3-64B2-4C80-9819-247711FF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6669-2853-465A-8D8C-248182D5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36E0-20EE-4C6C-8450-33B8CB83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6B1A-31C4-494D-B130-22EDE994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47E3-67F1-4495-B0E2-00D06A4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4C6E-45BF-41D6-9B82-77D3DA75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020B-15E6-4430-AA24-1777BDD76F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9C74-94D1-4E20-961D-80475795830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00"/>
                </a:solidFill>
                <a:latin typeface="Arial"/>
              </a:rPr>
              <a:t>Doba temna, Komenský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9. 5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26028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Jan Ámos Komensk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28. 3. 1592 – 15. 11. 16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bitvě na Bílé hoře muse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katoličtí šlechtici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ěšťané opustit domov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 odejít do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VYHNANSTV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zi vyhnanci byl tak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něz a učit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Jan Ámos Komensk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tří mezi nejslavnějš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obnosti českých i evropských děj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7" descr="Johan_amos_comenius_1592-1671"/>
          <p:cNvPicPr/>
          <p:nvPr/>
        </p:nvPicPr>
        <p:blipFill>
          <a:blip r:embed="rId1"/>
          <a:stretch/>
        </p:blipFill>
        <p:spPr>
          <a:xfrm>
            <a:off x="5153040" y="1125360"/>
            <a:ext cx="3990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Činnost Komenskéh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vyhnání ze země procestoval mnoho zemí, kde pomáhal s výchovou a vzděláváním dětí ve školá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to je nazývá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učitelem národ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den jeho narozen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8. břez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slav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ezinárodní den učitel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šel celou Evropu, Anglii, Holandsko, Polsk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védsko, Maďarsko a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konci svého života žil v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msterdam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v Holandsk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de také zemř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am byla vydána polovina z celého Komenského díl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příklad soubor 43 spisů pod názvem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Opera didact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omnia (Veškeré spisy didaktické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ševýchov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 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šemluv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vzdory usilovné práci a pomoci syna Daniela zůstala mnohá díla více či méně nedokonče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emřel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o dlouhodobých zdravotních problémech, 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ečnosti své ženy Jany, syna Daniel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tele a lékaře Mikuláše Tulpa,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5. listopadu 1670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pohřben v kostelíku v Naarde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Jeho knih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 A. Komenský napsal mnoho knih a učebn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známější se jmenu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Svět v obraze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to učebnice latinského jazyka, který byl v té době jazykem vzdělanců a učenců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asto se ho musely učit už malé děti a to se Komenskému nelíbi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počáteční vyučování prosazov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mateřský jazy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79280" y="476280"/>
            <a:ext cx="446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starší dochovan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ukopis J. A. Komenské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 roku 1611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ást textu česk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 mladosti má člově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pamatovati, kterak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dobře živ byl, a v staros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kterak by dobře umř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5" descr="File:Oldest manuscript of Comenius.jpg"/>
          <p:cNvPicPr/>
          <p:nvPr/>
        </p:nvPicPr>
        <p:blipFill>
          <a:blip r:embed="rId2"/>
          <a:stretch/>
        </p:blipFill>
        <p:spPr>
          <a:xfrm>
            <a:off x="5003640" y="333360"/>
            <a:ext cx="3961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Další požadavky Komenskéh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ále požadoval, aby do šk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hly chodit i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děti z chudých rod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é době většinou chodili do škol jen chlapc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 bohatších vrste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ažil o to, ab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kol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byla pro dě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zábavou a hr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Škola hr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 jmenuje další z jeho slavných učebn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Hlavní pedagogické náz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soce si ceni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znamu výchov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odle něj by žádné dítě nemělo být vyloučeno z výchovy, protože i to nejméně nadané dítě lze vych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ýchova dítěte má podle něj </a:t>
            </a: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tři hlavní cíl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poznat sebe a svě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zdělání ve vědách, uměních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 řemesle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ovládnout seb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ýchova m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povznést se k Boh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ýchova nábožensk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lade důraz na význam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ázně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ukončení vzdělávání by měl člověk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stova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Zdůrazňoval, že vzdělávání nikdy nekonč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Školní ro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prvé definoval pojem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kolní rok, škol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ázdniny a školní týd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 třídách by měli být žáci stejného věk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 stejné úrovně znalostí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kud je ve třídě větší počet žáků, doporuču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učitele pomocníka (ve třídách bývalo 80 a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00 žáků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ždá třída by měla mít svou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ístnos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výuku, každý rok by měla mí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čeb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8 - 2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8 - 1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5-09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Slet čaroděj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Hexensabbat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arodějnický 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WitchcraftAtSalemVillage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n Ámos Komen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Johan_amos_comenius_1592-167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is Komenské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Oldest_manuscript_of_Comeniu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9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2637000"/>
          <a:ext cx="8785440" cy="3657600"/>
        </p:xfrm>
        <a:graphic>
          <a:graphicData uri="http://schemas.openxmlformats.org/drawingml/2006/table">
            <a:tbl>
              <a:tblPr/>
              <a:tblGrid>
                <a:gridCol w="3672000"/>
                <a:gridCol w="5113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ba temna, J. A. Komens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ají život lidí v pobělohorské době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znají význam J. A. Komenskéh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oznat význačné osobnosti naši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Arial"/>
              </a:rPr>
              <a:t>Doba pobělohorská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9036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období po bitvě na Bílé hoře r. 162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 skončení třicetileté války byla města rozbitá a venkovské usedlosti opuštěné. Scházelo mnoho pracovních sil, protože za války zahynulo velké množství lid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rkev nutila poddané k přestupu na katolickou víru, nutila je k účasti na bohoslužbách a zakázala jim odchod ze země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Spalování kni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9280" y="1314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době po bitvě na Bílé hoře by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66cc"/>
                </a:solidFill>
                <a:latin typeface="Verdana"/>
              </a:rPr>
              <a:t>spalovány </a:t>
            </a:r>
            <a:r>
              <a:rPr b="1" lang="cs-CZ" sz="3200" spc="-1" strike="noStrike">
                <a:solidFill>
                  <a:srgbClr val="ff66cc"/>
                </a:solidFill>
                <a:latin typeface="Verdana"/>
              </a:rPr>
              <a:t>knihy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, které vyprávě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 minulosti národa, hlavn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 době husitsk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i, kteří tyto knihy vlastnili, byli tvrdě potrestá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Upalování lid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romě zakázaných knih byli upalováni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idé, hlavně za </a:t>
            </a:r>
            <a:r>
              <a:rPr b="1" i="1" lang="cs-CZ" sz="3200" spc="-1" strike="noStrike">
                <a:solidFill>
                  <a:srgbClr val="ffffff"/>
                </a:solidFill>
                <a:latin typeface="Verdana"/>
              </a:rPr>
              <a:t>čarodějnictv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rkev věřila, že mezi lidmi se ukrývaj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uctívači ďábla –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ČARODĚJNÍC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vrdila, že ti způsobují uhynutí dobytka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kodu na majetku, nemoci, sm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další nesmy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Slet čarodějnic vedených ďáble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Čarodějnický pro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5" descr="File:WitchcraftAtSalemVillage.png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Útlak ze strany vrchn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omě útlaku ze strany církve byli lidé utlačová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lechtou. Ta mluvila převážně německy, pro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ština začala postupně mizet z veřejného živo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daní také museli císaři museli posílat sv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yny do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služby k císařskému vojs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at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lužba trvala až 18 le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omě toho však musel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vádě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šlechtě velk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část své úrody či výděl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také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pracov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(robotovat = zadarmo pracovat) na panský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polí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Nevolnic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ez povolení vrchnosti se poddaní nesmě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ěhovat, ženit či vdávat ani posílat své dě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 učen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danství se změni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NEVOLNIC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ivot nevolníků byl velmi těžký. Téměř nic mu nezbylo pro vlastní potřebu, rodiny trpěly velkou nouz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9:34Z</dcterms:created>
  <dc:creator>Hana Zimová</dc:creator>
  <dc:description/>
  <dc:language>en-US</dc:language>
  <cp:lastModifiedBy>martina</cp:lastModifiedBy>
  <dcterms:modified xsi:type="dcterms:W3CDTF">2013-06-09T07:30:37Z</dcterms:modified>
  <cp:revision>30</cp:revision>
  <dc:subject/>
  <dc:title>  Doba temna</dc:title>
</cp:coreProperties>
</file>