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671-2275-4466-9F55-44103566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952-21F8-4BF2-8550-516A254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080-795D-4CD0-BD71-93CF9163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548-2883-44D9-BF5E-60BC9012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6756-C2A7-42DC-8879-AA594C8A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4431-BDA5-4D5C-837F-E14D66E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B3F-D7CB-4067-8E9A-313DF9F6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828-21A1-489A-82DB-9A71DE60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259D-E090-463D-B0A0-56C0A62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CA64-4E22-47BB-9C47-B0D6E8E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B6A-2853-4D94-B257-D8AA4194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45C-C82E-460F-BD01-CFFEAFEF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5E6D-D5B6-4B08-955E-F9CE1880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265C-D9B6-48D9-9ED8-BD4B3E5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A00-21D3-4CDC-9481-5E35AEC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0B2-EAF0-4D14-A167-6F6676AE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BF0B-0268-4DE3-B44F-97A84491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1BE-5820-4A0B-9C8B-9EADEE8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671-C164-40D8-8CC8-BC6E61A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E45-72B4-45B7-AF9D-A548BAF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AEB-DEB0-4A17-899A-68695CC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395-0924-4DC7-BD70-5C86A2F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D48-9D7A-43CC-81A5-44C52CE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2E6-BEB3-4312-AF22-AED50DF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A2F-CF12-4EA5-81F3-0432AD4A7D2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E636-986E-42FB-94DC-7C2C75DE637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Brno,_kostel_(10)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66"/>
                </a:solidFill>
                <a:latin typeface="Arial"/>
              </a:rPr>
              <a:t>Baroko,</a:t>
            </a:r>
            <a:br>
              <a:rPr sz="5800"/>
            </a:br>
            <a:r>
              <a:rPr b="0" lang="cs-CZ" sz="5800" spc="-1" strike="noStrike">
                <a:solidFill>
                  <a:srgbClr val="ffff66"/>
                </a:solidFill>
                <a:latin typeface="Arial"/>
              </a:rPr>
              <a:t> prvky baroka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7. 5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Rytířský sál s kazetovým stropem </a:t>
            </a:r>
            <a:br>
              <a:rPr sz="4000"/>
            </a:b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v Častolovicí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324000" y="1600200"/>
          <a:ext cx="84960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00200"/>
                    <a:ext cx="84960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24 - 25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10 - 11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bbd71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5-17] dostupné pod licencí Creative Commons – </a:t>
            </a:r>
            <a:r>
              <a:rPr b="0" lang="cs-CZ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ýzdoba kostela v Brn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commons.wikimedia.org/wiki/File:Brno,_kostel_(10)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ostel sv. Mikuláše Pra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Chram_sv_Mikulase_z_upati_Petrina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ýzdoba koste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Chram_sv_Mikulase_interier_kopule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ocha Jana Nepomuckého na Karlově most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Jan_Nepomucky_na_Karlove_moste_detail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ámek v Častolovicí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%C4%8Castolovice6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ytířský sá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Rytirak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0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637000"/>
          <a:ext cx="8785440" cy="3855960"/>
        </p:xfrm>
        <a:graphic>
          <a:graphicData uri="http://schemas.openxmlformats.org/drawingml/2006/table">
            <a:tbl>
              <a:tblPr/>
              <a:tblGrid>
                <a:gridCol w="3384720"/>
                <a:gridCol w="540072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oko, prvky baro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ávají barokní kultur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66"/>
                </a:solidFill>
                <a:latin typeface="Arial"/>
              </a:rPr>
              <a:t>Rozvoj baro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 skončení třicetileté války (po Bílé hoř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 českých zemích nastává rozma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barokního umě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ový umělecký styl se projevuje ve </a:t>
            </a:r>
            <a:r>
              <a:rPr b="1" lang="cs-CZ" sz="2800" spc="-1" strike="noStrike">
                <a:solidFill>
                  <a:srgbClr val="00ff00"/>
                </a:solidFill>
                <a:latin typeface="Verdana"/>
              </a:rPr>
              <a:t>stavitelství, módě, malířství, sochařství, hudbě i literatuř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Cílem barok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bylo odpoutat pozornost člověka od běžných starostí 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obrátit je k bo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ke katolické víř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Stavitelstv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výrazněji se vliv baroka projev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 stavitelstv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avěly se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chrámy, paláce a zámk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teré udivovaly a udivují dodnes svou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mohutností a kráso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ly velmi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bohatě zdobené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zvenku i zevnitř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 výzdobě patřilo i velké množstv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Verdana"/>
              </a:rPr>
              <a:t>soch a velkých obrazů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 zlacených ráme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hrámy zastřešovala 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velká kopul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Bohatá barokní výzdoba v kostele Svatých Janů v Brně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File:Brno, kostel (10).jpg"/>
          <p:cNvPicPr/>
          <p:nvPr/>
        </p:nvPicPr>
        <p:blipFill>
          <a:blip r:embed="rId1"/>
          <a:stretch/>
        </p:blipFill>
        <p:spPr>
          <a:xfrm>
            <a:off x="755640" y="1268280"/>
            <a:ext cx="76201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Kostel sv. Mikuláše na Malé Straně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File:Chram sv Mikulase z upati Petrina.jpg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alířská výzdoba v kopuli Kostela sv. Mikuláš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File:Chram sv Mikulase interier kopule2.jpg"/>
          <p:cNvPicPr/>
          <p:nvPr/>
        </p:nvPicPr>
        <p:blipFill>
          <a:blip r:embed="rId1"/>
          <a:stretch/>
        </p:blipFill>
        <p:spPr>
          <a:xfrm>
            <a:off x="97164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333360"/>
            <a:ext cx="396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cha sv. Ja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pomuckého 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rlově most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 Pra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File:Jan Nepomucky na Karlove moste detail.jpg"/>
          <p:cNvPicPr/>
          <p:nvPr/>
        </p:nvPicPr>
        <p:blipFill>
          <a:blip r:embed="rId1"/>
          <a:stretch/>
        </p:blipFill>
        <p:spPr>
          <a:xfrm>
            <a:off x="4500720" y="11592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Zámek v Častolovicích</a:t>
            </a:r>
            <a:br>
              <a:rPr sz="4000"/>
            </a:b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ve východních Čechá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800PX-~1 častolovic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41:40Z</dcterms:created>
  <dc:creator>Hana Zimová</dc:creator>
  <dc:description/>
  <dc:language>en-US</dc:language>
  <cp:lastModifiedBy>martina</cp:lastModifiedBy>
  <dcterms:modified xsi:type="dcterms:W3CDTF">2013-06-09T07:31:38Z</dcterms:modified>
  <cp:revision>25</cp:revision>
  <dc:subject/>
  <dc:title>  Baroko,  prvky baroka</dc:title>
</cp:coreProperties>
</file>