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67D-0B8F-41E9-9512-E079F30C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3A9-554F-4C16-A9B7-50E53C4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421-FFD2-499D-8EE8-B9B4CF52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522-5615-4AA6-8CB6-FBCA3443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372-1D00-41D5-BB0E-81F2ECFE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B856-065F-4A21-AE60-56AB027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CE87-E0D8-40E3-A235-4E1C7502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E1F-45C0-4DF7-AFE5-D97CDCDB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82E-1B7E-4137-B1CF-8547434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9B41-594F-49F0-82AE-F9619E7F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430-7394-49E7-8793-DD41189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EDC-74DD-47A0-B240-3690E668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EC00-DBAB-4FBA-8528-D9CACE77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D3BB-77B9-45C5-AD7C-72B159F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B8B-AE82-414F-9BD4-AB88DE5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A1E7-00DE-45E5-88DA-DE391D77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D4D-4B03-4A8C-BF87-D27C707B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864-37AB-4FC1-946E-74F87E6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011-E13E-4742-95AE-1684AE6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672-AC47-4194-B2F9-7BD519B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C75-C422-492F-884D-06A2BD8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78F-63C2-4F94-A0B6-F93F343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720-D0DA-4A27-998A-9384227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D37-6300-46E2-B944-18F74C2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8B93-91E9-4C7E-BE0E-55C82EE0E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B17-4ABD-485C-BC27-0F9B43C7AEE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Kryštof Kolumbus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ryštof Kolum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hristopher_Columbus.P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apa výpra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Viajes_de_colon_cs.sv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us v Novém světě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olumbus_Taking_Possession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ův náhrob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mba_de_Colon-Sevilla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3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yštof Kolumb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chápou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nam Kryštofa Kolumba pro Evropu a svět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eec94"/>
                </a:solidFill>
                <a:latin typeface="Arial"/>
              </a:rPr>
              <a:t>Objevení Amerik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. srpna 1492 vyplul </a:t>
            </a:r>
            <a:r>
              <a:rPr b="1" lang="cs-CZ" sz="3200" spc="-1" strike="noStrike">
                <a:solidFill>
                  <a:srgbClr val="66ff66"/>
                </a:solidFill>
                <a:latin typeface="Arial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španělských břehů směrem ke Kanárský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rovům, měl 3 malé plachetn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iňa, Pinta a Santa Mari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odě se plavily Atlantským oceánem na západ. Cesta jim trvala 33 dn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12. října 1492 přistály u Karib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ostrovech námořníci objev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morodé obyvatele, zlato a nové druhy rost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716360" y="260280"/>
          <a:ext cx="442764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0280"/>
                    <a:ext cx="44276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-360" y="260280"/>
            <a:ext cx="4506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ryštof Kolumbu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si 31. října 1451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0. května 1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řeplavec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olonizá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službách Katolický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álů Španělska uskutečn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tyři plavby př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tlantský oceá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 Evropě probudily záj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 nový kontinent, pozděj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zvaný Ameri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nevěděl, že objevil nový kontin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obyvatele nazval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Indio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španělský výraz p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y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chtěl pro sebe a své dědice výhody 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panělského královského dvora. Nakonec se m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ařilo prosadit jen některé z nic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mřel r. 1506 ve Valladolidu a jeho ostatky j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s umístěny v katedrále Panny 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Mapa 4 Kolumbových výprav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50920" y="1125360"/>
          <a:ext cx="86421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Kolumbus v Novém svět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95280" y="1341360"/>
          <a:ext cx="8353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53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eec94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4572000" y="260280"/>
          <a:ext cx="43210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0280"/>
                    <a:ext cx="43210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 txBox="1"/>
          <p:nvPr/>
        </p:nvSpPr>
        <p:spPr>
          <a:xfrm>
            <a:off x="324000" y="333000"/>
            <a:ext cx="4254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lumbův náhrob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Katedrále Pan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umbu ne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ové Kastili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ónu, Aragonie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va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7:16Z</dcterms:created>
  <dc:creator>Hana Zimová</dc:creator>
  <dc:description/>
  <dc:language>en-US</dc:language>
  <cp:lastModifiedBy>martina</cp:lastModifiedBy>
  <dcterms:modified xsi:type="dcterms:W3CDTF">2013-06-09T07:25:39Z</dcterms:modified>
  <cp:revision>17</cp:revision>
  <dc:subject/>
  <dc:title>Kryštof Kolumbus</dc:title>
</cp:coreProperties>
</file>