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8ED1-5273-4AE9-84FE-4B8138BB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B8B2-F3AF-4972-8446-033CCA6A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94E5-3D8A-4F04-A447-9FE40C58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C037-8169-42B5-B280-CA7AFED8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B96E-8C62-400E-883C-0FF3BCCF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6FC5-58CC-41E8-8CE8-777DCEDB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F830-E6A1-481E-8283-D1B6BA94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09B-F7F6-4DA6-BBDA-2A727CBB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B70E-22DD-43EB-8417-0A08255B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FB8D-36E3-4648-A6EE-0AA3A208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06D1-A583-49F7-B990-E2926121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0BE0-1870-4F19-B3A8-6E143878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44CD-4287-4395-BE84-9F88399D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061F-1F1E-435C-87FD-3B13DAE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F209-6F56-442A-B6D4-D2DBA928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B353-A1E9-44BD-9BC1-A20D7EF1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02EC-E471-4834-9BE6-B8470C86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1EA8-606C-42F4-9A14-1B2F37BD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8BFC-F4C9-46B2-8811-D9E9E0B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9C0D-6495-470B-A03D-CD14116A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3B44-1F68-44CA-B8CE-4E428588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D6F9-5CF7-463F-BEF9-9DDEE7B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6A5C-4FF0-4713-A5FA-DB2A0ACB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5F64-7194-42AD-935A-CBEC64C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D039-71F0-4344-BA73-1EA4D3054E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2EB2-4F6A-4893-B96B-FECA449EF48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6600" spc="-1" strike="noStrike">
                <a:solidFill>
                  <a:srgbClr val="dfdef6"/>
                </a:solidFill>
                <a:latin typeface="Tahoma"/>
              </a:rPr>
              <a:t>Vznik </a:t>
            </a:r>
            <a:br>
              <a:rPr sz="6600"/>
            </a:br>
            <a:r>
              <a:rPr b="1" lang="cs-CZ" sz="6600" spc="-1" strike="noStrike">
                <a:solidFill>
                  <a:srgbClr val="dfdef6"/>
                </a:solidFill>
                <a:latin typeface="Tahoma"/>
              </a:rPr>
              <a:t>samostatné ČSR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Vytvořeno dne 15. 10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260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Znak republik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9" name="Object 3"/>
          <p:cNvGraphicFramePr/>
          <p:nvPr/>
        </p:nvGraphicFramePr>
        <p:xfrm>
          <a:off x="539640" y="1268280"/>
          <a:ext cx="813600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13600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Ü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Dějepis pro 2. stupeň z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š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oly praktick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. 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. 1. vy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aha : Parta, 2010. ISBN 9788073201241. s. 13 - 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uveřejněné odkazy [cit. 2012-10-15] dostupné pod licencí Creative Commons – </a:t>
            </a:r>
            <a:r>
              <a:rPr b="0" lang="cs-CZ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amalovávání symbol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Kratky,_Frantisek_- Kolin,_postovni_schranka_(28.10._1918)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dvard Bene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Edvard_Bene%C5%A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Milan Rastislav Štefán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Milan_Rastislav_%C5%A0tef%C3%A1nik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Československo 1920 -193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Czechoslovakia1920-38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n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Czechoslovakia_COA_large.sv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3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nik samostatné ČS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vybavují základní poznatky o vzniku československého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mít základní poznatky o vzniku samostatné Československé republ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66"/>
                </a:solidFill>
                <a:latin typeface="Arial"/>
              </a:rPr>
              <a:t>Život v Rakousko - Uhersku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válce strádá i civilní obyvatelstvo. Šíří se nemoci a hlad. Mnoho lidí, hlavně dětí, umírá na podvýživu, protože je nedostatek léků a potrav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se začali bouřit proti drahotě a hladu. Rakouské úřady proti demonstrujícím vyslaly četníky, kteří na koních najížděli do lidí a rozháněli je šavlemi a obušky, někdy použili i střelné zbran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66ff"/>
                </a:solidFill>
                <a:latin typeface="Arial"/>
              </a:rPr>
              <a:t>Konec  Rakousko – Uherska </a:t>
            </a:r>
            <a:br>
              <a:rPr sz="4000"/>
            </a:br>
            <a:r>
              <a:rPr b="1" lang="cs-CZ" sz="4000" spc="-1" strike="noStrike">
                <a:solidFill>
                  <a:srgbClr val="ff66ff"/>
                </a:solidFill>
                <a:latin typeface="Arial"/>
              </a:rPr>
              <a:t>a vznik Československé republik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podzim r. 1918 bylo Rakousko – Uhersk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raženo ve válce, hladoví lidé se začali bouř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hávali německé nápisy, pálili znaky rakousko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herské monarchie a portréty císaře. V ulicí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rála hudba, lidé slavili a tanči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 velkého nadšení byl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28. října 191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yhlášen svobodný stát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00"/>
                </a:solidFill>
                <a:latin typeface="Arial"/>
              </a:rPr>
              <a:t>Československá republik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ento den dodnes slavíme státní svátek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Zamalovávání symbolů monarchie na poštovní schránce v Kolíně </a:t>
            </a:r>
            <a:br>
              <a:rPr sz="4000"/>
            </a:b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28. 10. 1918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4" name="Object 3"/>
          <p:cNvGraphicFramePr/>
          <p:nvPr/>
        </p:nvGraphicFramePr>
        <p:xfrm>
          <a:off x="1042920" y="1773360"/>
          <a:ext cx="70581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70581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Nová vláda a prezi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ezidentem nového státu byl zvol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66ff"/>
                </a:solidFill>
                <a:latin typeface="Arial"/>
              </a:rPr>
              <a:t>Tomáš Garrigue Masary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ději byla ustanovena i nová vlá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bližšími spolupracovníky prezidenta by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ský politik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Edvard Bene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slovenský generál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Milan Rastislav Štefáni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Edvard Beneš a Milan R. Štefánik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6"/>
          <p:cNvGraphicFramePr/>
          <p:nvPr/>
        </p:nvGraphicFramePr>
        <p:xfrm>
          <a:off x="4859280" y="1484280"/>
          <a:ext cx="396072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484280"/>
                    <a:ext cx="3960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2" name="Picture 8" descr="Beneš"/>
          <p:cNvPicPr/>
          <p:nvPr/>
        </p:nvPicPr>
        <p:blipFill>
          <a:blip r:embed="rId4"/>
          <a:stretch/>
        </p:blipFill>
        <p:spPr>
          <a:xfrm>
            <a:off x="250920" y="1484280"/>
            <a:ext cx="410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Sloučení zem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svobodný stát –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Československo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l sloučením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ří územ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cs-CZ" sz="3600" spc="-1" strike="noStrike">
                <a:solidFill>
                  <a:srgbClr val="ff66ff"/>
                </a:solidFill>
                <a:latin typeface="Arial"/>
              </a:rPr>
              <a:t>českých zemí, Slovenska a Podkarpatské Rus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bírání moci nebylo jednoduché. Žily zde národnostní menšiny, které měly strach, že ztratí své politické a hospodářské výh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i to především Němci, Maďaři a Rusíni. Někde museli být vytlačeni českými legionář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legionáři = příslušníci našich zahraničních legií, byli základem československé armá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Československo 1920 - 193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6" name="Object 3"/>
          <p:cNvGraphicFramePr/>
          <p:nvPr/>
        </p:nvGraphicFramePr>
        <p:xfrm>
          <a:off x="0" y="1557360"/>
          <a:ext cx="9144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9:36:25Z</dcterms:created>
  <dc:creator>Hana Zimová</dc:creator>
  <dc:description/>
  <dc:language>en-US</dc:language>
  <cp:lastModifiedBy>martina</cp:lastModifiedBy>
  <dcterms:modified xsi:type="dcterms:W3CDTF">2013-06-09T07:33:52Z</dcterms:modified>
  <cp:revision>17</cp:revision>
  <dc:subject/>
  <dc:title>  Vznik  samostatné ČSR</dc:title>
</cp:coreProperties>
</file>