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2C9-5443-4224-9065-A779F8DD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C11-AC60-41DA-BB7F-7472276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90D-DDF0-47B1-AA90-B6FACBC5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27A-F3F0-4DDC-BEFF-93639A7C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EA6C-E674-4892-98C3-3CADC549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7EA-90A9-4F33-90F2-327F256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D3E3-D0DD-4AEA-A75D-EFAA202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ECF-83F9-40B5-B994-99E75333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9B21-6AF6-4216-8F1B-D94CA029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D0E3-6841-42E0-A586-12C06A0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59AA-20D7-437F-AC4B-4321CC57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F03-28FB-4CF3-8A87-5A9ECB5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4966-82E9-4E7F-BF35-3F3F7EA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2032-EC01-4D33-B77E-FC9C7315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326-2B45-4BF5-974F-3C253509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EC01-320E-4651-950C-5D93D8BB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7DEA-5608-4FD2-B425-AC568A13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FF6-5D5E-4BED-AC64-DB16652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DF1-B2A0-4806-A785-C631E8C6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9D8-BA31-4200-AEB9-157552D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D90-BF50-4FDB-A37B-1D9AA616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05F-CA46-4161-8EB1-F534537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9AD-D2A1-4DB0-B8A2-8BDE3F5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55D-237D-4167-B9BA-56AFFE8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1C9-9064-4B8A-B7A2-5C20A59D23C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DD16-0022-4925-9F99-654ADF686419}" type="slidenum">
              <a:rPr b="0" lang="cs-CZ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0" lang="cs-CZ" sz="5700" spc="-1" strike="noStrike">
                <a:solidFill>
                  <a:srgbClr val="ccecff"/>
                </a:solidFill>
                <a:latin typeface="Arial"/>
              </a:rPr>
              <a:t>Václav Havel</a:t>
            </a:r>
            <a:endParaRPr b="0" lang="en-US" sz="5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Vytvořeno dne 28. 3. 2012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333360"/>
            <a:ext cx="381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áclav Havel v ro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2010 při vzpomínkové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akci u pamětní desk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k událoste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17. listopadu 1989 n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árodní třídě v Pra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VH"/>
          <p:cNvPicPr/>
          <p:nvPr/>
        </p:nvPicPr>
        <p:blipFill>
          <a:blip r:embed="rId1"/>
          <a:stretch/>
        </p:blipFill>
        <p:spPr>
          <a:xfrm>
            <a:off x="4067280" y="333360"/>
            <a:ext cx="50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ietní akce k úmrtí Václava Havl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Pietní akce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4. díl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1. vydání. Praha : Parta, 2010. ISBN 9788073201241. s. 5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vydání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lomouc : Rubico, 2007. ISBN 8073460653. s. 242 - 244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šechny uveřejněné odkazy [cit. 2012-03-28] dostupné pod licencí Creative Commons – </a:t>
            </a:r>
            <a:r>
              <a:rPr b="0" lang="cs-CZ" sz="1800" spc="-1" strike="noStrike" u="sng">
                <a:solidFill>
                  <a:srgbClr val="65b2ff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áclav Hav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V%C3%A1clav_Havel_cut_out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áclav Havel při vzpomínkové akc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N%C3%A1rodn%C3%AD_t%C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99%C3%ADda_(2010)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Pietní ak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Pietn%C3%AD_shrom%C3%A1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C5%BEd%C4%9Bn%C3%AD_na_V%C3%A1clavsk%C3%A9m_n%C3%A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m%C4%9Bst%C3%AD_p%C5%99i_p%C5%99%C3%ADle%C5%BEitosti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%C3%BAmrt%C3%AD_V%C3%A1clava_Havla_v_roce_2011_(15)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aeaea"/>
                </a:solidFill>
                <a:latin typeface="Tahoma"/>
              </a:rPr>
              <a:t>č. 7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áclav Hav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znají osobnost Václava Havla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chápat význam událostí v roc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1989 a vítězství demokracie v naší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kladní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907920"/>
            <a:ext cx="4859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Narodil se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5. října 1936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Praze, </a:t>
            </a:r>
            <a:r>
              <a:rPr b="0" lang="cs-CZ" sz="2400" spc="-1" strike="noStrike">
                <a:solidFill>
                  <a:srgbClr val="66ff33"/>
                </a:solidFill>
                <a:latin typeface="Arial"/>
              </a:rPr>
              <a:t>zemřel 18. prosi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Arial"/>
              </a:rPr>
              <a:t>2011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na Hrádečku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9. července 1964 se p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osmileté známosti oženi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 Olgou Šplíchalovou.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Byl to </a:t>
            </a:r>
            <a:r>
              <a:rPr b="1" lang="cs-CZ" sz="2400" spc="-1" strike="noStrike">
                <a:solidFill>
                  <a:srgbClr val="eaeaea"/>
                </a:solidFill>
                <a:latin typeface="Arial"/>
              </a:rPr>
              <a:t>český </a:t>
            </a:r>
            <a:r>
              <a:rPr b="1" lang="cs-CZ" sz="2400" spc="-1" strike="noStrike">
                <a:solidFill>
                  <a:srgbClr val="ff00ff"/>
                </a:solidFill>
                <a:latin typeface="Arial"/>
              </a:rPr>
              <a:t>dramatik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, kritik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komunistického režimu a pozděj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litik. Byl devátým a poslední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prezidentem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Československ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989–1992) a první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rezidentem České republik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993–2003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5080" y="1598400"/>
            <a:ext cx="40370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7" descr="Václav Havel"/>
          <p:cNvPicPr/>
          <p:nvPr/>
        </p:nvPicPr>
        <p:blipFill>
          <a:blip r:embed="rId1"/>
          <a:stretch/>
        </p:blipFill>
        <p:spPr>
          <a:xfrm>
            <a:off x="4500720" y="1052640"/>
            <a:ext cx="464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-316080"/>
            <a:ext cx="822636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ff33"/>
                </a:solidFill>
                <a:latin typeface="Arial"/>
              </a:rPr>
              <a:t>Mládí V. Hav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áclav Havel se narodil v Praze ve známé pražské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dnikatelské rodině Václava M. Havla a jeho manželk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ožen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Jeho bratrem je vědec Ivan M. Have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yl vnukem československého diplomata Hug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avrečk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osvobození Československa v roce 1945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vštěvoval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elitní internátní školu v Poděbradech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spol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s Milošem Formanem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ukončení základní školní docházky měl Václav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Havel v komunistickém režimu kvůli svém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Arial"/>
              </a:rPr>
              <a:t>"buržoaznímu"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původu potíže studovat na střední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škole podle vlastní volb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tudi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 roce 1951 nastoupil do učebního oboru jak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emický laborant 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a na střední škole studoval večerně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Maturitu na gymnázi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ve Štěpánské ulici v Praze složi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roku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1954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Z kádrových důvodů nebyl přijat ani na žádno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Š humanitního zaměření, a proto v letech 1955 – 1957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studoval na </a:t>
            </a:r>
            <a:r>
              <a:rPr b="0" lang="cs-CZ" sz="2800" spc="-1" strike="noStrike">
                <a:solidFill>
                  <a:srgbClr val="66ff33"/>
                </a:solidFill>
                <a:latin typeface="Arial"/>
              </a:rPr>
              <a:t>ekonomické fakultě ČVUT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kusil se přestoupit na filmovou fakultu Akadem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múzických umění, byl však odmítnut a nebyl přijat zpě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 ČV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konec dálkově vystudoval divadelní fakultu </a:t>
            </a:r>
            <a:r>
              <a:rPr b="0" lang="cs-CZ" sz="2800" spc="-1" strike="noStrike">
                <a:solidFill>
                  <a:srgbClr val="ff00ff"/>
                </a:solidFill>
                <a:latin typeface="Arial"/>
              </a:rPr>
              <a:t>Akadem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ff"/>
                </a:solidFill>
                <a:latin typeface="Arial"/>
              </a:rPr>
              <a:t>múzických um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, kterou absolvoval roku 196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Divadelní či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skončení základní vojenské služby (1957–1959) Václav Have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racoval jako 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jevištní technik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nejprve v Divadle ABC a od r. 196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Divadle Na zábradlí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roce 1959 napsal svou první divadelní hru </a:t>
            </a: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Rodinný večer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3. prosince 1963 Divadlo Na zábradlí uvedlo jeho druhou hru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Zahradní slavnost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60. letech zároveň pracoval jako asistent režie Alfréda Radok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Městských divadlech pražských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vystudování </a:t>
            </a:r>
            <a:r>
              <a:rPr b="0" lang="cs-CZ" sz="2400" spc="-1" strike="noStrike">
                <a:solidFill>
                  <a:srgbClr val="ff00ff"/>
                </a:solidFill>
                <a:latin typeface="Arial"/>
              </a:rPr>
              <a:t>Akademie múzických umění 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6 by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dramaturgem divadla Na zábradl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5 se stal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členem redakční rady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literárního měsíčník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Tvář a v Divadle Na zábradlí uvedl hru </a:t>
            </a: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Vyrozuměn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6 vydal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svou první knihu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rotokoly</a:t>
            </a:r>
            <a:r>
              <a:rPr b="0" i="1" lang="cs-C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Disi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době kolem Pražského jara (1968 – 1969) se Václav Have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zapojil do politické diskuse, prosazoval zavedení demokratic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polečnosti a svobod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násilném potlačení demokratických snah a protestů prot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ežimu vojenskou invazí států Varšavské smlouvy měl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ákaz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ublikovat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a stal se jedním z 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disidentů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, kritiků tehdejšíh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normalizačního režimu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ystupoval na obranu politických vězňů a stal s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poluzakladatelem a jedním z prvních mluvčích občans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iniciativy za dodržování lidských práv -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harta 77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To sice upevnilo jeho mezinárodní prestiž, ale také mu vynesl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celkem asi pět let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ězněn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kaz divadelní čin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potlačení Pražského jara musel Václav Have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opustit divadlo a jeho díla se v Československ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řestala vydávat a hrá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yl však již autorem uznávaným i v zahraničí – ji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roku 1968 obdržel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Velkou rakouskou státní cen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evropskou literaturu a dvakrát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New York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íska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cenu Obie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a hry </a:t>
            </a: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Vyrozum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1969) a </a:t>
            </a: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Ztížená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možnost soustřed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1970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To pro něho v následujících dvaceti letech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ormalizace znamenalo jistou finanční nezávislost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dporu světového veřejného mínění, kdykoli by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komunistickým režimem za své názory vězně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áclav Havel jako polit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vypuknutí Sametové revoluce v listopadu 1989 se Václav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avel stal jedním ze spoluzakladatelů protikomunistickéh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nut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bčanské fórum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a jako jeho kandidát by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29. prosince 1989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zvolen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prezidentem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Československa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roce 1992 se mu nepodařilo zabránit rozpadu státu na d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amostatné státy, Českou republiku a Slovenskou republiku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Od roku 1993 byl po dvě funkční období prezidentem Čes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epublik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Jako prezident vyvedl Československo z Varšavské smlouv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. července 1991) a výrazně přispěl ke vstupu nástupnic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České republiky do Severoatlantické aliance (NATO) v r. 1999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avel výrazně prosazoval také přijetí České republiky d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Evropské unie, uskutečněné v roce 2004 po jeho odchod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z funkce preziden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8:03:47Z</dcterms:created>
  <dc:creator>Sbor</dc:creator>
  <dc:description/>
  <dc:language>en-US</dc:language>
  <cp:lastModifiedBy>martina</cp:lastModifiedBy>
  <dcterms:modified xsi:type="dcterms:W3CDTF">2013-06-09T07:20:18Z</dcterms:modified>
  <cp:revision>15</cp:revision>
  <dc:subject/>
  <dc:title>Václav Havel</dc:title>
</cp:coreProperties>
</file>