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737-4EF8-4981-81BE-183578FA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CF4-3C68-49E4-8220-CA09CAB4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8E5-5FAF-49E2-AB1E-26BE4358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B58-4A6F-4A39-A6DD-6BD181ED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CBE-A49A-4A2B-B5B4-755A081F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195-218C-4663-B8A1-2F412E22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134-801D-44F8-8819-870E524B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B90-72CA-43BE-8567-981C16C8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66D-1F89-483A-A9A1-978A5942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049-1458-4697-9EA5-FC202979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3A2-D147-400F-B583-A1113F6F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1C6-F3D3-4B51-B847-B5DC0632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41DA-0444-475C-AA0E-660E1EEEF25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1" lang="cs-CZ" sz="5400" spc="-1" strike="noStrike">
                <a:solidFill>
                  <a:srgbClr val="e5ffff"/>
                </a:solidFill>
                <a:latin typeface="Tahoma"/>
              </a:rPr>
              <a:t>Tomáš Garrigue Masaryk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5. 10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189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ahoma"/>
              </a:rPr>
              <a:t>Jízda na koni patřila 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ahoma"/>
              </a:rPr>
              <a:t>k jeho velkým zálibá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826920" y="1268280"/>
          <a:ext cx="749016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49016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Ü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Dějepis pro 2. stupeň z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kladn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š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koly praktick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. d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l. 1. vyd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raha : Parta, 2010. ISBN 9788073201241. s. 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ffff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7920" y="1407600"/>
            <a:ext cx="896472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šechny uveřejněné odkazy [cit. 2012-10-05] dostupné pod licencí Creative Commons – </a:t>
            </a:r>
            <a:r>
              <a:rPr b="0" lang="cs-CZ" sz="16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omáš Garrigue Masary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om%C3%A1%C5%A1_Garrigue_Masaryk_1925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dp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._G._Masaryk_Signature.sv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GM na kon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Bundesarchiv_Bild_102-11965,_Karlsbad,_Pr%C3%A4sident_Thomas_G._Masaryk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GM vystupuje z vlak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GM_Tabor_21.12.1918_3462a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2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máš Garrigue Masar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 seznámí s prvním prezidentem - T. G. Masaryk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mít základní poznatky o vzniku samostatné Československé republ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79280" y="189000"/>
          <a:ext cx="453708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45370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 txBox="1"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TG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arozen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7. března 1850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donín, Rakouské císař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emřel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4. září 1937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87 let) Lány, ČS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oť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harlotte Garri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dič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osef a Terez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ě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ice, Herbert, Jan, Eleanor, Olg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zděl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niverzita Víde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ahoma"/>
              </a:rPr>
              <a:t>Čím byl T. G. Masaryk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f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kovář, zámečník, učitel, vědec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aměst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politik, spisovatel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ilosof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státník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ezident republ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poslanec rakouské říšské ra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univerzitní  profe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9999"/>
                </a:solidFill>
                <a:latin typeface="Tahoma"/>
              </a:rPr>
              <a:t>Tomáš Garrigue Masary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1850 - 193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Tatíček Masaryk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tak ho lidé nazýval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 to prezident osvoboditel, otec li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vyjadřovali mu tak velkou úctu i lásk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ccff"/>
                </a:solidFill>
                <a:latin typeface="Tahoma"/>
              </a:rPr>
              <a:t>TGM jako prezid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V roce 1918 se st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prvním prezidentem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Československa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označen z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ezidenta Osvoboditel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zákon č. 232/1935 Sb. z. a n., z 21. prosince 1935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 k 80. narozeninám byl přija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zv. </a:t>
            </a:r>
            <a:r>
              <a:rPr b="1" lang="cs-CZ" sz="2800" spc="-1" strike="noStrike">
                <a:solidFill>
                  <a:srgbClr val="ff9999"/>
                </a:solidFill>
                <a:latin typeface="Arial"/>
              </a:rPr>
              <a:t>Lex Masary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obsahující větu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1" i="1" lang="cs-CZ" sz="2800" spc="-1" strike="noStrike">
                <a:solidFill>
                  <a:srgbClr val="ffcc00"/>
                </a:solidFill>
                <a:latin typeface="Arial"/>
              </a:rPr>
              <a:t>Tomáš Garrigue Masaryk zasloužil se o stát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. G. Masaryk byl 17x navržen na Nobelovu cenu mír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GM byl moudrým státníkem, spisovatel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é si ho velmi vážili pro jeho skromn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olné chvíle trávil rád na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rezidentské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zámku v Lánech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nedaleko Prah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odil zde po parku, nikdy neměnil směr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asu své vycház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ilně pracoval a uměl si vážit práce druhý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ahoma"/>
              </a:rPr>
              <a:t>TGM s dcerou Olgou 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ahoma"/>
              </a:rPr>
              <a:t>vystupuje z vlaku v Táboř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2195640" y="1341360"/>
          <a:ext cx="504036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341360"/>
                    <a:ext cx="504036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ahoma"/>
              </a:rPr>
              <a:t>Podpis TG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9" descr="264px-T__G__Masaryk_Signature_svg"/>
          <p:cNvPicPr/>
          <p:nvPr/>
        </p:nvPicPr>
        <p:blipFill>
          <a:blip r:embed="rId1"/>
          <a:stretch/>
        </p:blipFill>
        <p:spPr>
          <a:xfrm>
            <a:off x="468360" y="1916280"/>
            <a:ext cx="82072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9:30:36Z</dcterms:created>
  <dc:creator>Hana Zimová</dc:creator>
  <dc:description/>
  <dc:language>en-US</dc:language>
  <cp:lastModifiedBy>martina</cp:lastModifiedBy>
  <dcterms:modified xsi:type="dcterms:W3CDTF">2013-06-09T07:33:05Z</dcterms:modified>
  <cp:revision>26</cp:revision>
  <dc:subject/>
  <dc:title>  Tomáš Garrigue Masaryk</dc:title>
</cp:coreProperties>
</file>