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EE2-BDBE-4ECF-A628-1087679E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ECC-82AA-4EC9-905B-EEA1064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F3B-0B10-4A56-8C2A-B9D0EC39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4B8-240C-4AD9-AB96-F448799E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D81F-E88E-450E-8384-9C14B31C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A81C-30BA-4647-BC16-D3C12640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D4C-D2BB-425D-ACE1-69CDE51C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DE29-28B7-4A3E-980A-B2A24FF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B7EE-D29B-4B76-A8B0-50BB73F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18C9-33E3-4D46-80F1-E823731F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1F10-5D4A-475A-8BCD-E1A7F6A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6EE-DF77-4307-96FF-55E7D940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DB03-2349-4FDB-A359-49BCDA7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6C53-506E-4249-A2E1-DC58C69E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1E46-EC74-40FE-9D02-6F6984AA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65A-2431-40FB-821D-D1630935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CE38-D84B-4C87-BBC6-DF53B388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1A3-71E5-47EC-89D9-B78631E3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B05-41A9-486F-9167-71D40B7D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35D-D947-40DB-B542-974FA72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C56-6618-4946-9F0C-3D8A2CAB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0DD-A868-41DD-A4F2-C4DB5A8E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E60-B2B5-4A91-BDF4-B247A77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A6D-D040-4F9C-97F3-3DC87B2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D0A-BF67-4720-84D5-06486B2CF65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664-4E95-4F11-8E2C-904C092E048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Vliv náboženství  na chápání světa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2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liv náboženství  na chápání svě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rozlišují pozitivní a negativní důsledky zámořských objev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ff00"/>
                </a:solidFill>
                <a:latin typeface="Arial"/>
              </a:rPr>
              <a:t>Zámořské objev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2. poloviny 15. stol. se evropské země snažily objevit přímou námořní cestu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do Indie a dalších východních zem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váželo se odtud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lato, koření a jiné vzácné surovi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sty po souši byly nebezpečné kvůli Turkům, kteří přepadali karav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nže Evropané se báli Atlantiku, protože se tradovalo, že je tam konec světa, obývaný příšerami, jako byli draci, obří chobotnice, hadi a ryby s hlavami Turků. Proto hledali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sty přes Středozemní moř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panělské loďstv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en z nejdůležitějších zámořských objevů 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ařil španělskému loďstv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řský mořeplavec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Kryštof Kolumbu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ed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panělské lodě do Indie západním směr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 mnohadenní plavbě se dostali k břehů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známého světadílu, který byl později nazv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Ameriko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A protože se domnívali, že dopluli d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die, nazvali místní obyvatele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indiány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ovoz plodi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Ameriky do Evropy přivezli nové plodin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brambory, rajčata, pálivé papriky a tabá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Ameriky se vypravovalo stále více dobyvatelů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teří původní </a:t>
            </a:r>
            <a:r>
              <a:rPr b="0" lang="cs-CZ" sz="3200" spc="-1" strike="noStrike">
                <a:solidFill>
                  <a:srgbClr val="ffff00"/>
                </a:solidFill>
                <a:latin typeface="Tahoma"/>
              </a:rPr>
              <a:t>obyvatele zotročil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a zničili jej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u. Oběťmi se staly nádherné říše kmen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ztéků a Ink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jevení Ameriky mělo velký vliv na rozvo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vropského bohatství a poznávání okolního svě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sty kolem světa byly důkazem toho, ž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Země je kulatá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Španělé bijí indiány – mučili je, upaloval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468360" y="1484280"/>
          <a:ext cx="828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8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Bičování otro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1619280" y="1808280"/>
          <a:ext cx="568944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08280"/>
                    <a:ext cx="568944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8 - 9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5 – 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Španělé bijí indián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Cortez-montezuma-mexico-city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Bičování otro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Otroci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4:53Z</dcterms:created>
  <dc:creator>Hana Zimová</dc:creator>
  <dc:description/>
  <dc:language>en-US</dc:language>
  <cp:lastModifiedBy>martina</cp:lastModifiedBy>
  <dcterms:modified xsi:type="dcterms:W3CDTF">2013-06-09T07:24:57Z</dcterms:modified>
  <cp:revision>15</cp:revision>
  <dc:subject/>
  <dc:title>Vliv náboženství  na chápání světa</dc:title>
</cp:coreProperties>
</file>