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78CF-FB49-46E1-85B7-491332F0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E0A6-F055-4781-A95A-A34519C2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4FD6-A734-429B-8AAD-6AE4CEE6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015B-DACC-44B3-A6B1-84310CCD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9A80-6FFB-4462-9748-A54BA806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F84A-5CA5-4861-B56C-5F97604D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79A6-C1B8-42AF-9923-44C062B4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446C-A0D6-4E56-9A50-C757400A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744E-8438-4BBF-9FEA-B51AA184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B8B6-6947-4083-8BBF-38AADC55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7BD6-26A0-45CD-B1B7-5BEE5B23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6B15-222A-48C6-86E8-6DF86080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87E0-3FE2-49E6-8E42-85158062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DE6D-7F73-4DEB-94EA-4F59A524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18A7-CC07-4EE1-A097-EAA9F97B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A609-C258-4222-8AA9-0DC06126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9834-3D8C-418B-B589-96B2645F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D79D-C265-4625-858B-682E9A4E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03E0-9AD2-4215-BE4E-7573C64B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A541-134A-479A-A8C3-6EC368E9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638D-97F5-45E1-ABAF-69050E24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DC31-E57A-42BA-8B1E-7C6E1900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0C31-1091-460E-BBDD-32E1A6B9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F556-6FEE-4770-BAD5-84076EE2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8CCD-B84E-4068-AC2A-8E34C5ED83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CC84-B1D7-4A6D-84E0-3E990CFA9AF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Únor 1948 - převrat</a:t>
            </a:r>
            <a:endParaRPr b="0" lang="en-US" sz="5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5. 2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19280" y="476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Ekonomická a politická kriz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cs-CZ" sz="3200" spc="-1" strike="noStrike">
                <a:solidFill>
                  <a:srgbClr val="66ff99"/>
                </a:solidFill>
                <a:latin typeface="Arial"/>
              </a:rPr>
              <a:t>politickým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blémům se přidaly i problémy 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ekonomick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Republika měla málo surovin, pracovních sil, ceny rostly, klesla zemědělská výroba, průmysl zaostá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ši ekonomové proto přijali pozvání na konferenci do Paříže v červenci 1947, kde se jednalo  o americké pomoci Evropě – tzv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Marshallův plá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li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šak naší republice tuto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moc zakáza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ČSR jeho nátlaku podleh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Ohrožená demokrac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blížícím se rokem 1948 ostatní strany pochopily, že KSČ chce převzít veškerou moc ve státě, protože všechna důležitá místa byla postupně obsazena komunisty oddaných Gottwaldov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unisté využili nepokojů proti ostatním politickým stranám a přesvědčily většinu lidí, že když se stát zbaví továrníků a statkářů, bude se jim žít lé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věřili heslu: „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Když bude vše patřit dělníkům a rolníkům, nebude bíd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Arial"/>
              </a:rPr>
              <a:t>Únor 1948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ezident Beneš ustoupil tlaku komunistů, aby zabránil krveprolití, a </a:t>
            </a:r>
            <a:r>
              <a:rPr b="1" lang="cs-CZ" sz="3600" spc="-1" strike="noStrike">
                <a:solidFill>
                  <a:srgbClr val="ffff66"/>
                </a:solidFill>
                <a:latin typeface="Arial"/>
              </a:rPr>
              <a:t>25. února 1948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 přijal demisi nekomunistických ministr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ak byla v Československu </a:t>
            </a:r>
            <a:r>
              <a:rPr b="1" i="1" lang="cs-CZ" sz="3600" spc="-1" strike="noStrike">
                <a:solidFill>
                  <a:srgbClr val="66ff99"/>
                </a:solidFill>
                <a:latin typeface="Arial"/>
              </a:rPr>
              <a:t>nastolena TOTALI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= nedemokratická 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emise = odstoupení ze svého úř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Edvard Beneš </a:t>
            </a:r>
            <a:br>
              <a:rPr sz="4000"/>
            </a:br>
            <a:r>
              <a:rPr b="0" lang="cs-CZ" sz="2800" spc="-1" strike="noStrike">
                <a:solidFill>
                  <a:srgbClr val="dfdef6"/>
                </a:solidFill>
                <a:latin typeface="Arial"/>
              </a:rPr>
              <a:t>(28. května 1884 – 3. září 1948) a s manželkou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2" name="Object 3"/>
          <p:cNvGraphicFramePr/>
          <p:nvPr/>
        </p:nvGraphicFramePr>
        <p:xfrm>
          <a:off x="4643280" y="1341360"/>
          <a:ext cx="42498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341360"/>
                    <a:ext cx="42498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7"/>
          <p:cNvGraphicFramePr/>
          <p:nvPr/>
        </p:nvGraphicFramePr>
        <p:xfrm>
          <a:off x="423720" y="1557360"/>
          <a:ext cx="354996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720" y="1557360"/>
                    <a:ext cx="354996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Slovníče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66"/>
                </a:solidFill>
                <a:latin typeface="Arial"/>
              </a:rPr>
              <a:t>Co znamená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Znárodně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Demi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Totali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Odpověď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Znárodnění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vedení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ukromého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jetku do státního vlastnictv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Demise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 odstoupení ze svého úř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Totali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= nedemokratická moc nastolená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¨                        komunis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díl. 1. vydání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ISBN 9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78807320124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s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6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226 - 23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šechny uveřejněné odkazy [cit. 2012-02-15] dostupné pod licencí Creative Commons – 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http://wikim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imberský 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Nuremberg-1-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ůvod Maďarsk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Bundesarchiv_Bild_183-R90009,_Budapest,_II._Weltfestspiele,_Festumzug,_tschechische_Delegation_(cropped)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Edvard Bene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Edvard_Bene%C5%A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Edvard Beneš s manželk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Edvard_Benes_with_his_wife_in_1934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65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3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1700280"/>
          <a:ext cx="8785440" cy="40608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nor 1948 - převr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návaj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í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oválečný vývoj státu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znát průběh a důsledky 2. světové války a nový politický a hospodářský vývoj v Evrop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66"/>
                </a:solidFill>
                <a:latin typeface="Arial"/>
              </a:rPr>
              <a:t>Situace po 2. SV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2. světové válce Čechy i Slováky nejvíce zajímala jejich společná budoucnost. Během druhé světové války zemřely tisíce lidí, i škody na majetku byly obrovské. Vedle toho bylo nutné vyřešit státní uspořádání a politický systé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bíhala „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árodní očis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“, která měla zajistit potrestání nacistických zločinců, zrádců a spolupracovníků s fašisty, byly rozděleny pozemky a majetky odsunutých Němců a zrádc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Norimberský proces</a:t>
            </a: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 – potrestání válečných zločinců 1945 - 1946 </a:t>
            </a:r>
            <a:br>
              <a:rPr sz="4000"/>
            </a:br>
            <a:r>
              <a:rPr b="0" lang="cs-CZ" sz="3600" spc="-1" strike="noStrike">
                <a:solidFill>
                  <a:srgbClr val="dfdef6"/>
                </a:solidFill>
                <a:latin typeface="Arial"/>
              </a:rPr>
              <a:t>tresty: od 10 let až do doživotí a trest smrti</a:t>
            </a:r>
            <a:br>
              <a:rPr sz="3600"/>
            </a:br>
            <a:r>
              <a:rPr b="0" lang="cs-CZ" sz="3600" spc="-1" strike="noStrike">
                <a:solidFill>
                  <a:srgbClr val="dfdef6"/>
                </a:solidFill>
                <a:latin typeface="Arial"/>
              </a:rPr>
              <a:t>(Göring, Hess a další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755640" y="2421000"/>
          <a:ext cx="7632720" cy="44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421000"/>
                    <a:ext cx="763272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Národní fron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9396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veškerém dění v poválečném Československ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 podílely politické strany, které byly sdružen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i="1" lang="cs-CZ" sz="3200" spc="-1" strike="noStrike">
                <a:solidFill>
                  <a:srgbClr val="ff0066"/>
                </a:solidFill>
                <a:latin typeface="Arial"/>
              </a:rPr>
              <a:t>Národní frontě Čechů a Slováků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Mimo n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byly povoleny žádné jiné politické stran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cs-CZ" sz="3600" spc="-1" strike="noStrike">
                <a:solidFill>
                  <a:srgbClr val="33cc33"/>
                </a:solidFill>
                <a:latin typeface="Arial"/>
              </a:rPr>
              <a:t>Strany v Národní front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66"/>
                </a:solidFill>
                <a:latin typeface="Arial"/>
              </a:rPr>
              <a:t>Komunistická strana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Nár.socialistická str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ociálně demokratická strana   </a:t>
            </a:r>
            <a:r>
              <a:rPr b="1" lang="cs-CZ" sz="3200" spc="-1" strike="noStrike">
                <a:solidFill>
                  <a:srgbClr val="99ff99"/>
                </a:solidFill>
                <a:latin typeface="Arial"/>
              </a:rPr>
              <a:t>Lidová str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cs-CZ" sz="3200" spc="-1" strike="noStrike">
                <a:solidFill>
                  <a:srgbClr val="ff3399"/>
                </a:solidFill>
                <a:latin typeface="Arial"/>
              </a:rPr>
              <a:t>Slovenská demokratická str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Poválečné hospodářstv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99"/>
                </a:solidFill>
                <a:latin typeface="Arial"/>
              </a:rPr>
              <a:t>Znárodn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jetek (půda, domy …) Němců, zrádců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laborantů, dále soukromý hospodářský majet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 převeden do státního vlastnictv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 byl </a:t>
            </a:r>
            <a:r>
              <a:rPr b="1" i="1" lang="cs-CZ" sz="3600" spc="-1" strike="noStrike">
                <a:solidFill>
                  <a:srgbClr val="ffffff"/>
                </a:solidFill>
                <a:latin typeface="Arial"/>
              </a:rPr>
              <a:t>znárodně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cc33"/>
                </a:solidFill>
                <a:latin typeface="Arial"/>
              </a:rPr>
              <a:t>Systém plánovaného hospodářst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ěl vést k rychlé obnově válkou zničené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spodářství, nadále existovaly i soukromý sek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řemeslná výrob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Volby 1946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květnu 1946 proběhly v ČSR 1. demokratick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rlamentní volby, kterých se účastnily všech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rany Národní fron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vítězila v nich </a:t>
            </a:r>
            <a:r>
              <a:rPr b="1" lang="cs-CZ" sz="3200" spc="-1" strike="noStrike">
                <a:solidFill>
                  <a:srgbClr val="ff0066"/>
                </a:solidFill>
                <a:latin typeface="Arial"/>
              </a:rPr>
              <a:t>Komunistická stra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66"/>
                </a:solidFill>
                <a:latin typeface="Arial"/>
              </a:rPr>
              <a:t>Českoslovens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získala 38 % hlas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Prezident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byl opět zvolen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Edvard Bene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stavením vlády byl pověřen nově zvolen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předseda vlá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99ff99"/>
                </a:solidFill>
                <a:latin typeface="Arial"/>
              </a:rPr>
              <a:t>Klement Gottwal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Průvod v Maďarsku - portréty Gottwalda a Stalina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1" name="Object 3"/>
          <p:cNvGraphicFramePr/>
          <p:nvPr/>
        </p:nvGraphicFramePr>
        <p:xfrm>
          <a:off x="468360" y="1600200"/>
          <a:ext cx="81360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1360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Vliv Sovětského svaz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Československu po volbách 1946 začala síl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oc KSČ a s ní i vliv Stalina, který čím dál tí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íc ovlivňoval dění v zemích osvobozený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v. svazem na konci 2. SV. Chtěl, a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těchto zemích byla nastolena vláda bolševik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oupalo napětí mezi politickými stranami v N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y pochopily, že KSČ chce převzít vešker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oc, začaly se proto bouř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38:01Z</dcterms:created>
  <dc:creator>Hana Zimová</dc:creator>
  <dc:description/>
  <dc:language>en-US</dc:language>
  <cp:lastModifiedBy>martina</cp:lastModifiedBy>
  <dcterms:modified xsi:type="dcterms:W3CDTF">2013-06-09T07:16:30Z</dcterms:modified>
  <cp:revision>10</cp:revision>
  <dc:subject/>
  <dc:title>  Únor 1948 - převrat</dc:title>
</cp:coreProperties>
</file>