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3C9-34A4-4C7D-B693-FB3C9B63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7CE-DB36-405B-A8FD-10CF9555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C4D-90D4-4B93-B36E-C0F985E2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4C4-A7BD-4962-BA26-7124AE8E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3FF-AF6B-4F14-BC79-27BFACDF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372-2F14-4595-9D82-56244927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A12-0813-45D3-B380-CA931B9F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C86-70FC-49D0-94FB-2F80EE2E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FD0-6CC8-4242-BF01-DA180281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F53-FFE0-4A3E-A42F-5D34540B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C6D-8142-4FEE-BD28-A2EF2B1A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2DE-E1E6-4071-AEF9-C7979A18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D944-01A8-4440-8AB6-2B70B950F3D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Edvard_Bene&#353;_podpis.jpg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207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cs-CZ" sz="5400" spc="-1" strike="noStrike">
                <a:solidFill>
                  <a:srgbClr val="e5ffff"/>
                </a:solidFill>
                <a:latin typeface="Tahoma"/>
              </a:rPr>
              <a:t>Edvard Beneš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6. 10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835280" y="333360"/>
            <a:ext cx="575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324000" y="333360"/>
          <a:ext cx="4968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4968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 txBox="1"/>
          <p:nvPr/>
        </p:nvSpPr>
        <p:spPr>
          <a:xfrm>
            <a:off x="5580000" y="2349000"/>
            <a:ext cx="3106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E. Beneš běh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návštěv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brněnské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četnictv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v r. 193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Po vál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jaře 1945 Beneš odcestoval přes Moskvu 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svobozené území čs. republik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V dubnu 1945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e slovenských Košicí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menoval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první poválečnou vlád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6. května přijel do Prah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28. října 1945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byl potvrzen ve funkc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prezidenta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 následně byl </a:t>
            </a:r>
            <a:r>
              <a:rPr b="0" lang="cs-CZ" sz="3200" spc="-1" strike="noStrike">
                <a:solidFill>
                  <a:srgbClr val="ffcc00"/>
                </a:solidFill>
                <a:latin typeface="Tahoma"/>
              </a:rPr>
              <a:t>znovu zvol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Tahoma"/>
              </a:rPr>
              <a:t>19. června 1946</a:t>
            </a:r>
            <a:r>
              <a:rPr b="0" lang="cs-CZ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Odstoupení z funkce prezidenta, úmrtí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květnu 1948 se prezident pokusil vzepří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unistům, když odmítl podepsat novo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eskoslovenskou ústav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ěsíc poté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7. června1948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odstoupil z úřa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preziden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jeho nástupcem se pak stal Kl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Gottwa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nedlouho 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3. září roku 1948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Edvard Bene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zemře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 Sezimově Úst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8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4. dí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1. vydání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aha : Parta, 2010. ISBN 9788073201241. s. 2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ffff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Všechny uveřejněné odkazy [cit. 2012-10-16] dostupné pod licencí Creative Commons – 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dvard Bene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Edvard_Bene%C5%A1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dp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Edvard_Bene%C5%A1_podpis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. Beneš s manželkou 193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Edvard_Benes_with_his_wife_in_1934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. Beneš během návštěvy brněnského četnictva 19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Edvard_Bene%C5%A1_na_n%C3%A1v%C5%A1t%C4%9Bv%C4%9B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65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4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1773360"/>
          <a:ext cx="8785440" cy="5157720"/>
        </p:xfrm>
        <a:graphic>
          <a:graphicData uri="http://schemas.openxmlformats.org/drawingml/2006/table">
            <a:tbl>
              <a:tblPr/>
              <a:tblGrid>
                <a:gridCol w="3456000"/>
                <a:gridCol w="532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. Edvard Bene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Žáci si vybaví základní poznatky o vzniku československého stá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Ž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 ukáží protektorát Čechy a Morava, Slovenský stá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ZV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Člověk a společnost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D - mít základní poznatky o vzniku samostatné Československé republ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- znát průběh a důsledky 2. světové války a nový  politický a hospodářský vývoj v Evrop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Dr. Edvard Beneš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907920"/>
            <a:ext cx="4680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Narodil se 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28. 5. 18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v Kožlanech, Rak. - U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Zemřel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 3. září 19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v Sezimově Ústí, ČS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Vzdělání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FF Univerzity Karlov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Praha, Sorbonna Fran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7" descr="Beneš"/>
          <p:cNvPicPr/>
          <p:nvPr/>
        </p:nvPicPr>
        <p:blipFill>
          <a:blip r:embed="rId2"/>
          <a:stretch/>
        </p:blipFill>
        <p:spPr>
          <a:xfrm>
            <a:off x="4500720" y="836640"/>
            <a:ext cx="4467240" cy="570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179280" y="4724280"/>
          <a:ext cx="504684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724280"/>
                    <a:ext cx="504684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"/>
              </a:rPr>
              <a:t>Životopis a studia Edvarda Beneš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Edvard Beneš se narodil v Kožlanech na Rakovnic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jako Eduard, nejmladší syn (10. dítě) rolníka Matě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Beneše a jeho manželky Anny Petronily, roz. Benešové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 mládí studoval nejprve na gymnáziu v Praze, p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maturitě na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Filozofické fakultě pražské Univerz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Karlo - Ferdinandovy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Od roku 1904 studoval ve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Francii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na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Sorbonně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Svobodné škole politických nauk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(Ecole libre d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ciences politiques), v roce 1907 v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Berlíně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 Paříži se r. 1906 zasnoubil se svou pozdější žen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a změnil si křestní jméno z Eduarda na Edvar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Francouzská studia Edvard Beneš završil roku 1908 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Právnické fakultě v Dijonu doktorskou prací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 roce 1909 pak v Praze složil rigorózní zkoušky 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získal titul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doktora filosofie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Tři roky vyučoval na obchodní akademii v Praze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oučasně zkoušel studovat práva (nejprve na české, p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na německé právnické fakultě), studia však nedokonči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Od roku 1912 přednášel jako docent na Filozofick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fakultě Univerzity Karlo-Ferdinandov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324000" y="476280"/>
          <a:ext cx="518472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76280"/>
                    <a:ext cx="518472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5580000" y="2492280"/>
            <a:ext cx="35640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Edvard Beneš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s manželk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v roce 19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Arial"/>
              </a:rPr>
              <a:t>Založení čs. legi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Společně se Štefánikem získal souhlas dohodo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vých mocností se zakládáním československý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vojenských jednotek a přispěl tak ke vzni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samostatných legií ve Francii, Rusku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Itálii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, které se úspěšně zapojily do bojů pr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světové válk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Funk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vyhlášení svrchovanosti Československé republi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28. října roku 191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yl jmenován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ministr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zahraničí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 vládě K. Kramář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letech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21–1922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zastával Edvard Beneš funk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předsedy vlád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by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lancem parlament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členem a místopředsedou Čs. strany národn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ocialistick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 významně ovlivňoval její politik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odstoupení T. G. Masaryka by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volen 18. prosi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35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prezidente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Arial"/>
              </a:rPr>
              <a:t>Po Mnichov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Po přijetí mnichovského diktátu 5. října 1938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odstoupil a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22. října 1938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odletěl nejdříve do Velk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Británie, později do Spojených států amerických, k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přednášel na univerzitě v Chicag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Po okupaci Československa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a vyhláše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Slovenského státu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v březnu 1939 přesídlil 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Londýna a zaslal protest proti německé okupaci Če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a Moravy vládám hlavních světových mocnost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tal se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vůdčím představitel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čs. zahraničního odboj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0:52:06Z</dcterms:created>
  <dc:creator>Hana Zimová</dc:creator>
  <dc:description/>
  <dc:language>en-US</dc:language>
  <cp:lastModifiedBy>martina</cp:lastModifiedBy>
  <dcterms:modified xsi:type="dcterms:W3CDTF">2013-06-09T07:34:37Z</dcterms:modified>
  <cp:revision>25</cp:revision>
  <dc:subject/>
  <dc:title> Edvard Beneš</dc:title>
</cp:coreProperties>
</file>