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F0F-372F-44CB-A03B-AB21490E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482-CA39-407F-8924-A617D140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196-77DB-4F26-A833-6246E3AA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DEC-C64C-4D18-9563-3268C6AB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32C-3571-482D-BA34-D2CCEC6E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E7A9-A305-4584-AC26-612197F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95D-2E35-4575-94F9-801F19E2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4998-3404-43D6-A114-41D9D6C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34A-CB8F-443C-849A-A571AB2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53B7-6857-444D-8AC1-E1369F42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9830-42CD-485E-9926-AAD0F6BA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0BA-64B9-4ED1-AF84-FA35D3A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7D5-02D1-4AB5-9681-29A39B5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CC00-A92E-4062-9232-E064D9B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7522-5FC9-4384-8A8E-64D9DE33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49E6-1757-4E70-B68C-84F7095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D9EA-6DF9-4869-A6F7-143B8E36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033-517F-4130-9EAF-AF91E97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929-E103-4349-8602-9768C4C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847-444A-40A1-BAB8-16A35BCF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67E-4F18-4411-941F-58F50CFA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F2A-1BD2-460F-ADDF-96F2738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015-5BC8-4001-BF5B-8C1531D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D16-76DC-42CB-A32E-7183B454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0BC-85A1-4560-9CE2-D0D769DF5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8E55-D474-4CCD-B26F-357146A0086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Rok 1989 – sametová revoluce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7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Konec komunis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„</a:t>
            </a: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amětní deska na Albertov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539640" y="1484280"/>
          <a:ext cx="8064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064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Gustáv Husák odstoupil a na jeho místo by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Václav Havel k 20. výročí revolu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Václav Havel k 20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imes New Roman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60 - 6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42 - 24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7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ribuna na Václav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89_-_Wenceslas_Monument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Demonstranti na Staroměst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_1989_-_Old_Town_Square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amětní deska na Albertov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Albertov_deska_(01)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áclav Havel k 20. výročí revolu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V%C3%A1clav_Havel_na_V%C3%A1clavsk%C3%A9m_n%C3%A1m%C4%9Bst%C3%AD_17._listopadu_2009c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6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5510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ok 1989 – sametová revolu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chápou události roku 198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19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Times New Roman"/>
              </a:rPr>
              <a:t>Charta 77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tšina československých občanů odsuzovala sovětskou okupa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nesouhlasila s totalitním režimem u ná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álokdo však našel odvahu vystoupit proti ně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 1977 vydala skupina občanů prohlášení tz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hartu 1977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žadovali svobodu a spravedlnost pro všechny, dodržování lidských prá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u z hlavních postav byl 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ituace před rokem 1989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ílem Charty bylo poukazovat na bezpráví, i na problémy v hospodářstv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noho z chartistů bylo pronásledováno a vězně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ůj odpor k režimu vyjadřovali také písničkáři na koncertech, herci v divadlech, byly tajně vydávány knihy zakázaných spisovatel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le více lidí se scházelo a protestovalo proti režimu při různých příležitostech, jako např. okupace sovětskými vojsky, upálení Jana Pala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monstrace byly potlačovány sil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ád komunistického reži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rvnu 1989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dě zasáhli proti studentské manifestaci k výročí úmrt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na Opletal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ametov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pomínkové shromáždění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řerostlo v </a:t>
            </a: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ti komunistickému reži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8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Tribuna na Václavském náměst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24000" y="1557360"/>
          <a:ext cx="84247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Demonstranti na Staroměstském náměst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539640" y="1628640"/>
          <a:ext cx="806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06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Občanské fór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áclavem Hav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51:28Z</dcterms:created>
  <dc:creator>Hana Zimová</dc:creator>
  <dc:description/>
  <dc:language>en-US</dc:language>
  <cp:lastModifiedBy>martina</cp:lastModifiedBy>
  <dcterms:modified xsi:type="dcterms:W3CDTF">2013-06-09T07:19:32Z</dcterms:modified>
  <cp:revision>25</cp:revision>
  <dc:subject/>
  <dc:title>Rok 1989 – sametová revoluce</dc:title>
</cp:coreProperties>
</file>