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7A1-EA7E-465D-AB8F-A3C303BB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C94-9BE1-483A-9123-D9BCD337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451-AFAB-40F0-A72E-3FAB2999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9DA-1249-4F13-A58F-3CDB8A47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15F6-0A9C-4370-B030-9A7F35FE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66CF-E46C-403E-8074-CC24A340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520A-2528-4BC9-912D-C1B59B05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EF24-5371-49C9-8308-42671DF7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2066-E951-4053-81F7-8D9ABE9E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77FA-BF1E-40AE-8650-BED5EB5D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BF1F-D6A4-4F96-8232-A1544E1D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09C-BDD9-491E-9BBD-0878DAA6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4DDE-F51A-496D-AE5F-82BFF13A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3660-E6D9-40A5-943A-362D6B1A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6493-A042-4C94-B508-6E80CFCB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BAA9-D832-48E1-B76F-62F932AD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CFA1-26AE-4602-8D75-49BC8BBF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728-785D-4B16-9B76-1073797B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281-7919-497B-8F6A-DB22B19D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559-9C34-4107-8B56-F95E550C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2C6-0DC5-4D2E-8D2E-8EB03D9D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AB1-590B-47D4-95BF-0390908C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F98-A467-40AD-BC13-D54FC249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0DF-71D7-4A2D-8EAF-92DA235E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B0A0-B7F0-46CC-8132-F45ABD9DB3A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A328-A043-4EAC-8D84-2483247A677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St&#345;edov&#283;k&#253;_trh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ffffb7"/>
                </a:solidFill>
                <a:latin typeface="Arial"/>
              </a:rPr>
              <a:t>Počátek novověku</a:t>
            </a:r>
            <a:endParaRPr b="1" lang="en-US" sz="5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4. 4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04] dostupné pod licencí Creative Commons – </a:t>
            </a:r>
            <a:r>
              <a:rPr b="0" lang="cs-CZ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Středověký tr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commons.wikimedia.org/wiki/File:St%C5%99edov%C4%9Bk%C3%BD_trh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11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očátek novově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ají příčiny a důsledky objevných ce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Poznávání svě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ký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var má Země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ějiny lidstva jsou už odpradávna doprováze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ůznými vymyšlenými příběhy  o stvoření svě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idé si Zemi představovali různě – jako placku, ja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očeného hada a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ázor církve na stvoření svět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řídání dne a noci dle nich stvoři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ůh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dyž řekl: „Bu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větlo!“ Potom shromáždil vodu do moře a stvořil tráv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stliny a stromy, na kterých roste ovoce. Bůh stvoř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unce, měsíc, hvězdy. Pak stvořil zvířata a nakonec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člověk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ý měl panovat nad všemi tvory. Pak Bů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hlédl na vše, co stvořil za 6 dní a 7. den odpočí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391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b7"/>
                </a:solidFill>
                <a:latin typeface="Arial"/>
              </a:rPr>
              <a:t>Mýty a legend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sou to </a:t>
            </a:r>
            <a:r>
              <a:rPr b="1" lang="cs-CZ" sz="3200" spc="-1" strike="noStrike">
                <a:solidFill>
                  <a:srgbClr val="ff99ff"/>
                </a:solidFill>
                <a:latin typeface="Arial"/>
              </a:rPr>
              <a:t>příběhy z dávných dob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teré jsou částečně nebo úplně vymyšlen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yto představy se začaly měnit až s rozvojem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jevování vzdálených kraj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chod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e 14. a 15. století, kdy cestující pluli po moři a cestovali po souš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Italští obchodní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Evropě se rozvíjel </a:t>
            </a:r>
            <a:r>
              <a:rPr b="1" lang="cs-CZ" sz="3200" spc="-1" strike="noStrike">
                <a:solidFill>
                  <a:srgbClr val="33ccff"/>
                </a:solidFill>
                <a:latin typeface="Arial"/>
              </a:rPr>
              <a:t>námořní obch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řemeslná výrob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především v </a:t>
            </a:r>
            <a:r>
              <a:rPr b="0" lang="cs-CZ" sz="3200" spc="-1" strike="noStrike">
                <a:solidFill>
                  <a:srgbClr val="ff99ff"/>
                </a:solidFill>
                <a:latin typeface="Arial"/>
              </a:rPr>
              <a:t>Itál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boží z Benátek, Florencie a Janova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dávalo až v daleké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d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naop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ké bohatství italských měs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jich život i názor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Středověký tr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324000" y="1557360"/>
          <a:ext cx="84960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496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ff"/>
                </a:solidFill>
                <a:latin typeface="Arial"/>
              </a:rPr>
              <a:t>Změna názoru na stvoření svě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stování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y i představy lid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 svět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nechtěli se již podřizovat jediné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zoru církve, chtěli žít podle svéh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vojem </a:t>
            </a:r>
            <a:r>
              <a:rPr b="1" lang="cs-CZ" sz="3200" spc="-1" strike="noStrike">
                <a:solidFill>
                  <a:srgbClr val="ff99ff"/>
                </a:solidFill>
                <a:latin typeface="Arial"/>
              </a:rPr>
              <a:t>řemese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obch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mění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hled lidí na pozemský živ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čali více 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věř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rozumu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vědeckému zkoum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Knihtis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kou událostí pro středověké obyvatele byl </a:t>
            </a: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vynález knihtis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nalezl ho německý tiskař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ohann Gutenberg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 té doby se knihy opisovaly ručně, což by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mi namáhavé a zdlouhav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mocí tištěných knih se k lidem dostáva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é názor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tematiků a astronomů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lid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koumající vesmír), ž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emě je kulat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táčí se kolem Slun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6 - 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3 – 9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7:52:22Z</dcterms:created>
  <dc:creator>Hana Zimová</dc:creator>
  <dc:description/>
  <dc:language>en-US</dc:language>
  <cp:lastModifiedBy>martina</cp:lastModifiedBy>
  <dcterms:modified xsi:type="dcterms:W3CDTF">2013-06-09T07:24:15Z</dcterms:modified>
  <cp:revision>18</cp:revision>
  <dc:subject/>
  <dc:title>Důsledky 2. světové války</dc:title>
</cp:coreProperties>
</file>