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523A-CF4E-4BD1-9A12-F3366ACD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A8F1-8DE2-4148-AE7E-592D10E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9271-6793-42AF-B25C-13D167CF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D316-48D1-45A3-81C8-1A0244A7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FCB4-344A-4497-8D54-53D96051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AB27-5EC4-44A8-B5A6-C4D2F4B8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946-1D3B-4ED2-80E0-58DD137D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CA6E-AC53-4571-80B0-8929B415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13E1-C4F3-4D5C-87C6-D68AB930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0592-CEA9-4809-8E95-BC1FB262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C46A-B014-481C-A305-3AAA498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16A8-03DE-48E2-9866-FA7918BD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742-162B-4ABB-96A4-3DE98E9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ADF0-6B5A-4AC3-8E26-3C79A02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CC1F-35D0-4438-86CC-CA31EF4B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5985-E13A-46C9-A1E9-B197AB79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7B69-5C78-4627-8B62-912EF2F5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4F36-2D9A-4333-A006-A8AA4747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02A8-CE2D-4977-9582-F9756B58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556C-BB57-404A-BF0F-3D1985A7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3C6F-9E2E-4BAA-8C7B-E7F95643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616F-951B-4C59-BAE1-C9CAACE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3CA0-1321-46CC-958B-0799387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BB1F-9A65-4F96-B8E3-12B7576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18C-8635-4500-B4AC-79B1699FE3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7A67-1017-46E5-946A-328711A16CF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Humanismus, </a:t>
            </a: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vynález knihtisku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0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7" name="Object 3"/>
          <p:cNvGraphicFramePr/>
          <p:nvPr/>
        </p:nvGraphicFramePr>
        <p:xfrm>
          <a:off x="324000" y="404640"/>
          <a:ext cx="431928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431928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 txBox="1"/>
          <p:nvPr/>
        </p:nvSpPr>
        <p:spPr>
          <a:xfrm>
            <a:off x="5076720" y="549360"/>
            <a:ext cx="3610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portr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–</a:t>
            </a:r>
            <a:br>
              <a:rPr sz="4000"/>
            </a:b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slední večeř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Object 3"/>
          <p:cNvGraphicFramePr/>
          <p:nvPr/>
        </p:nvGraphicFramePr>
        <p:xfrm>
          <a:off x="250920" y="1413000"/>
          <a:ext cx="87138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7138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Vynález</a:t>
            </a: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KNIHTISK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nalezl ho německý tiskař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Johann Gutenberg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té doby se knihy opisovaly ručně, což by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mi namáhavé a zdlouhav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tištěných knih se k lidem dostáva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názory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atematiků a astronomů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lid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koumající vesmír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Země je kulatá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táčí se kolem Slu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Tis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sková forma pro celý list nebo stránku byla vyryta do zpravidla dřevěné desk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sk ze sazby se skládal z oddělených pís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ud se ale pro jejich výrobu používalo dřevo, odolnost materiálu nebyla velká, kdežto rytí jednotlivých písmen z kovu bylo pracné a nákladn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ohannes Gutenberg byl vyučen v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latni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de se naučil jak rytí do kovu, tak také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odlév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ísmolijec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důležitější z Gutenbergových vynálezů byl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vynález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ísmolije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ísmoryte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ejprve vyryl zrcadlově obrácený obraz písmene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atri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á byla následně použita jako razidlo. Otiskem do měkčího kovu pak vznikla forma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atr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tr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vložila d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icího stroj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zalila roztavenou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liteřin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slitinou cínu, olova a antimon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lité litery byly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otočeným obrazem písme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Tisk celého list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ždá tisková strana se sestavila do </a:t>
            </a: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dřevěné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sazeb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á určovala přesné řádkování i místa pro mezery a ilustr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ánky se sestavily do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arc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 sazbu se nanesla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tiskařská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erň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upraveného lisu na víno se pak dal vytisknout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celý arch najedn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místo dřívějšího ručního přitlačování hladítk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nto Gutenbergem vynalezený postup se používal bez výrazných změn až do ko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8. stole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Tiskárna           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Tiskové písmeno f a i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2" name="Object 4"/>
          <p:cNvGraphicFramePr/>
          <p:nvPr/>
        </p:nvGraphicFramePr>
        <p:xfrm>
          <a:off x="250920" y="907920"/>
          <a:ext cx="4825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825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5"/>
          <p:cNvGraphicFramePr/>
          <p:nvPr/>
        </p:nvGraphicFramePr>
        <p:xfrm>
          <a:off x="5508720" y="1557360"/>
          <a:ext cx="331128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557360"/>
                    <a:ext cx="33112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3 - 9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0] dostupné pod licencí Creative Commons – </a:t>
            </a:r>
            <a:r>
              <a:rPr b="0" lang="cs-CZ" sz="1600" spc="-1" strike="noStrike" u="sng">
                <a:solidFill>
                  <a:srgbClr val="9999ff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óm ve Florenc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lorence_italy_duomo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ichelangelo – Dav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Michelangelos_Davi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Leonardo da Vinci - Autoportré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Leonardo_sel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Leonardo da Vinci – Poslední večeř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Leonardo_da_Vinci_(1452-1519)_-_The_Last_Supper_(1495-1498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Tiskár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Buchdrucker-1568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iskové písmeno f a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Garamond_type_fi-ligatu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4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ismus, vynález knihtis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suzují přínos vynálezů pro rozvoj společnosti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Humanismus a renesanc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mořské cesty otevřely evropským obchodníkům možnosti dovážet a vyvážet zboží, rozvíjela se řemeslná výroba v manufakturá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il se životní styl a způsob myšlení – prvotním zájmem by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jem o 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ý se nezříkal žádné rad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vropou se začala šířit vl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humanismu a renes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Renesanční člově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samostatněji uvažoval a kriticky hodnot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dálosti, které se ho týk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docházelo ke střetům s církví, která stá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pěla na svých zastaralých názor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celou Evropu zachvátila vlna potře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formovat círk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informovanost se rychle šířila díky knihtis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HUMANISM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ířil se hlavně v Itálii v bohatých městech, jak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y Benátky, Janov, Florencie – tam vznik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vní bankovní domy a první manufaktu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nichž se vyrábělo velmi žádané suk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ě Italové jako první chtěli reformu církv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jích náz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ěřit v možnosti </a:t>
            </a:r>
            <a:r>
              <a:rPr b="1" lang="cs-CZ" sz="3200" spc="-1" strike="noStrike">
                <a:solidFill>
                  <a:srgbClr val="ccffcc"/>
                </a:solidFill>
                <a:latin typeface="Arial"/>
              </a:rPr>
              <a:t>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již na tom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ě, ne až po sm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rodil se nový světový názo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HUMAN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RENES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názor se rychle šířil a přinesl i nový způso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a. Humanismus byl těsně spjatý s renesanc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RENESA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ový umělecký směr, který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mítl do všech oblastí lidského d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o studených hradů se začaly stavě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městské paláce a zámk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zahradami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vby byly prostorné, s velkými okny, světl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Nejznámější renesanční stavba – Dóm ve Florenci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8" name="Object 3"/>
          <p:cNvGraphicFramePr/>
          <p:nvPr/>
        </p:nvGraphicFramePr>
        <p:xfrm>
          <a:off x="468360" y="1728720"/>
          <a:ext cx="82072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28720"/>
                    <a:ext cx="82072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Malířství a sochařs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íři a sochaři se také pokoušeli zachyt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alisticky člověka, používali živé modely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obrazovali je bez přík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většími osobnostmi italského renesanční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ohu by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malíř, sochař, architekt, přírodovědec, hudebník, spisovatel, vynálezce a konstrukté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ichelangelo Buonarott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sochař, malíř, básní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Object 3"/>
          <p:cNvGraphicFramePr/>
          <p:nvPr/>
        </p:nvGraphicFramePr>
        <p:xfrm>
          <a:off x="4643280" y="404640"/>
          <a:ext cx="424980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24980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 txBox="1"/>
          <p:nvPr/>
        </p:nvSpPr>
        <p:spPr>
          <a:xfrm>
            <a:off x="179280" y="475920"/>
            <a:ext cx="44640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Michelangelo Buonarro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avid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ako 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lorentské republik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roveň vypodob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konalé mužské krá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9:58Z</dcterms:created>
  <dc:creator>Hana Zimová</dc:creator>
  <dc:description/>
  <dc:language>en-US</dc:language>
  <cp:lastModifiedBy>martina</cp:lastModifiedBy>
  <dcterms:modified xsi:type="dcterms:W3CDTF">2013-06-09T07:26:29Z</dcterms:modified>
  <cp:revision>22</cp:revision>
  <dc:subject/>
  <dc:title>Humanismus,  vynález knihtisku</dc:title>
</cp:coreProperties>
</file>