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E5A-1B1B-4E30-A32C-DC5183C0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7591-C7DA-4034-8B9F-FDC1F838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61D-4862-4D0F-8A86-FE7110B0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64B-C7D0-4430-A905-247A7E61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BC17-1EC3-497F-BDA6-24B4AC1F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DAF9-865E-4349-8116-322AF64D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DF1A-8474-4CF2-8205-93C58F0F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B5DE-903F-42F3-9564-ED163799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46C6-9885-4C26-BC96-949FA27B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5B88-D8B5-4F5D-AE81-3F33B359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E828-680C-4AF7-9D86-73E0D2A0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7550-FE48-4F25-B89E-047239FB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4DA4-3115-4B68-80EE-949BF824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015D-68E6-4DC8-94D0-841F7596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0ACB-E8DB-4357-B18B-3DAB6824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B5B6-7F0C-4951-903F-CF795383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0217-DDF5-4ADC-885E-8B106AEB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3B3-4A0E-4CE3-BEE3-80BD38FF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9AB-ABEA-4419-84D3-7376E48A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FAC-8598-4312-B42C-D9347A32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24E5-A849-43A6-9BE1-71E0CE5C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A1F7-9263-4E41-BA8E-A0240DFB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660-06B1-4B72-8459-AD154739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12BB-7863-46F8-A101-21E10576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AAC6-38B7-4552-8894-C5A15249BE47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294E-2B81-4751-909D-80ACC8FBA661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cs-CZ" sz="4700" spc="-1" strike="noStrike">
                <a:solidFill>
                  <a:srgbClr val="ffff99"/>
                </a:solidFill>
                <a:latin typeface="Arial"/>
              </a:rPr>
              <a:t>Alchymie</a:t>
            </a:r>
            <a:endParaRPr b="0" lang="en-US" sz="4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2. 4. 201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547640" y="40464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3. díl. 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14 - 15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106 - 107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12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Alchymisté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Pietro_Longhi_021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ýrobna alchymistů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Aurora-dragon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Alchymist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JosephWright-Alchemist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7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9280" y="2637000"/>
          <a:ext cx="8785440" cy="4027320"/>
        </p:xfrm>
        <a:graphic>
          <a:graphicData uri="http://schemas.openxmlformats.org/drawingml/2006/table">
            <a:tbl>
              <a:tblPr/>
              <a:tblGrid>
                <a:gridCol w="3240360"/>
                <a:gridCol w="55450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chy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rozlišují realitu a skutečnost na císařském dvoře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Verdana"/>
                          <a:ea typeface="Arial Unicode MS"/>
                        </a:rPr>
                        <a:t>znát rozdíly způsobu života společnosti jednotlivých historických etap v kontextu světových děj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Vláda Rudolfa II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Vládl v letech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1576 – 161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anování Rudolfa II. je dobou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alchymistů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lidé, kteří se snažili vyrobit zlato 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elixír života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(tekutinu, která omlazuje)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Sice zlato ani elixír nevyrobili, ale zat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učinili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mnoho důležitých objevů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Výklad slova 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ALCHYMI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79280" y="980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xistuje několik výkladů tohoto slova, ale za nejpravděpodobnější bývají považovány dvě teori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1) Odvození od slova </a:t>
            </a:r>
            <a:r>
              <a:rPr b="1" i="1" lang="cs-CZ" sz="3200" spc="-1" strike="noStrike">
                <a:solidFill>
                  <a:srgbClr val="000000"/>
                </a:solidFill>
                <a:latin typeface="Verdana"/>
              </a:rPr>
              <a:t>chemi,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tj.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černá země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tradiční název Egyp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2) Odvození od slova </a:t>
            </a:r>
            <a:r>
              <a:rPr b="0" i="1" lang="cs-CZ" sz="3200" spc="-1" strike="noStrike">
                <a:solidFill>
                  <a:srgbClr val="000000"/>
                </a:solidFill>
                <a:latin typeface="Verdana"/>
              </a:rPr>
              <a:t>ta </a:t>
            </a:r>
            <a:r>
              <a:rPr b="1" i="1" lang="cs-CZ" sz="3200" spc="-1" strike="noStrike">
                <a:solidFill>
                  <a:srgbClr val="000000"/>
                </a:solidFill>
                <a:latin typeface="Verdana"/>
              </a:rPr>
              <a:t>chyta,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tj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v řečtině „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tavitelné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“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resp. </a:t>
            </a:r>
            <a:r>
              <a:rPr b="1" i="1" lang="cs-CZ" sz="3200" spc="-1" strike="noStrike">
                <a:solidFill>
                  <a:srgbClr val="000000"/>
                </a:solidFill>
                <a:latin typeface="Verdana"/>
              </a:rPr>
              <a:t>chyma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„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slévání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“, „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taven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í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lchymisté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5" descr="File:Pietro Longhi 021.jpg"/>
          <p:cNvPicPr/>
          <p:nvPr/>
        </p:nvPicPr>
        <p:blipFill>
          <a:blip r:embed="rId1"/>
          <a:stretch/>
        </p:blipFill>
        <p:spPr>
          <a:xfrm>
            <a:off x="1979640" y="981000"/>
            <a:ext cx="52196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Elixír život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5672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 rámci alchymistického procesu proměn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ecných kovů ve zlato se též označuj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8000"/>
                </a:solidFill>
                <a:latin typeface="Verdana"/>
              </a:rPr>
              <a:t>pitné zlato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(lat. aurum potabile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jedné straně má být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lékem na chorob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např. smrtelnou rakovinu) a tím zajisti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rodloužení života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druhé straně se řeší problém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obecnéh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rodloužení života, nezávisle n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nemocech -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egenerace, omládnutí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Alchymie jako předvědecký obor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lchymie je chápána jako předvědeck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obor, který rozvinul pokusné poznávání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řírodních dějů a bývá označována jak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tradiční vě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Středověcí alchymisté používali vztah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mezi různými znaky převzatými z živé 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eživé přírody, živly, barvami, tělesným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orgány, znameními zvěrokruhu č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lanetam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Výrobna alchymistů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5" descr="File:Aurora-dragon.jpg"/>
          <p:cNvPicPr/>
          <p:nvPr/>
        </p:nvPicPr>
        <p:blipFill>
          <a:blip r:embed="rId1"/>
          <a:stretch/>
        </p:blipFill>
        <p:spPr>
          <a:xfrm>
            <a:off x="395280" y="1125360"/>
            <a:ext cx="8280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cs-CZ" sz="3600" spc="-1" strike="noStrike">
                <a:solidFill>
                  <a:srgbClr val="008000"/>
                </a:solidFill>
                <a:latin typeface="Verdana"/>
              </a:rPr>
              <a:t>Alchymist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5" descr="File:JosephWright-Alchemist.jpg"/>
          <p:cNvPicPr/>
          <p:nvPr/>
        </p:nvPicPr>
        <p:blipFill>
          <a:blip r:embed="rId2"/>
          <a:stretch/>
        </p:blipFill>
        <p:spPr>
          <a:xfrm>
            <a:off x="395280" y="333360"/>
            <a:ext cx="4608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19:04Z</dcterms:created>
  <dc:creator>Hana Zimová</dc:creator>
  <dc:description/>
  <dc:language>en-US</dc:language>
  <cp:lastModifiedBy>martina</cp:lastModifiedBy>
  <dcterms:modified xsi:type="dcterms:W3CDTF">2013-06-09T07:29:13Z</dcterms:modified>
  <cp:revision>13</cp:revision>
  <dc:subject/>
  <dc:title>  Alchymie</dc:title>
</cp:coreProperties>
</file>