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331-C661-40FC-BD16-3D6FFE8B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63A-2B95-4D4B-8CD5-A5214BD9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31C-7544-4451-A9E3-E659A867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25A-4C99-4ED3-B1E3-9CB8281D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3775-4030-435B-BD81-4BD52B7B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8E7D-2689-4170-8C01-B90530CD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A990-F898-4138-BABB-05FB683C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81DE-BFE8-431A-908E-387D20A9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7298-3D0E-4BD0-814A-797C394E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081E-1EC5-4964-8062-87D70D26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9607-61F1-4BFA-81F9-376EF48A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21E-D5BD-4469-AB2F-60DA42D0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28EB-B4C4-4700-86AA-BBEAB561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9498-4366-4F61-9BED-2ECAC29E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5C19-BAB7-4B40-B073-16976C30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E3E1-389B-453E-BB16-F1554E24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C617-E435-40D6-B436-C871CB61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435F-F456-43A6-9D8E-F9815404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7A0-E723-4304-B2D0-588CF8C8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FB5-9B89-4BD8-9B0F-7E9AFA0F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A2B-4624-461B-B7AE-98A99DE7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2EF-9C78-4350-BF47-F1E5F587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F0FC-51C5-48E3-B895-4199EF1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2D3-1663-4423-BBF5-9EE5809A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F353-8A67-4DB1-A20A-1072AC1EB54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C42C-CCF5-4FF5-98BD-103323864D3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Ange_au_sourire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ccecff"/>
                </a:solidFill>
                <a:latin typeface="Arial"/>
              </a:rPr>
              <a:t>Život lidí v novověku</a:t>
            </a:r>
            <a:endParaRPr b="0" lang="en-US" sz="5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0. 4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33336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Přednáška v Boloni na univerzitě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5" name="Object 3"/>
          <p:cNvGraphicFramePr/>
          <p:nvPr/>
        </p:nvGraphicFramePr>
        <p:xfrm>
          <a:off x="684360" y="1052640"/>
          <a:ext cx="784836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784836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Karolinum s historickou kaplí   </a:t>
            </a:r>
            <a:r>
              <a:rPr b="0" lang="cs-CZ" sz="4000" spc="-1" strike="noStrike">
                <a:solidFill>
                  <a:srgbClr val="ffccff"/>
                </a:solidFill>
                <a:latin typeface="Arial"/>
              </a:rPr>
              <a:t>Pečeť Univerzity Karlov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250920" y="1600200"/>
          <a:ext cx="446544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00200"/>
                    <a:ext cx="446544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6"/>
          <p:cNvGraphicFramePr/>
          <p:nvPr/>
        </p:nvGraphicFramePr>
        <p:xfrm>
          <a:off x="5219640" y="2276640"/>
          <a:ext cx="3529080" cy="36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276640"/>
                    <a:ext cx="35290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9933"/>
                </a:solidFill>
                <a:latin typeface="Arial"/>
              </a:rPr>
              <a:t>Rozvoj obchodu, výrob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Evropě se rozvíjel </a:t>
            </a:r>
            <a:r>
              <a:rPr b="1" lang="cs-CZ" sz="3200" spc="-1" strike="noStrike">
                <a:solidFill>
                  <a:srgbClr val="99ff99"/>
                </a:solidFill>
                <a:latin typeface="Arial"/>
              </a:rPr>
              <a:t>námořní obcho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řemeslná výrob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především v </a:t>
            </a:r>
            <a:r>
              <a:rPr b="0" lang="cs-CZ" sz="3200" spc="-1" strike="noStrike">
                <a:solidFill>
                  <a:srgbClr val="ff99ff"/>
                </a:solidFill>
                <a:latin typeface="Arial"/>
              </a:rPr>
              <a:t>Itáli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boží z Benátek, Florencie a Janova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dávalo až v daleké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di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naopa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ké bohatství italských měst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ěni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jich život i názor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Změna názorů na svě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stování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ěnily i představy lid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 světě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nechtěli se již podřizovat jediné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ázoru církve, chtěli žít podle svéh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vojem </a:t>
            </a:r>
            <a:r>
              <a:rPr b="1" lang="cs-CZ" sz="3200" spc="-1" strike="noStrike">
                <a:solidFill>
                  <a:srgbClr val="ff99ff"/>
                </a:solidFill>
                <a:latin typeface="Arial"/>
              </a:rPr>
              <a:t>řemesel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obchod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mění 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hled lidí na pozemský živo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čali více věř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ff99"/>
                </a:solidFill>
                <a:latin typeface="Arial"/>
              </a:rPr>
              <a:t>rozumu</a:t>
            </a:r>
            <a:r>
              <a:rPr b="0" lang="cs-CZ" sz="4000" spc="-1" strike="noStrike">
                <a:solidFill>
                  <a:srgbClr val="99ff99"/>
                </a:solidFill>
                <a:latin typeface="Arial"/>
              </a:rPr>
              <a:t> a </a:t>
            </a:r>
            <a:r>
              <a:rPr b="1" lang="cs-CZ" sz="4000" spc="-1" strike="noStrike">
                <a:solidFill>
                  <a:srgbClr val="99ff99"/>
                </a:solidFill>
                <a:latin typeface="Arial"/>
              </a:rPr>
              <a:t>vědeckému zkoumá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ecff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6 - 1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90 - 95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ecff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10] dostupné pod licencí Creative Commons – </a:t>
            </a:r>
            <a:r>
              <a:rPr b="0" lang="cs-CZ" sz="1600" spc="-1" strike="noStrike" u="sng">
                <a:solidFill>
                  <a:srgbClr val="99ff99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Anděl v Remeš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commons.wikimedia.org/wiki/File:Ange_au_sourir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anorama Pražského hradu a Karlova mos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Prazsky_hrad_karluv_most_panorama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ažský hrad 14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Praha_1493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ednáška v Bol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Laurentius_de_Voltolina_00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arolinum – historická ka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Karolinum_ark_DSCN2206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niverzitní peče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Pe%C4%8De%C5%A5_Univerzity_Karlovy_v_Praz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5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4000" y="1752480"/>
          <a:ext cx="8353440" cy="4694400"/>
        </p:xfrm>
        <a:graphic>
          <a:graphicData uri="http://schemas.openxmlformats.org/drawingml/2006/table">
            <a:tbl>
              <a:tblPr/>
              <a:tblGrid>
                <a:gridCol w="2860560"/>
                <a:gridCol w="54928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Život lidí v novově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oznají rozdíl ve způsobu života v novověku a středověku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znát rozdíly způsobu života společnosti jednotlivých historických etap v kontextu světových děj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8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Arial"/>
              </a:rPr>
              <a:t>Křesťanské umění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olečenský vývoj v době středověku, zejmé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voj měst, výrazně podpořil náhled 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dnotlivého člověka, který se nejprve projevu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řesťanském umě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váře andělů a světců, dříve vznešené a přísné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sou od 12. století spíše krásné a někde doko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 s úsměvem - například sochy v katedrá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emeši ve Franc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250920" y="260280"/>
          <a:ext cx="496872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496872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 txBox="1"/>
          <p:nvPr/>
        </p:nvSpPr>
        <p:spPr>
          <a:xfrm>
            <a:off x="5940000" y="765000"/>
            <a:ext cx="2746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ndě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 Remeš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Panorama Pražského hradu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 a Karlova most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0" y="3086280"/>
          <a:ext cx="9144000" cy="34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86280"/>
                    <a:ext cx="914400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Pražský hrad 149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Object 3"/>
          <p:cNvGraphicFramePr/>
          <p:nvPr/>
        </p:nvGraphicFramePr>
        <p:xfrm>
          <a:off x="539640" y="2349360"/>
          <a:ext cx="806472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349360"/>
                    <a:ext cx="806472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Vznik humanism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umanismus přináší </a:t>
            </a:r>
            <a:r>
              <a:rPr b="1" lang="cs-CZ" sz="3200" spc="-1" strike="noStrike">
                <a:solidFill>
                  <a:srgbClr val="ff99cc"/>
                </a:solidFill>
                <a:latin typeface="Arial"/>
              </a:rPr>
              <a:t>změnu v pohledu člově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sebe a na vlastní postavení na světě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ivot není jenom příprava na věčnost, ale má vlastní c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by jej mohl odpovědně žít, potřebuje člověk svobo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lověk však musí skutečnost pečlivě zkoum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ása je také v jazyce, kterým mluvíme, zejména v poezii, v umě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Ško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 rozvojem řemesel a obchodu začali také měšťané, kupci, řemeslníci pociťovat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třebu naučit se číst, psát a především počít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 důsledku toho byly zakládány nižší školy u farních kostelů a později také </a:t>
            </a:r>
            <a:r>
              <a:rPr b="1" lang="cs-CZ" sz="3200" spc="-1" strike="noStrike">
                <a:solidFill>
                  <a:srgbClr val="99ff99"/>
                </a:solidFill>
                <a:latin typeface="Arial"/>
              </a:rPr>
              <a:t>městské škol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Vzdělávání v nich se zaměřovalo na praktické znalosti a jejich využit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 12. století se objevil nový typ školy,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  univerzit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- nejstarší univerzity byly založeny    v Itálii a soustředily se na výuku medicíny (Salerno) a práv (Bologn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Další univerzity v Evropě</a:t>
            </a: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zději vznikla významná vysoká učení v 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Anglii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xford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ambridg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cs-CZ" sz="3200" spc="-1" strike="noStrike">
                <a:solidFill>
                  <a:srgbClr val="ff9933"/>
                </a:solidFill>
                <a:latin typeface="Arial"/>
              </a:rPr>
              <a:t>Paříž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univerzita skládala ze čtyř fakult, ale proslula hlavně svou teologickou fakultou Sorbonno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le jejího vzoru byl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ku 1348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založen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jstarší univerzita ve střední Evropě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Praze – Karlova univerzit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ladem vyučování na církevních školách a artistických fakultách (základní fakulta středověké univerzity) bylo sedm svobodných umění, známých již v antickém starověk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13:10Z</dcterms:created>
  <dc:creator>Hana Zimová</dc:creator>
  <dc:description/>
  <dc:language>en-US</dc:language>
  <cp:lastModifiedBy>martina</cp:lastModifiedBy>
  <dcterms:modified xsi:type="dcterms:W3CDTF">2013-06-09T07:27:30Z</dcterms:modified>
  <cp:revision>19</cp:revision>
  <dc:subject/>
  <dc:title>Renesance  v našich zemích</dc:title>
</cp:coreProperties>
</file>