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7D4-6CC4-417E-AA6D-8F2C5DB5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194-8A42-4286-81F8-16AAA54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F32-02EF-404D-B5AB-A7B544BF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0CD-0702-493B-97DF-63E87D0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E69-BFC3-4836-819C-08B1B582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D30B-C063-4B1C-A50B-B8E6841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3E5-2B21-45BA-A67D-0F6F1FA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42AB-0030-442A-84EA-701CCC80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BF1-5459-48CB-ADF0-206AA65B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A342-AF52-42BC-82B7-6E508E2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54BB-88D7-4C8D-8525-33375E7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188-837E-4ABC-858B-E590C2CD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E78E-B93A-47F6-B169-F8F1BF7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F0D4-27E3-4B81-87B4-78AC5FF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454E-6C2E-4DE6-8BE7-4CA47B8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F209-14C2-4A94-B471-36C89286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63A-AF8B-4561-8EEF-79FCE017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043-0899-4112-AF10-6EA655D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6C4-846C-4453-8281-E1C2728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B30-E332-41E2-BF6C-1EFC2F88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6C8-0A1B-4392-9065-0FE4D557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9F8-D81D-4AD6-A8EF-880C129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3F6-DBC1-4641-A66C-8101DDC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C68-09A9-4E3F-A72B-723DE8B0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D324-10B9-4ED1-AD5A-F53C30A49F4F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1D2-07FC-432E-A8DE-CC623C27C81E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ffff99"/>
                </a:solidFill>
                <a:latin typeface="Tahoma"/>
              </a:rPr>
              <a:t>1. světová válk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09. 09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Bojové letadlo Rakouska-Uherska </a:t>
            </a:r>
            <a:br>
              <a:rPr sz="2800"/>
            </a:b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Hansa-Brandenburg B.I, vyráběné i po válce</a:t>
            </a:r>
            <a:r>
              <a:rPr b="0" lang="cs-CZ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395280" y="1773360"/>
          <a:ext cx="83534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534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Blíží se konec 1. světové vál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18 v Evropě zuřila válka již pátý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em. Byla to válka velmi ničivá, bylo do 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pojeno 70 milionů lidí ze 35 států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ese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ilionů lidí se z ní nevrátilo a 20 milionů lid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ylo zmrzačených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sledním roce války se projevovala převah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y (Velká Británie, Francie a Rusko)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mecká a rakouskou – uherská vojska by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labena velkými ztrátami a ustupovala ze svý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u děl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395280" y="1125360"/>
          <a:ext cx="84247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4247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Čeští a slovenští vojá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ští a slovenští vojáci odmítali válčit 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izí zájmy – za císaře a Rakousko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hersko. V armádě začala upadat bojov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rálka, množil se počet útěků z vá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vojenští zběhové) nebo přeběhů do zajet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rým se nedařilo utéct, se s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raňovali, aby byli posláni do pol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mocnice = polního lazaretu a z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ůstávali co nejdéle, aby se vyhnuli bojů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enské vzpou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 první polovině r. 19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nespokojenost voják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rcholila odmítnutím poslušnosti císaři 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lších bojů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jvětší vzpoury: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 Kotorské, Kragujevci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imavské Sobotě a Rumburk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é úřady je sice potlačily, ale armád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tupně rozpadal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lní soudy tuto neposlušnost velmi tvr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estaly, v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umburku bylo zastřeleno 1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oják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kamžitě po rozsudku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Rumburská poprav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539640" y="1052640"/>
          <a:ext cx="8064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064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Konec první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 podzim roku 1918 byl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akousko – Uhersko poraže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první světová válka skonči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řinesla s sebou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10 milionů ob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00ccff"/>
                </a:solidFill>
                <a:latin typeface="Arial"/>
              </a:rPr>
              <a:t>20 milionů navždy zmrzačených lid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válečné škody přesáhly několik miliard dolarů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onta hladových dětí čekající </a:t>
            </a:r>
            <a:br>
              <a:rPr sz="4000"/>
            </a:b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na polévk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50920" y="1484280"/>
          <a:ext cx="86421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7 - 1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9-09] dostupné pod licencí Creative Commons – </a:t>
            </a:r>
            <a:r>
              <a:rPr b="0" lang="cs-CZ" sz="16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antišek Ferdin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anzferdinand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vouplošní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ero_Ae-0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u děl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rkish_howitzer_10.5cm_leFH_98_09_LOC_001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za tank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anadian_tank_and_soldiers_Vimy_1917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onta hladových dět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onta_hladov%C3%BDch_d%C4%9Bt%C3%AD_%C4%8Dekaj%C3%ADc%C3%AD_na_pol%C3%A9vku_1_WW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Rumburská popra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Rumbursk%C3%A1_vzpoura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 světov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válk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uvádí příčin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a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sledk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1. světové válk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bý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eznámen s příčinami a politickými,  sociálními a kulturními důsledky 1. světové vál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Atentát na následníka trůn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minkou k rozpoutání 1. světové války se stal </a:t>
            </a:r>
            <a:r>
              <a:rPr b="1" lang="cs-CZ" sz="3600" spc="-1" strike="noStrike">
                <a:solidFill>
                  <a:srgbClr val="0099cc"/>
                </a:solidFill>
                <a:latin typeface="Arial"/>
              </a:rPr>
              <a:t>atentát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v </a:t>
            </a:r>
            <a:r>
              <a:rPr b="1" lang="cs-CZ" sz="3600" spc="-1" strike="noStrike">
                <a:solidFill>
                  <a:srgbClr val="cc3300"/>
                </a:solidFill>
                <a:latin typeface="Arial"/>
              </a:rPr>
              <a:t>Sarajevu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na rakouského následníka trůnu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cc"/>
                </a:solidFill>
                <a:latin typeface="Arial"/>
              </a:rPr>
              <a:t>Františka Ferdinan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lo se to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4. června roku 1914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utečným důvodem rozpoutání války však bylo nepřátelství mezi nejsilnějšími evropskými státy – Německem, Francií a Anglií. Tyto státy se nemohly dohodnout na rozdělení světových kolonií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antišek Ferdinand s rodino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2340000" y="1052640"/>
          <a:ext cx="4464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46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58760"/>
            <a:ext cx="87854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Mým národům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ěmito slovy začíná prohlášení rakouského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e Františka Josef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e dne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8. července 1914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 oznamuje vyhlášení války Srbsk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o by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99cc"/>
                </a:solidFill>
                <a:latin typeface="Arial"/>
              </a:rPr>
              <a:t>začátek 1. světové války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epřátelské tábo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o války se brzy zapojily i ostatní stá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Rozdělily se do dvou táborů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ff"/>
                </a:solidFill>
                <a:latin typeface="Arial"/>
              </a:rPr>
              <a:t>1. Trojspolek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Německo, Rakousko – Uhersko, Itálie (ta ale pak přestoupila na stranu Dohody) a další (Bulharsko aj.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ff"/>
                </a:solidFill>
                <a:latin typeface="Arial"/>
              </a:rPr>
              <a:t>2. Dohoda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Anglie, Francie, Rusk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Průběh 1.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93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očátku se věřilo, že válka bude trvat jen pá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ýdnů, ale vždy, když jedna armáda vyrazi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útoku, byla za obrovských ztrát zahnána zpě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álka se tak nečekaně protáhla na ro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používány </a:t>
            </a:r>
            <a:r>
              <a:rPr b="1" lang="cs-CZ" sz="3200" spc="-1" strike="noStrike">
                <a:solidFill>
                  <a:srgbClr val="00ffff"/>
                </a:solidFill>
                <a:latin typeface="Arial"/>
              </a:rPr>
              <a:t>nové typy zbra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Němci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vní zaútoč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ravnými ply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mi vyřadi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je tisíce anglických vojáků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Pokračování boj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mci používali i </a:t>
            </a: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ponor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byly velmi obávano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raní. Potápěli všechny lodě plující pod cizí vlajko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větnu 191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topili Němci </a:t>
            </a:r>
            <a:r>
              <a:rPr b="1" lang="cs-CZ" sz="2800" spc="-1" strike="noStrike">
                <a:solidFill>
                  <a:srgbClr val="00cc99"/>
                </a:solidFill>
                <a:latin typeface="Arial"/>
              </a:rPr>
              <a:t>parník Lusitani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m bylo mnoho bohatých Američanů – US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pojily k válce na stranu Dohod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gličané vynalezli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pancéřový tank</a:t>
            </a: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le častěji byla používána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bojová letadl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nejdřív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 průzkumu, později i k bombardování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álečným pilotům se říkal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„rytíři nebe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za tankem během bitv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95280" y="1052640"/>
          <a:ext cx="835344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83534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17:51Z</dcterms:created>
  <dc:creator>Hana Zimová</dc:creator>
  <dc:description/>
  <dc:language>en-US</dc:language>
  <cp:lastModifiedBy>martina</cp:lastModifiedBy>
  <dcterms:modified xsi:type="dcterms:W3CDTF">2013-06-09T07:32:17Z</dcterms:modified>
  <cp:revision>33</cp:revision>
  <dc:subject/>
  <dc:title>  1. světová válka</dc:title>
</cp:coreProperties>
</file>