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A11-967E-44EA-8D92-3C066C3F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FE9-3F82-4487-BB7B-328BAB10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D9F-41DA-4184-90DE-7C4CEEAF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D4A-CACC-4555-BDAA-980A0C97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9626-85F5-47A8-ADFA-AF33E504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A5A3-B73B-4A77-A613-CDCB1EF3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23B0-801B-4741-A215-841E3599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819A-7BF7-4A1F-A3EA-CD06406A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F121-E242-43A7-A5F6-93E23E1B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C3F6-560B-47A9-8E67-7DFC4934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3300-5457-4404-B427-29ACB2A0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C7D-5CEE-460A-B52E-473AEC6B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7950-06FC-4C88-B854-225E1DC2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958B-8B4F-4BA1-BE6E-368778EF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F1CD-39AF-453B-A168-7961CA00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05D9-DA8A-40A8-A5BD-A8C06BF3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7CF3-2064-4F2A-84D5-490FBD1B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7B5-7600-48EF-A976-EA7D51DD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DCF-640B-4010-87A0-69F33E19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54F-1739-4758-872C-27D79FC6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B7B-1816-4A20-B9A2-4EE59FF0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CCA-0D7B-489C-8678-B80DF996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F27-D84D-4CAB-AE59-979F0E14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D91-3D3E-48DD-A9B6-F3BE894D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E59F-2128-4ABC-BF4B-D8647A9C333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F9BA-0D6E-43F2-8C0C-A041F81B2FE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00"/>
                </a:solidFill>
                <a:latin typeface="Arial"/>
              </a:rPr>
              <a:t>Rok 1948, 1968 a 1989 pro český stát</a:t>
            </a:r>
            <a:endParaRPr b="0" lang="en-US" sz="5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29. 3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979640" y="18900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ff00"/>
                </a:solidFill>
                <a:latin typeface="Arial"/>
              </a:rPr>
              <a:t>Sametová revolu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zpomínkové shromáždění </a:t>
            </a:r>
            <a:r>
              <a:rPr b="0" lang="cs-CZ" sz="3200" spc="-1" strike="noStrike">
                <a:solidFill>
                  <a:srgbClr val="ffff00"/>
                </a:solidFill>
                <a:latin typeface="Tahoma"/>
              </a:rPr>
              <a:t>17. listopad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přerostlo v </a:t>
            </a:r>
            <a:r>
              <a:rPr b="1" i="1" lang="cs-CZ" sz="3200" spc="-1" strike="noStrike">
                <a:solidFill>
                  <a:srgbClr val="ffffff"/>
                </a:solidFill>
                <a:latin typeface="Tahoma"/>
              </a:rPr>
              <a:t>mohutnou demonstrac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proti komunistickému režim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18. listopadu se spojili pražští vysokoškoláci s herci a vyhlásili </a:t>
            </a:r>
            <a:r>
              <a:rPr b="1" i="1" lang="cs-CZ" sz="3200" spc="-1" strike="noStrike">
                <a:solidFill>
                  <a:srgbClr val="ffffff"/>
                </a:solidFill>
                <a:latin typeface="Tahoma"/>
              </a:rPr>
              <a:t>protestní stávk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nně se konaly demonstrace na Václavském náměstí, k lidem promlouvalo mnoho řečníků, jako Václav Havel, Alexandr Dubček a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Občanské fóru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Praze bylo ustanoven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OBČANSKÉ FÓRUM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  (O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čele  s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ff00"/>
                </a:solidFill>
                <a:latin typeface="Tahoma"/>
              </a:rPr>
              <a:t>Václavem Havlem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jich cílem bylo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svržení komunistickéh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režim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v Československ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nastolení demokra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Konec komunism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láda komunistů byla u konce, protestní ak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rostly ve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státní převra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který byl nazvá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ff00"/>
                </a:solidFill>
                <a:latin typeface="Tahoma"/>
              </a:rPr>
              <a:t>„</a:t>
            </a:r>
            <a:r>
              <a:rPr b="1" lang="cs-CZ" sz="3600" spc="-1" strike="noStrike">
                <a:solidFill>
                  <a:srgbClr val="00ff00"/>
                </a:solidFill>
                <a:latin typeface="Tahoma"/>
              </a:rPr>
              <a:t>sametová“ nebo „něžná“ revoluc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svůj nenásilný průbě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Politické změn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1. listopadu 1989 byla zahájena jednání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 tehdejší vlád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7. prosince musela vláda podat demis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ahoma"/>
              </a:rPr>
              <a:t>Preziden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Gustáv Husák odstoupil a na jeho místo byl </a:t>
            </a:r>
            <a:r>
              <a:rPr b="1" lang="cs-CZ" sz="3200" spc="-1" strike="noStrike">
                <a:solidFill>
                  <a:srgbClr val="00ff00"/>
                </a:solidFill>
                <a:latin typeface="Tahoma"/>
              </a:rPr>
              <a:t>29. prosinc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zvolen doma i v zahraničí uznávaný 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Václav Havel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sedou FS se stal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Alexandr Dubček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ahoma"/>
              </a:rPr>
              <a:t>ZEMĚ PO 20 LETECH OPĚT VYKROČILA NA CESTU </a:t>
            </a:r>
            <a:r>
              <a:rPr b="0" lang="cs-CZ" sz="5400" spc="-1" strike="noStrike">
                <a:solidFill>
                  <a:srgbClr val="00ff00"/>
                </a:solidFill>
                <a:latin typeface="Tahoma"/>
              </a:rPr>
              <a:t>SVOBOD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bbd71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díl. 1. vydání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ISBN 9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788073201241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s.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4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46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5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55, 60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6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226 – 231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235 – 237, 242 - 24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65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0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1773360"/>
          <a:ext cx="8785440" cy="4641840"/>
        </p:xfrm>
        <a:graphic>
          <a:graphicData uri="http://schemas.openxmlformats.org/drawingml/2006/table">
            <a:tbl>
              <a:tblPr/>
              <a:tblGrid>
                <a:gridCol w="3745080"/>
                <a:gridCol w="504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k 1948, 1968 a 1989 pro český stá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nají události související s letopočt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znát průběh a důsledky 2. světové války a nový politický a hospodářský vývoj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v Evrop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- chápat význam událostí v ro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1989 a vítězství demokracie v naší vla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Ohrožená demokraci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 blížícím se rokem 1948 ostatní strany pochopily, že KSČ chce převzít veškerou moc ve státě, protože všechna důležitá místa byla postupně obsazena komunisty oddaných Gottwaldov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munisté využili nepokojů proti ostatním politickým stranám a přesvědčily většinu lidí, že když se stát zbaví továrníků a statkářů, bude se jim žít lép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věřili heslu: „</a:t>
            </a:r>
            <a:r>
              <a:rPr b="0" lang="cs-CZ" sz="3200" spc="-1" strike="noStrike">
                <a:solidFill>
                  <a:srgbClr val="ffff66"/>
                </a:solidFill>
                <a:latin typeface="Tahoma"/>
              </a:rPr>
              <a:t>Když bude vše patřit dělníkům a rolníkům, nebude bíd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Arial"/>
              </a:rPr>
              <a:t>Únor 1948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ezident Beneš ustoupil tlaku komunistů, aby zabránil krveprolití, a </a:t>
            </a:r>
            <a:r>
              <a:rPr b="1" lang="cs-CZ" sz="3600" spc="-1" strike="noStrike">
                <a:solidFill>
                  <a:srgbClr val="ffff66"/>
                </a:solidFill>
                <a:latin typeface="Tahoma"/>
              </a:rPr>
              <a:t>25. února 1948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přijal demisi nekomunistických ministr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ak byla v Československu </a:t>
            </a:r>
            <a:r>
              <a:rPr b="1" i="1" lang="cs-CZ" sz="3600" spc="-1" strike="noStrike">
                <a:solidFill>
                  <a:srgbClr val="66ff99"/>
                </a:solidFill>
                <a:latin typeface="Tahoma"/>
              </a:rPr>
              <a:t>nastolena TOTALIT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= nedemokratická m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mise = odstoupení ze svého úřa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Rok 1968 - sovětský vliv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větský svaz neustále kontroloval „uvolňování“ u nás, důrazně napomínal </a:t>
            </a:r>
            <a:r>
              <a:rPr b="0" i="1" lang="cs-CZ" sz="3200" spc="-1" strike="noStrike">
                <a:solidFill>
                  <a:srgbClr val="ff3300"/>
                </a:solidFill>
                <a:latin typeface="Tahoma"/>
              </a:rPr>
              <a:t>Alexandra Dubče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i prezidenta generála </a:t>
            </a:r>
            <a:r>
              <a:rPr b="0" i="1" lang="cs-CZ" sz="3200" spc="-1" strike="noStrike">
                <a:solidFill>
                  <a:srgbClr val="ffff66"/>
                </a:solidFill>
                <a:latin typeface="Tahoma"/>
              </a:rPr>
              <a:t>Ludvíka Svobod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aby zabraňovali dalšímu šíření přílišné demokraci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dyž napomínání nepomáhalo, rozhodl se Leonid Brežněv (vedoucí představitel SSSR) zakroč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Okupace Českoslovens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noci na </a:t>
            </a:r>
            <a:r>
              <a:rPr b="1" i="1" lang="cs-CZ" sz="3200" spc="-1" strike="noStrike">
                <a:solidFill>
                  <a:srgbClr val="ffff66"/>
                </a:solidFill>
                <a:latin typeface="Tahoma"/>
              </a:rPr>
              <a:t>21. srpna 1968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vtrhly na naše území sovětské tanky společně s jednotkami dalších států (Maďarsko, Polsko, Bulharsko, NDR), aby zabránily rozmachu svobody v zem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čané se bránili i holýma rukama, zapálili několik tanků, které proti nim stříl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3300"/>
                </a:solidFill>
                <a:latin typeface="Tahoma"/>
              </a:rPr>
              <a:t>Okupační vojs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obsadila vládní budovu, redakce novin, budovu rozhlasu a televi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větští důstojníci odvlekli A. Dubčeka a jeho spolupracovníky do Moskv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Totalitní reži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é bouřlivě protestovali proti okupantům, ti však už v zemi zůstali dalších 20 l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yla obnovena cenzura tisku a médií a byl nastolen totalitní režim, lidé pomalu ztráceli svobod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cs-CZ" sz="3600" spc="-1" strike="noStrike">
                <a:solidFill>
                  <a:srgbClr val="ff3300"/>
                </a:solidFill>
                <a:latin typeface="Tahoma"/>
              </a:rPr>
              <a:t>Totalitní režim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= nedemokratické státní zřízení – např. fašistické nebo komunistick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Protest studentů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čané ztráceli své svobody, proto se někteř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udenti rozhodli za svobodu položit veřejn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ůj živ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ahoma"/>
              </a:rPr>
              <a:t>Studen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3300"/>
                </a:solidFill>
                <a:latin typeface="Tahoma"/>
              </a:rPr>
              <a:t>JAN PALACH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a   </a:t>
            </a:r>
            <a:r>
              <a:rPr b="1" i="1" lang="cs-CZ" sz="3600" spc="-1" strike="noStrike">
                <a:solidFill>
                  <a:srgbClr val="ff3300"/>
                </a:solidFill>
                <a:latin typeface="Tahoma"/>
              </a:rPr>
              <a:t>JAN ZAJÍ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s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na protest proti režimu </a:t>
            </a: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upálili (1969)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htěli tím vyburcovat národ k protestům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monstracím proti totalitě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Pád komunistického režim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červnu 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1989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Václav Havel a jeho přátelé zorganizovali petici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ěkolik vě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kde požadovali svobodu  a demokracii. Podepsalo ji 40 tisíc lid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srpnu 1989 proběhly demonstrace k 21. výročí okupace, komunisté si již s odporem občanů nevěděli rad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vrdě zasáhli proti studentské manifestaci k výročí úmrtí Jana Opletala (v roce 1939 byl postřelen nacisty) dne 17. listopadu 198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8:02:58Z</dcterms:created>
  <dc:creator>Hana Zimová</dc:creator>
  <dc:description/>
  <dc:language>en-US</dc:language>
  <cp:lastModifiedBy>martina</cp:lastModifiedBy>
  <dcterms:modified xsi:type="dcterms:W3CDTF">2013-06-09T07:23:03Z</dcterms:modified>
  <cp:revision>10</cp:revision>
  <dc:subject/>
  <dc:title>Rok 1948, 1968 a 1989 pro český stát</dc:title>
</cp:coreProperties>
</file>