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FA037-120F-4B31-B12E-9527E576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7200D-057E-4DF6-8B52-3AB332EB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3A37B-66E5-4048-910C-A1788C999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2CF25-B77C-4388-829A-5B84350A3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9964-F712-4EA8-8308-C3C7DB1BD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A926-0B66-4688-A0DA-F60B0223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FB7F-2E0D-4A68-A783-AEF1E890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8E7C-523A-4970-8549-AF465E3A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B2B6-4992-4B9F-94D2-DA6E9ADC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1134-8939-42C6-9CA2-C5F255DE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2D76-FA30-4086-B7AA-3928F31E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CFFC9-DDB5-48B4-BA5E-75AB557E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9C8A-1E4C-4020-80C0-AA331E77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26F8-A8A8-4F84-A355-751B9855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1455-11C9-4F10-9DC8-36299B1C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D74F-2358-4010-B932-3990454CF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0D52-CB9A-43E3-BB68-7D9FBD662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0C300-B9EA-4254-9DDB-AD83060E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81CD7-5FDF-4171-9FC6-50E86CAF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812DB-620F-4AC1-83D2-9E8FDF38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372F1-BFDF-4F57-BA36-C31C6A81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EEA9B-2971-4A68-BEE0-A98BEDE5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4EF53-4FCE-443E-9876-C109A9C2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F89E6-D0EC-47CF-AEC0-72A7D7E1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FA82-FB2B-44A8-B04D-4B1DF8F2D8A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B09A-BD0B-4CB8-A000-BBE560192CA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0" lang="cs-CZ" sz="5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cs-CZ" sz="5800" spc="-1" strike="noStrike">
                <a:solidFill>
                  <a:srgbClr val="dfdef6"/>
                </a:solidFill>
                <a:latin typeface="Arial"/>
              </a:rPr>
              <a:t>Rok 1968 – okupace ČSR sovětskou armádou </a:t>
            </a:r>
            <a:endParaRPr b="0" lang="en-US" sz="5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13. 3. 201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619280" y="18900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Arial"/>
              </a:rPr>
              <a:t>Totalitní režim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Lidé bouřlivě protestovali proti okupantům, ti však už v zemi zůstali dalších 20 l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Byla obnovena cenzura tisku a médií a byl nastolen totalitní režim, lidé pomalu ztráceli svobod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3600" spc="-1" strike="noStrike">
                <a:solidFill>
                  <a:srgbClr val="ff3300"/>
                </a:solidFill>
                <a:latin typeface="Arial"/>
              </a:rPr>
              <a:t>Totalitní režim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= nedemokratické státní zřízení – např. fašistické nebo komunistick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Arial"/>
              </a:rPr>
              <a:t>Protest studentů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bčané ztráceli své svobody, proto se někteř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tudenti rozhodli za svobodu položit veřejně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vůj živo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Arial"/>
              </a:rPr>
              <a:t>Student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3300"/>
                </a:solidFill>
                <a:latin typeface="Arial"/>
              </a:rPr>
              <a:t>JAN PALACH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a   </a:t>
            </a:r>
            <a:r>
              <a:rPr b="1" i="1" lang="cs-CZ" sz="3600" spc="-1" strike="noStrike">
                <a:solidFill>
                  <a:srgbClr val="ff3300"/>
                </a:solidFill>
                <a:latin typeface="Arial"/>
              </a:rPr>
              <a:t>JAN ZAJÍC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Arial"/>
              </a:rPr>
              <a:t>s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na protest proti režimu </a:t>
            </a:r>
            <a:r>
              <a:rPr b="1" lang="cs-CZ" sz="3200" spc="-1" strike="noStrike">
                <a:solidFill>
                  <a:srgbClr val="ffff66"/>
                </a:solidFill>
                <a:latin typeface="Arial"/>
              </a:rPr>
              <a:t>upálili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htěli tím vyburcovat národ k protestům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emonstracím proti totalitě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0" y="476280"/>
            <a:ext cx="3564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mrtná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as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ff3300"/>
                </a:solidFill>
                <a:latin typeface="Arial"/>
              </a:rPr>
              <a:t>Jana Palac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948 –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upálil 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6. 1. 196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tudent filozofie a politické ekonom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2" name="Object 9"/>
          <p:cNvGraphicFramePr/>
          <p:nvPr/>
        </p:nvGraphicFramePr>
        <p:xfrm>
          <a:off x="3924360" y="404640"/>
          <a:ext cx="4824360" cy="612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404640"/>
                    <a:ext cx="482436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78920" y="404280"/>
            <a:ext cx="42483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66"/>
                </a:solidFill>
                <a:latin typeface="Arial"/>
              </a:rPr>
              <a:t>Jan Zají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tudent střední průmyslové školy železniční v Šumperk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950 – 25. 2. 196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á pamětní desku na Václavském náměst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6" name="Object 6"/>
          <p:cNvGraphicFramePr/>
          <p:nvPr/>
        </p:nvGraphicFramePr>
        <p:xfrm>
          <a:off x="4427640" y="476280"/>
          <a:ext cx="4716360" cy="61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476280"/>
                    <a:ext cx="471636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66"/>
                </a:solidFill>
                <a:latin typeface="Arial"/>
              </a:rPr>
              <a:t>Výňatek z dopisu Jana Zajíce před smrtí rodičům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aminko, tatínku, bratři a sestřičk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ž budete číst tento dopis, budu už zřejmě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rtev nebo velmi blízko smrti. Vím, jak velk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ánu Vám svým činem způsobím, ale nezlobte 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 mne. Nedělám to proto, že by mne živo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mrzel, ale proto, že si ho velmi váží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smíte se nikdy smířit s nespravedlností, moj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mrt Vás k tomu zavazuj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e mi líto, že Vás už nikdy neuvidí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2. stupeň základní školy praktické. 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díl. 1. vydání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Praha : Parta, 20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ISBN 9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788073201241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s. 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54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55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235 - 237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fdef6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šechny uveřejněné odkazy [cit. 2012-03-13] dostupné pod licencí Creative Commons – </a:t>
            </a:r>
            <a:r>
              <a:rPr b="0" lang="cs-CZ" sz="1600" spc="-1" strike="noStrike" u="sng">
                <a:solidFill>
                  <a:srgbClr val="ffffff"/>
                </a:solidFill>
                <a:uFillTx/>
                <a:latin typeface="Verdana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Alexandr Dubč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Dubcek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Dubček, Svoboda, Ceausesc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IICCR_G539_Ceausescu_Dubcek_Svoboda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Jan Palac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Monumento_a_Jan_Palach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Jan Zají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Zaj%C3%ADc_Jan_-_portr%C3%A9t_na_pam%C4%9Btn%C3%AD_desce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65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č. 4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179280" y="1557360"/>
          <a:ext cx="8785440" cy="4714920"/>
        </p:xfrm>
        <a:graphic>
          <a:graphicData uri="http://schemas.openxmlformats.org/drawingml/2006/table">
            <a:tbl>
              <a:tblPr/>
              <a:tblGrid>
                <a:gridCol w="4238640"/>
                <a:gridCol w="4546800"/>
              </a:tblGrid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k 1968 – okupace ČSR sovětskou armádo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íší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k 1968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znát průběh a důsledky 2. světové války a nový politický a hospodářský vývoj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v Evropě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dfdef6"/>
                </a:solidFill>
                <a:latin typeface="Arial"/>
              </a:rPr>
              <a:t>Jaro 1968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496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jaře roku 1968 se situace v zemi uvolni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Lidé se přestávali bát tajné polici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ohlo se volně cestovat za hran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yla povolena činnost dříve zakázaných spolků a str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yla zrušena </a:t>
            </a:r>
            <a:r>
              <a:rPr b="1" i="1" lang="cs-CZ" sz="2800" spc="-1" strike="noStrike">
                <a:solidFill>
                  <a:srgbClr val="ffff66"/>
                </a:solidFill>
                <a:latin typeface="Arial"/>
              </a:rPr>
              <a:t>cenzur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= kontrola a omezová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dělování různých informací – ať už předávaný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luveným slovem, tiskem ap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vykle se týká veřejně sdělovaných názorů, a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dobách nesvobody je kontrolováno i soukrom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dělování názorů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Arial"/>
              </a:rPr>
              <a:t>Cenzur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lovo </a:t>
            </a:r>
            <a:r>
              <a:rPr b="1" i="1" lang="cs-CZ" sz="2800" spc="-1" strike="noStrike">
                <a:solidFill>
                  <a:srgbClr val="ffffff"/>
                </a:solidFill>
                <a:latin typeface="Arial"/>
              </a:rPr>
              <a:t>cenzur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pochází z latinského 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censor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což byl úředník, která měl za úkol sčítání obyvatel a dohlížení na morálk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Českých zemích cenzura existovala už před rokem 1918, kdy noviny musely vyjít se začerněnými stránkami apo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Existovala i během nacistické a komunistické totality, ale i za tzv. první a druhé republiky, kdy byly ovšem zakázány především komunistické a nacionalistické spisy,  také písn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době komunistického režimu byly některé </a:t>
            </a: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knih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vydávány v pozměněném znění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nzura byla oficiálně zrušena novelou Tiskového zákona v roce 1968 po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ovětské invazi do Československa,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všem neoficiálně pokračovala až do roku 198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Arial"/>
              </a:rPr>
              <a:t>Cenzura fotografií a filmů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Cenzura </a:t>
            </a:r>
            <a:r>
              <a:rPr b="1" lang="cs-CZ" sz="2800" spc="-1" strike="noStrike">
                <a:solidFill>
                  <a:srgbClr val="ff66ff"/>
                </a:solidFill>
                <a:latin typeface="Arial"/>
              </a:rPr>
              <a:t>fotografií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 období totality - prováděla se jejich retušováním, „vylepšováním“ anebo jejich úplným zakázáním. Na snímcích se odmazávaly nepohodlné osoby, nebo se např. mohl přidat jásající dav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sahy cenzury se většinou nařizovaly ústně, proto k nim existuje jen málo dokument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Cenzura ve </a:t>
            </a: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filmu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nzura filmové tvorby probíhala po celém světě od počátků rozvoje filmového umění a probíhá až do současnosti - ochrana obecné mravnosti, ochrana mládeže apod. K cenzuře filmů ale dochází i z politických důvodů; tak byly např. z některých filmů vystříhány scény s Waldemarem Matuškou, který se stal kvůli své emigraci vládnoucímu komunistickému režimu nepohodlný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Arial"/>
              </a:rPr>
              <a:t>Alexandr Dubče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0" y="1600200"/>
            <a:ext cx="44956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roce 1968 lidé toužil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 svobodě a hledal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stu, jak se zbav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dvlády Sovětskéh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vaz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čele demokratickéh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nutí stan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i="1" lang="cs-CZ" sz="2800" spc="-1" strike="noStrike">
                <a:solidFill>
                  <a:srgbClr val="ffff66"/>
                </a:solidFill>
                <a:latin typeface="Arial"/>
              </a:rPr>
              <a:t>Alexandr Dubček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7" name="Object 6"/>
          <p:cNvGraphicFramePr/>
          <p:nvPr/>
        </p:nvGraphicFramePr>
        <p:xfrm>
          <a:off x="4892760" y="1413000"/>
          <a:ext cx="3927240" cy="511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8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92760" y="1413000"/>
                    <a:ext cx="392724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Arial"/>
              </a:rPr>
              <a:t>Sovětský vliv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ovětský svaz neustále kontroloval „uvolňování“ u nás, důrazně napomínal </a:t>
            </a:r>
            <a:r>
              <a:rPr b="0" i="1" lang="cs-CZ" sz="3200" spc="-1" strike="noStrike">
                <a:solidFill>
                  <a:srgbClr val="ff3300"/>
                </a:solidFill>
                <a:latin typeface="Arial"/>
              </a:rPr>
              <a:t>Alexandra Dubček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i prezidenta generála </a:t>
            </a:r>
            <a:r>
              <a:rPr b="0" i="1" lang="cs-CZ" sz="3200" spc="-1" strike="noStrike">
                <a:solidFill>
                  <a:srgbClr val="ffff66"/>
                </a:solidFill>
                <a:latin typeface="Arial"/>
              </a:rPr>
              <a:t>Ludvíka Svobod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aby zabraňovali dalšímu šíření přílišné demokraci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dyž napomínání nepomáhalo, rozhodl se Leonid Brežněv (vedoucí představitel SSSR) zakroč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3300"/>
                </a:solidFill>
                <a:latin typeface="Arial"/>
              </a:rPr>
              <a:t>Dubček</a:t>
            </a:r>
            <a:r>
              <a:rPr b="0" lang="cs-CZ" sz="3200" spc="-1" strike="noStrike">
                <a:solidFill>
                  <a:srgbClr val="dfdef6"/>
                </a:solidFill>
                <a:latin typeface="Arial"/>
              </a:rPr>
              <a:t> v roce 1968 na návštěvě </a:t>
            </a:r>
            <a:br>
              <a:rPr sz="3200"/>
            </a:br>
            <a:r>
              <a:rPr b="0" lang="cs-CZ" sz="3200" spc="-1" strike="noStrike">
                <a:solidFill>
                  <a:srgbClr val="dfdef6"/>
                </a:solidFill>
                <a:latin typeface="Arial"/>
              </a:rPr>
              <a:t>v Rumunsku. Uprostřed je </a:t>
            </a:r>
            <a:r>
              <a:rPr b="1" i="1" lang="cs-CZ" sz="3200" spc="-1" strike="noStrike">
                <a:solidFill>
                  <a:srgbClr val="ffff66"/>
                </a:solidFill>
                <a:latin typeface="Arial"/>
              </a:rPr>
              <a:t>Ludvík Svoboda</a:t>
            </a:r>
            <a:r>
              <a:rPr b="0" lang="cs-CZ" sz="3200" spc="-1" strike="noStrike">
                <a:solidFill>
                  <a:srgbClr val="dfdef6"/>
                </a:solidFill>
                <a:latin typeface="Arial"/>
              </a:rPr>
              <a:t> a </a:t>
            </a:r>
            <a:r>
              <a:rPr b="1" lang="cs-CZ" sz="3200" spc="-1" strike="noStrike">
                <a:solidFill>
                  <a:srgbClr val="dfdef6"/>
                </a:solidFill>
                <a:latin typeface="Arial"/>
              </a:rPr>
              <a:t>Nicolae Ceauşescu</a:t>
            </a:r>
            <a:r>
              <a:rPr b="0" lang="cs-CZ" sz="3200" spc="-1" strike="noStrike">
                <a:solidFill>
                  <a:srgbClr val="dfdef6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2" name="Object 3"/>
          <p:cNvGraphicFramePr/>
          <p:nvPr/>
        </p:nvGraphicFramePr>
        <p:xfrm>
          <a:off x="395280" y="1600200"/>
          <a:ext cx="84247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600200"/>
                    <a:ext cx="84247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Arial"/>
              </a:rPr>
              <a:t>Okupace Československ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noci na </a:t>
            </a:r>
            <a:r>
              <a:rPr b="1" i="1" lang="cs-CZ" sz="3200" spc="-1" strike="noStrike">
                <a:solidFill>
                  <a:srgbClr val="ffff66"/>
                </a:solidFill>
                <a:latin typeface="Arial"/>
              </a:rPr>
              <a:t>21. srpna 1968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vtrhly na naše území sovětské tanky společně s jednotkami dalších států ( Maďarsko, Polsko, Bulharsko, NDR ), aby zabránily rozmachu svobody v zem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bčané se bránili i holýma rukama, zapálili několik tanků, které proti nim stříl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3300"/>
                </a:solidFill>
                <a:latin typeface="Arial"/>
              </a:rPr>
              <a:t>Okupační vojsk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obsadila vládní budovu, redakce novin, budovu rozhlasu a televiz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ovětští důstojníci odvlekli A. Dubčeka a jeho spolupracovníky do Moskv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07:43:44Z</dcterms:created>
  <dc:creator>Hana Zimová</dc:creator>
  <dc:description/>
  <dc:language>en-US</dc:language>
  <cp:lastModifiedBy>martina</cp:lastModifiedBy>
  <dcterms:modified xsi:type="dcterms:W3CDTF">2013-06-09T07:17:38Z</dcterms:modified>
  <cp:revision>13</cp:revision>
  <dc:subject/>
  <dc:title>   Rok 1968 – okupace ČSR sovětskou armádou </dc:title>
</cp:coreProperties>
</file>