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2325-7C24-42EC-AA93-9999CE1644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EBBC-2FBF-4A2A-AF40-6C41260A7C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764-6C1B-4E41-ABFD-16631841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F62-1427-452E-AECC-0356D09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FC9-04FC-4727-96F7-FFB498DB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0BB-15E1-4844-9187-A4F5314E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27F4-9B98-46EB-B55E-4203BCF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52C-ED4B-4548-BB8F-398B592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96AC-F4F8-4FE4-BFBC-F5F664D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6336-2FD7-4E68-848A-FA778DF7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B19F-96C9-407E-AA5C-CEA9B7B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B66D-DF47-48A6-817E-26D74762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F510-D5B4-4269-8BD9-0D12D7A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2E3-93E6-4742-BC8A-84F6FF1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E30-0461-4064-9C65-EBF58A6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8D8-19D1-40FD-8A1D-964DE3E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0FB-C5BB-4C19-B969-AB6697C5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7E4E-C255-4124-A482-A5D86E58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3D52-6885-4D59-BBB2-AFC37471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9AB-BB52-4816-BA53-E9162044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5E7-BB0B-41AA-8322-A4949247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1E3-9213-4EB0-93CF-42D1B22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BC-51F2-4E49-981A-E1B02B3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4F0-5BB9-4E55-AA18-5DD983DE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F7B-0FC8-4A92-B5E6-E2C537B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69B-5A67-45E5-9C57-EF800D8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D76-D45C-4DCA-A9FE-A96D6CE90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159-7F27-4342-B709-C258B1181F18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vskadan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5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Základní prvky internetového prohlížeč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ozi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Zástupný symbol pro zápatí 6"/>
          <p:cNvSpPr/>
          <p:nvPr/>
        </p:nvSpPr>
        <p:spPr>
          <a:xfrm>
            <a:off x="1000080" y="6165720"/>
            <a:ext cx="728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Nový začátek (New start) CZ.1.07/1.4.00/21.1409 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571680" y="5877000"/>
            <a:ext cx="8143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Vytvořeno dne 25. 2. 201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133720"/>
          <a:ext cx="8712360" cy="3321000"/>
        </p:xfrm>
        <a:graphic>
          <a:graphicData uri="http://schemas.openxmlformats.org/drawingml/2006/table">
            <a:tbl>
              <a:tblPr/>
              <a:tblGrid>
                <a:gridCol w="3370320"/>
                <a:gridCol w="5342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prvky internetového prohlížeč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prací s internetovým prohlížečem. Žáci se seznámí s jeho základními prvk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1332000" y="12754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a Zpět a Vpř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785600"/>
            <a:ext cx="842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vrátí na předchoz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posune na následujíc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m kliknutí na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ebo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se posuneme o strán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dle tlačíte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je symbol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malé šipky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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po kliknutí na ni se nám zobrazí nabídka všech navštívených strán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kurzorové klávesy vlevo a vpravo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listování stránek přes klávesnici)</a:t>
            </a:r>
            <a:r>
              <a:rPr b="1" lang="cs-CZ" sz="20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Zástupný symbol pro zápatí 6"/>
          <p:cNvSpPr/>
          <p:nvPr/>
        </p:nvSpPr>
        <p:spPr>
          <a:xfrm>
            <a:off x="1071720" y="6400800"/>
            <a:ext cx="735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anel ad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 tohoto okénka zapisujeme webové adre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dresa se skládá z několika slov oddělených tečkami a je psána bez mezer, čárek a háč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zvskadan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dnotlivé webové stránky obsahují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hypertextové odkaz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které odkazují na další webové stránky a poznáme je změnou kurzoru myš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Esc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pozastavení načítání stránky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Zástupný symbol pro zápatí 6"/>
          <p:cNvSpPr/>
          <p:nvPr/>
        </p:nvSpPr>
        <p:spPr>
          <a:xfrm>
            <a:off x="1000080" y="6243480"/>
            <a:ext cx="75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o Aktualizovat a Oblíbené položky,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785960"/>
            <a:ext cx="842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Aktualiza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↓↑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ačte na dlouhodobě otevřené stránce aktuální data a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zobrazí stránku znov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F5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aktualizace otevřené stránky přes klávesnici)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kazují na často navštěvované stránky, které si zařadíme kliknutím na polož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Přidat oblíbenou polož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Histori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ajdeme v záložc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umožňuje najít navštívené stránky v minu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071720" y="6243480"/>
            <a:ext cx="792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Domů</a:t>
            </a:r>
            <a:br>
              <a:rPr sz="4400"/>
            </a:b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42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m znovu načte „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ou stránk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“ = (stránku výchoz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yvolání nabídky domů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vedeme v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lavní nabíd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kliknutím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stroj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Možnosti internet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v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ialogovém okně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 záložko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ecn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píšeme požadovanou internetovou adresu do políčk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á stránk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tvrdím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214280" y="6243480"/>
            <a:ext cx="76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Tis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slouží pro vytištění aktuální webové strán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liknutím na </a:t>
            </a:r>
            <a:r>
              <a:rPr b="1" i="1" lang="cs-CZ" sz="2800" spc="-1" strike="noStrike">
                <a:solidFill>
                  <a:srgbClr val="333399"/>
                </a:solidFill>
                <a:latin typeface="Tahoma"/>
              </a:rPr>
              <a:t>symbol malé šip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dle vyvoláme nabíd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hl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stránku před tiskem zkontroluj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928800" y="624348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Internetové vyhledáva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4240" y="19288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líme je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fultextov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 fultext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edáme informaci zadáním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klíčového slov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do okénka vyhledávače a zvolíme podobu výsledku hledání (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tex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obráze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td.)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Google.cz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sou odkazy řazeny přehledně pod jednotlivými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es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stupně se přes ně proklikáme k požadované informaci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Seznam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143000" y="6243480"/>
            <a:ext cx="77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Ukládání dat z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960" y="185688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celé strán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Úplná 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stránky bez obrázků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14300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8:31:33Z</dcterms:created>
  <dc:creator>Server</dc:creator>
  <dc:description/>
  <dc:language>en-US</dc:language>
  <cp:lastModifiedBy>martina</cp:lastModifiedBy>
  <dcterms:modified xsi:type="dcterms:W3CDTF">2013-08-22T15:06:35Z</dcterms:modified>
  <cp:revision>29</cp:revision>
  <dc:subject/>
  <dc:title>Základní prvky prohlížeče</dc:title>
</cp:coreProperties>
</file>