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746B-7361-4055-A1AB-B66A584FAD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FD28-2F93-41A5-ADD2-F0CA4B93F7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737-2AE0-4CA4-B4A6-F0C6726C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C70-12C1-44FD-B2B2-C7EA5EA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69E-510F-4B91-95C6-AAB131A9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849-292C-43D9-9A87-2AB5681B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BCCC-8552-4AFC-A954-0B83B251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916-115B-44DA-80FA-F7689A82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29D-B8F4-48AE-8E2D-918E619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328A-00FD-4115-A4C7-1372B2D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2E4D-8295-46F6-9780-848F72B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CCE-E122-4910-BAFC-362964D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90E-A231-47FA-940C-0E84B83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6CD-EC98-4602-B6A3-A7FFFB68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4814-4FAA-431D-B9B9-1CB658B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379-5EC4-4031-9824-C1F5A93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61E9-3736-4340-A55E-CC69CC39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23A8-F92C-46A3-8B8D-55312B56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042-C395-4967-AAB2-81293D0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11FB-E22C-4500-A320-010E9E8C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2A7B-4344-47F3-A81C-0DDC9245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E6B9-7096-4AFA-9D10-AB03EE5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9D1A-5EE7-492A-BEDA-5F40296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8752-8A1F-4308-91CD-4AE8BE5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796-486D-40A4-8746-7DEBBBF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5845-441B-4009-90B4-3AD4716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2A47-7AE1-4F42-AA86-2331F72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5693-0920-414C-A321-01E14A7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1EA7-4799-40A2-AD82-78F0030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D726-AE81-4639-8291-29340AA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8E4D-5372-4A15-A478-CFA5E797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85F0-A285-403A-92C1-39A55D4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129A-74AA-48B9-B045-B432E928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AA5F-02E3-4C39-A053-41E8B970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D4AC-DCA8-4D2F-A271-BD40208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33B-A156-4F50-997A-4A646A1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4C74-7309-4381-B18D-54ED1977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CA19-C1AA-4DE8-B361-0C25655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8469-3CBD-4BB1-99F8-7B8812C5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16F3-7843-4317-BB11-D04BC69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5D6D-8CC6-450F-B94C-5B4CEDED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A639-07EF-4088-A482-76467F8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7C38-4A8C-45A7-AE44-001192F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1FC6-272E-47EA-A85F-C39A409C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D4B6-A4C9-4B5A-AA7F-1659E24C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2AB0-8B58-4784-848B-D0954589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7A5-3128-42DC-9853-9160B5D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AC9C-DAD4-4483-BE1F-7120F77F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E3FB-0C57-4D29-9257-325161A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1A5F-7AA8-4FB8-96B2-2257DEE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9AA4-504D-4685-9E02-28AD2669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AF70-0431-41F2-B495-777D429B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88E0-77BF-4ED3-8DFE-BBEA25E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FBBB-347C-4641-9CD4-452145E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CEDC-ED77-45A7-9475-C122D32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1193-6D03-49B8-A42B-F3F16C8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EAF7-91A3-48BC-915C-4FDD10A5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1D7-08D1-44A5-8C59-DC59CF95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18C7-31E6-41E6-BB5C-57159DEB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0DD8-7A24-4D3F-88D6-55907612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E3C7-F1F8-41EC-B367-F09BFFC3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A288-D997-4D4F-91F8-0A29C951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AC3AC-C0C5-4E36-BB90-9639F55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1D90-72EA-48B8-A07E-73E60604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CF3E-FEF0-422D-A7C7-2DC070C6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1B0F-0F89-4ADC-B24F-5038A72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CF8B-2388-40F8-AB50-BF82204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8FFFE-BFEC-446B-B4EF-4A6D64A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FF5-0682-4E70-A42E-54B3259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7CAF-48CD-471B-AC4C-11D94F4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CD42-0087-42D0-8021-3DE64AC7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C1EA-A2F4-403D-A060-EA5B596D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CCD88-8B8B-4744-BBDB-7EC7EDE6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759B-C61D-43A5-AA2C-7789166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D2AF-DBCF-4BAE-BD76-396D3BF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7001-6A2D-423C-A42B-227D33B4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46C4-FC44-4215-A9BF-85478FB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40CE-C6EF-49C6-BD0A-F38E608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3326-A9A5-46E5-9A71-2468322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CD1-64E6-4A73-A263-D8B1162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BE48-203C-48CB-BE34-4416C87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EA16-F42E-4D3E-AF87-2B95E9B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EAA2-22DE-4E81-B3ED-D04C2A6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7AC8-5CEE-46EA-A157-C7238053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5277-3FAA-4A9D-B3E5-4A9951D5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BA72-1118-4788-B230-160FE9D0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C690-CA64-47FE-8893-F29F5CA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BEF5-0530-402C-B6FD-EFE9F3A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5452-63F7-41BD-981E-BBDC3B27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3785A-0137-4C19-A4D6-3A9C9CE1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E92-AD2B-442A-9280-60B937C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3F054-D720-4438-8DA2-4B5698F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414BC-A95B-4C40-AEF5-7083E46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004D-9034-4044-9F27-AFBB9F4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C4BE8-960C-4832-8CFA-AB268BD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5635-91D9-4847-B3E2-70C1F0DA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3F17-D8D5-476B-A127-824C01BF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1777-E2B4-4AE7-BDCB-D89CD082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E74-9CE9-4063-8FA7-29D3B94F84B1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3085-54BF-4032-BC18-089E4C2F316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229A-2EE5-4ABE-B95A-853A4A60D028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DB0-F72F-41DE-B034-EC09ECFB018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0BB9-89D8-4E41-B05E-4C44C3B48500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3F80-5201-4E68-B423-A4FAC2971FF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143-8F6B-4CF7-8035-4681EC9A0CAB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A2E-E826-4DC5-9866-DEBBD79D773F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E54-0C7B-4E5E-ACD4-BAE7C9AC1415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CAA-6B4E-4BD6-B18B-AD148BA26738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7C7-308E-41A2-AA3D-0939BB7B4FC9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3BCE-3309-4FEF-9AD2-EE27459ECEE3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6CC6-99F4-47A7-8876-FE97606FD100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633-8529-4871-A608-799F498A2C4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4E95-5C71-4369-8280-61AF01198A7D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6C6-5700-4B7F-8A4B-C78F93C720DC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3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ro vlastní bezp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Zástupný symbol pro zápatí 4"/>
          <p:cNvSpPr/>
          <p:nvPr/>
        </p:nvSpPr>
        <p:spPr>
          <a:xfrm>
            <a:off x="611280" y="5732640"/>
            <a:ext cx="7889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Vytvořeno dne 4. 4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zápatí 3"/>
          <p:cNvSpPr/>
          <p:nvPr/>
        </p:nvSpPr>
        <p:spPr>
          <a:xfrm>
            <a:off x="1000080" y="5357880"/>
            <a:ext cx="6786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9280" y="1052640"/>
          <a:ext cx="8715600" cy="360504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idla bezpečného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e zásady bezpečného využívání internetu z hlediska svobodného média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1"/>
          <p:cNvSpPr/>
          <p:nvPr/>
        </p:nvSpPr>
        <p:spPr>
          <a:xfrm>
            <a:off x="179280" y="6076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svého bydliště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telefonní čís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školy, kam chodí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jména a adresy rodičů a rodinných příslušníků a jejich telefonní čísl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zápatí 4"/>
          <p:cNvSpPr/>
          <p:nvPr/>
        </p:nvSpPr>
        <p:spPr>
          <a:xfrm>
            <a:off x="121428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počítač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počítač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údaje o kreditní kartě nebo peněžním úč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Zástupný symbol pro zápatí 4"/>
          <p:cNvSpPr/>
          <p:nvPr/>
        </p:nvSpPr>
        <p:spPr>
          <a:xfrm>
            <a:off x="1071720" y="5857920"/>
            <a:ext cx="7358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domlouvej osobní schůzku s někým, s kým jsi se seznámil prostřednictvím Intern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osobní výzvy od těch, které nezná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zlé, urážlivé, nevkusné nebo hrubé e-m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zápatí 4"/>
          <p:cNvSpPr/>
          <p:nvPr/>
        </p:nvSpPr>
        <p:spPr>
          <a:xfrm>
            <a:off x="785880" y="5857920"/>
            <a:ext cx="785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soubory přiložené k e-mailům, pokud přijdou z míst, které nezná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webové stránky, které jsou určené jen pro dospě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zápatí 4"/>
          <p:cNvSpPr/>
          <p:nvPr/>
        </p:nvSpPr>
        <p:spPr>
          <a:xfrm>
            <a:off x="135720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Sociální sítě: Lidé.cz, Líbímseti at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ich osobních údaj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eho osobního denního progra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vystavování osobních fotografií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navazování kontakt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723520" cy="149400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4"/>
          <p:cNvSpPr/>
          <p:nvPr/>
        </p:nvSpPr>
        <p:spPr>
          <a:xfrm>
            <a:off x="1285920" y="5857920"/>
            <a:ext cx="7143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3:00:14Z</dcterms:created>
  <dc:creator>ZS Kadan</dc:creator>
  <dc:description/>
  <dc:language>en-US</dc:language>
  <cp:lastModifiedBy>martina</cp:lastModifiedBy>
  <dcterms:modified xsi:type="dcterms:W3CDTF">2013-08-22T15:08:27Z</dcterms:modified>
  <cp:revision>14</cp:revision>
  <dc:subject/>
  <dc:title>Pravidla bezpečného internetu</dc:title>
</cp:coreProperties>
</file>