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82D8-16C3-40BD-8F48-78D53F4ED49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3AFA-3218-4F99-99CD-2428FBABBC7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9A8-D9FD-443B-9603-56F9661B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068-E498-4196-97E3-C3AC2983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396-AFDF-4E83-9B2C-71FCC9AF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A9D-4316-4781-B0E7-7400AC9C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0996-D9A2-4ED2-B329-D010255A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E9B9-77E7-4DA8-B84A-2A84BCBF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3310-800B-4ACC-AE91-3B4412E4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048E-A052-4F8C-A27F-AC673D29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C7BC-1DA5-47B9-9D38-E3E8E589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83B5-9675-4FD0-92F2-16F5F344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24DF-BC47-48CA-A1A5-4F0A05A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687-CBDC-45DC-9269-E0A5556E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BE2E-7B13-4D2E-83B2-CE762788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645A-F515-4748-9EC2-6BCAC545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A2FD-677E-4FFC-A458-2092D957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B685-EAF2-4DA3-A9C1-B367F88C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DB4D-6940-4A7C-84BE-82EC1A6E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CE2-A390-4F8B-9BD1-A6600BB3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A5A-3C42-4544-A519-939B9FF4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6BB-D040-4BD6-A00D-229E0A88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7A4-0A1B-4B84-92DD-992F3B85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9FE-2DA0-48F1-89D6-2D9A5E0A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AC8-0D3A-4D21-871E-39166F8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0DB-8BF9-4392-AA6C-0288F33F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6C41-2843-423C-AE84-A75BA816D8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4798-A432-4415-9E5C-3360502A0EB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1071720"/>
            <a:ext cx="77724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Arial Black"/>
              </a:rPr>
              <a:t>Cvičná prezenta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67816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b7"/>
                </a:solidFill>
                <a:latin typeface="Arial"/>
              </a:rPr>
              <a:t>Společný postup tvorby prezentace v MS PowerPoin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1357200" y="5715000"/>
            <a:ext cx="7072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5752800" cy="140040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VELKÝ PÁTEK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5880" y="1928880"/>
            <a:ext cx="75499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ký pát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lidé chodili mýt do potoka, aby se jim vyhýbaly choroby. Někde se chlapci potápěli a snažili se ústy uchopit ze dna vody kamínek, který pak hodili levačkou za hlavu - pak je nebolely zuby. Textilníci předli pašijové nitě, těmi udělali několik stehů, které pak rodinu chránily před uhranutím a zlými duchy. Košile ušitá pašijovými nitěmi chránila před bleskem. Nesmělo se prát prádlo, nesmělo se pracovat v sadu, nesmělo se nic půjčovat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215200" y="600084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zápatí 4"/>
          <p:cNvSpPr/>
          <p:nvPr/>
        </p:nvSpPr>
        <p:spPr>
          <a:xfrm>
            <a:off x="1357200" y="6245280"/>
            <a:ext cx="66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BÍLÁ SOBOTA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219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Bíl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sobot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z ohořelých dřívek udělal křížek a ten se donesl na pole, aby bylo úrodné. Někde se dávaly za trámy domu uhlíky, aby odradily požár. Doma se uklízelo, bílilo, pekly se mazance a beránci, pletly pomlázky, zdobila vajíč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zápatí 4"/>
          <p:cNvSpPr/>
          <p:nvPr/>
        </p:nvSpPr>
        <p:spPr>
          <a:xfrm>
            <a:off x="1357200" y="6245280"/>
            <a:ext cx="65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BOŽÍ HOD VELIKONOČNÍ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72630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Boží hod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ikonoční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stala každá návštěva kousek posvěceného jídla, trochu se ho dalo na pole, do studny a na zahradu - aby byla úroda, voda a dostatek ovoce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600084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0" name="Zástupný symbol pro zápatí 4"/>
          <p:cNvSpPr/>
          <p:nvPr/>
        </p:nvSpPr>
        <p:spPr>
          <a:xfrm>
            <a:off x="1143000" y="6245280"/>
            <a:ext cx="678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VELIKONOČNÍ</a:t>
            </a:r>
            <a:br>
              <a:rPr sz="7200"/>
            </a:b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PONDĚLÍ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26920" y="2708280"/>
            <a:ext cx="806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ikonoční ponděl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dnem, který následuje po neděli Zmrtvýchvstání Páně. U nás je spojeno s nejrůznějšími tradicemi a zvyklostmi, které lze zařadit k rituálům nastávajícího ja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našich krajích je zvykem chodit s  pomlázkou, což je pletený prut, kterým chlapci bijí děvčata z okolí. Za to dostanou malovaná vajíčka čili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cs-CZ" sz="28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1" lang="cs-CZ" sz="2800" spc="-1" strike="noStrike">
                <a:solidFill>
                  <a:srgbClr val="161616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66ff66"/>
                </a:solidFill>
                <a:latin typeface="Arial"/>
              </a:rPr>
              <a:t>l</a:t>
            </a:r>
            <a:r>
              <a:rPr b="1" lang="cs-CZ" sz="2800" spc="-1" strike="noStrike">
                <a:solidFill>
                  <a:srgbClr val="ffc000"/>
                </a:solidFill>
                <a:latin typeface="Arial"/>
              </a:rPr>
              <a:t>i</a:t>
            </a:r>
            <a:r>
              <a:rPr b="1" lang="cs-CZ" sz="2800" spc="-1" strike="noStrike">
                <a:solidFill>
                  <a:srgbClr val="d82852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4" name="Zástupný symbol pro zápatí 4"/>
          <p:cNvSpPr/>
          <p:nvPr/>
        </p:nvSpPr>
        <p:spPr>
          <a:xfrm>
            <a:off x="1357200" y="6245280"/>
            <a:ext cx="6500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C:\Documents and Settings\Spravce\Dokumenty\Kliparty\Kliparty_3\WMF\Vira\rel10016.wmf"/>
          <p:cNvPicPr/>
          <p:nvPr/>
        </p:nvPicPr>
        <p:blipFill>
          <a:blip r:embed="rId1"/>
          <a:stretch/>
        </p:blipFill>
        <p:spPr>
          <a:xfrm flipH="1">
            <a:off x="1071720" y="1071720"/>
            <a:ext cx="2146320" cy="4456080"/>
          </a:xfrm>
          <a:prstGeom prst="rect">
            <a:avLst/>
          </a:prstGeom>
          <a:ln w="0">
            <a:noFill/>
          </a:ln>
        </p:spPr>
      </p:pic>
      <p:pic>
        <p:nvPicPr>
          <p:cNvPr id="156" name="Obdélník 6" descr=""/>
          <p:cNvPicPr/>
          <p:nvPr/>
        </p:nvPicPr>
        <p:blipFill>
          <a:blip r:embed="rId2"/>
          <a:stretch/>
        </p:blipFill>
        <p:spPr>
          <a:xfrm>
            <a:off x="2955960" y="1566720"/>
            <a:ext cx="6065640" cy="2224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:\Documents and Settings\Spravce\Dokumenty\Kliparty\Kliparty_1\WMF\Udalosti\eve_9104.wmf"/>
          <p:cNvPicPr/>
          <p:nvPr/>
        </p:nvPicPr>
        <p:blipFill>
          <a:blip r:embed="rId3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8" name="Zástupný symbol pro zápatí 5"/>
          <p:cNvSpPr/>
          <p:nvPr/>
        </p:nvSpPr>
        <p:spPr>
          <a:xfrm>
            <a:off x="2124000" y="6143760"/>
            <a:ext cx="587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zápatí 3"/>
          <p:cNvSpPr/>
          <p:nvPr/>
        </p:nvSpPr>
        <p:spPr>
          <a:xfrm>
            <a:off x="1116000" y="5708520"/>
            <a:ext cx="72723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4200" y="981000"/>
          <a:ext cx="8715600" cy="428148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ičná prezentace - společný postup tvorby prezentace v MS PowerPoint 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zentace seznamuje žáky s jednotlivými kroky tvorby prezentace  na dané téma. Žáci si společně přímou prací na PC procvičí tvorbu  prezenta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 – ovládat základy psaní na klávesnici, na uživatelské úrovni práci s textovým editorem, využívat vhodné aplik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zentace, pracovní l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ýklad, aktivit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"/>
          <p:cNvSpPr/>
          <p:nvPr/>
        </p:nvSpPr>
        <p:spPr>
          <a:xfrm>
            <a:off x="179280" y="4244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č.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58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Úkol: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      </a:t>
            </a: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Společná tvorba prezentace na téma Velikonoce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85716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Postu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puštěním program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owerPoin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 objeví na ploš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vní prázdný sníme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rezentace většinou jen pro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dpis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u nástrojů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ikne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lačítko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ávrh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 po straně se nám otevře okno s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šablonou grafických návrh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arevným spektrem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imačním schémate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bereme pro všechny snímky a vše potvrdíme kliknutí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ový snímek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íme kliknutím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lačítko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se stejným nápisem v 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u nástro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Po straně se nám otevře okno se způsob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ozložení sním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Vybere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Nadpis a obsah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otvrdíme kliknutí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ext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doplníme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opírováním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 předlohy po kliknutím do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extového pole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upravujem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ho přes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 nástro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dpis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praví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 72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tučně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žlu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Text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praví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 32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ázev dn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ztučním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prezentace vloží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lipar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upravíme  jejich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otovou prezentaci spustí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bídkou Prezentace – Spustit prez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Zástupný symbol pro zápatí 3"/>
          <p:cNvSpPr/>
          <p:nvPr/>
        </p:nvSpPr>
        <p:spPr>
          <a:xfrm>
            <a:off x="928800" y="6072120"/>
            <a:ext cx="7572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385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1.    VELIKONO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.   ŠKAREDÁ STŘ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škaredou středu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nesmíte mračit, jinak se budete mračit každou středu v roce. Na škaredou středu začínaly tři přísné postní dny. Ženy se oblékaly do tmavých obleků. Končila všechna společenská posedávání, muži omezili kouření a pití. Hlavním pokrmem byla čočka a hrách. Začínala se již také malovat vejce, aby byla připravena na pomlázk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3.    ZELENÝ ČTVR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elený čtvrtek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musíte časně vstát a omýt se rosou - nebudete nemocní. Hospodyně musí zamést dům ještě před východem slunce a smetí odnést na křižovatku - nebudete mít v domě blechy. V Orlických horách se házel do studny chléb s medem - aby v ní byla voda celý rok. Také jidáše s medem zaručovaly zdraví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4.     VELKÝ PÁ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ký pátek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lidé chodili mýt do potoka, aby se jim vyhýbaly choroby. Někde se chlapci potápěli a snažili se ústy uchopit ze dna vody kamínek, který pak hodili levačkou za hlavu - pak je nebolely zuby. Textilníci předli pašijové nitě, těmi udělali několik stehů, které pak rodinu chránily před uhranutím a zlými duchy. Košile ušitá pašijovými nitěmi chránila před bleskem. Nesmělo se prát prádlo, nesmělo se pracovat v sadu, nesmělo se nic půjčov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5.     BÍLÁ SOBO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ílou sobotu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z ohořelých dřívek udělal křížek a ten se donesl na pole, aby bylo úrodné. Někde se dávaly za trámy domu uhlíky, aby odradily požár. Doma se uklízelo, bílilo, pekly se mazance a beránci, pletly pomlázky, zdobila vajíčk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6.     BOŽÍ HOD VELIKONOČ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oží hod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ikonoční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ostala každá návštěva kousek posvěceného jídla, trochu se ho dalo na pole, do studny a na zahradu - aby byla úroda, voda a dostatek ovo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7.     VELIKONOČNÍ PONDĚL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ikonoční pondělí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je dnem, který následuje po neděli Zmrtvýchvstání Páně. U nás je spojeno s nejrůznějšími tradicemi a zvyklostmi, které lze zařadit k rituálům nastávajícího jara. V našich krajích je zvykem chodit s pomlázkou, což je pletený prut, kterým chlapci bijí děvčata z okolí. Za to dostanou malovaná vajíčka čili krasli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8.     VESELÉ VELIKONOCE přeje 8. tří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Obrázk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Zástupný symbol pro zápatí 2"/>
          <p:cNvSpPr/>
          <p:nvPr/>
        </p:nvSpPr>
        <p:spPr>
          <a:xfrm>
            <a:off x="1214280" y="6143760"/>
            <a:ext cx="7358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C:\Documents and Settings\Spravce\Dokumenty\Kliparty\Kliparty_3\WMF\Prilezitosti\eve10007.wmf"/>
          <p:cNvPicPr/>
          <p:nvPr/>
        </p:nvPicPr>
        <p:blipFill>
          <a:blip r:embed="rId1"/>
          <a:stretch/>
        </p:blipFill>
        <p:spPr>
          <a:xfrm>
            <a:off x="5214960" y="1785960"/>
            <a:ext cx="3494160" cy="3597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Documents and Settings\Spravce\Dokumenty\Kliparty\Kliparty_1\WMF\Udalosti\eve_9104.wmf"/>
          <p:cNvPicPr/>
          <p:nvPr/>
        </p:nvPicPr>
        <p:blipFill>
          <a:blip r:embed="rId2"/>
          <a:stretch/>
        </p:blipFill>
        <p:spPr>
          <a:xfrm>
            <a:off x="3929040" y="1571760"/>
            <a:ext cx="1698480" cy="146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Spravce\Dokumenty\Kliparty\Kliparty_3\WMF\Vira\rel10016.wmf"/>
          <p:cNvPicPr/>
          <p:nvPr/>
        </p:nvPicPr>
        <p:blipFill>
          <a:blip r:embed="rId3"/>
          <a:stretch/>
        </p:blipFill>
        <p:spPr>
          <a:xfrm flipH="1">
            <a:off x="1143000" y="1428840"/>
            <a:ext cx="2146320" cy="44560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385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Internetové zdroje obrázků</a:t>
            </a:r>
            <a:r>
              <a:rPr b="1" lang="cs-CZ" sz="3200" spc="-1" strike="noStrike">
                <a:solidFill>
                  <a:srgbClr val="ffff4a"/>
                </a:solidFill>
                <a:latin typeface="Arial Black"/>
              </a:rPr>
              <a:t>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3880" y="1143000"/>
            <a:ext cx="8007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Všechny uveřejněné odkazy 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[cit. 2012-01-18] dostupné pod licencí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Zdroje obrázků:  vajíčko - [eve_9104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                           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pomlázka - [eve_10007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oltář - [rel_10016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428840" y="6072120"/>
            <a:ext cx="7072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fff00"/>
                </a:solidFill>
                <a:latin typeface="Arial Black"/>
              </a:rPr>
              <a:t>VELIKONOCE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7" descr="C:\Documents and Settings\Spravce\Dokumenty\Kliparty\Kliparty_3\WMF\Prilezitosti\eve10007.wmf"/>
          <p:cNvPicPr/>
          <p:nvPr/>
        </p:nvPicPr>
        <p:blipFill>
          <a:blip r:embed="rId1"/>
          <a:stretch/>
        </p:blipFill>
        <p:spPr>
          <a:xfrm>
            <a:off x="4572000" y="2357280"/>
            <a:ext cx="3494160" cy="3597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Documents and Settings\Spravce\Dokumenty\Kliparty\Kliparty_1\WMF\Udalosti\eve_9104.wmf"/>
          <p:cNvPicPr/>
          <p:nvPr/>
        </p:nvPicPr>
        <p:blipFill>
          <a:blip r:embed="rId2"/>
          <a:stretch/>
        </p:blipFill>
        <p:spPr>
          <a:xfrm>
            <a:off x="1714680" y="2786040"/>
            <a:ext cx="1698480" cy="146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Spravce\Dokumenty\Kliparty\Kliparty_1\WMF\Udalosti\eve_9104.wmf"/>
          <p:cNvPicPr/>
          <p:nvPr/>
        </p:nvPicPr>
        <p:blipFill>
          <a:blip r:embed="rId3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29" name="TextovéPole 6"/>
          <p:cNvSpPr/>
          <p:nvPr/>
        </p:nvSpPr>
        <p:spPr>
          <a:xfrm>
            <a:off x="3643200" y="1928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Správné řeš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Zástupný symbol pro zápatí 7"/>
          <p:cNvSpPr/>
          <p:nvPr/>
        </p:nvSpPr>
        <p:spPr>
          <a:xfrm>
            <a:off x="1500120" y="6286680"/>
            <a:ext cx="64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0755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ŠKAREDÁ </a:t>
            </a:r>
            <a:br>
              <a:rPr sz="7200"/>
            </a:b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STŘEDA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5520" y="2356920"/>
            <a:ext cx="70470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škaredou středu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e nesmíte mračit, jinak se budete mračit každou středu v ro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škaredou středu začínaly tři přísné postní dny. Ženy se oblékaly do tmavých obleků. Končila všechna společenská posedávání, muži omezili kouření a pití. Hlavním pokrmem byla čočka a hrách. Začínala se již také malovat vejce, aby byla připravena na pomlázku.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zápatí 4"/>
          <p:cNvSpPr/>
          <p:nvPr/>
        </p:nvSpPr>
        <p:spPr>
          <a:xfrm>
            <a:off x="1214280" y="6308640"/>
            <a:ext cx="6929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ZELENÝ ČTVRTEK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2781360"/>
            <a:ext cx="72630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Zelený čtvrtek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usíte časně vstát a omýt se rosou - nebudete nemocní. Hospodyně musí zamést dům ještě před východem slunce a smetí odnést na křižovatku - nebudete mít v domě blechy. V Orlických horách se házel do studny chléb s medem - aby v ní byla voda celý rok. Také jidáše s medem zaručovaly zdrav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38" name="Zástupný symbol pro zápatí 4"/>
          <p:cNvSpPr/>
          <p:nvPr/>
        </p:nvSpPr>
        <p:spPr>
          <a:xfrm>
            <a:off x="1500120" y="6245280"/>
            <a:ext cx="635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0:10:19Z</dcterms:created>
  <dc:creator>zak</dc:creator>
  <dc:description/>
  <dc:language>en-US</dc:language>
  <cp:lastModifiedBy>martina</cp:lastModifiedBy>
  <dcterms:modified xsi:type="dcterms:W3CDTF">2013-08-22T15:04:34Z</dcterms:modified>
  <cp:revision>49</cp:revision>
  <dc:subject/>
  <dc:title>VELIKONCE</dc:title>
</cp:coreProperties>
</file>