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D1BA-A3A5-4C23-B83D-E68BB7B19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2AF9-31AD-4214-BBE0-5A7C120C19FD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4AA-BEAD-45D4-9DC9-46148915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C38D-162B-4566-93E6-21B7C595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8BE-1658-4708-90C9-B41D9B07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913-2B80-4767-B56E-6440A526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E5D7-A8D9-4091-9D0A-381373E1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1646-9767-4644-8647-17B92CCD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9FBD-8E03-4FB7-A7BB-651BBD44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865E-20AE-4883-8C19-F2D9E8E7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0D4C-8C45-4B99-B468-A9B9F457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6B1D-125A-4481-8216-669DD1BE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3372-7C93-4B63-BA61-A5CA90C1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DCD-6DFD-4552-8753-EA9F42CB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3248-C030-478E-9A37-B24F9739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8643-4637-466E-A1A6-D3974543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63DE-12A3-4E75-8885-DF9B8ADB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00B4-B652-4E0F-96A6-F14CF2BA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797A-5E48-4C45-A282-F23E3EE8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7F6A7-6E52-4472-ABA5-7DEE580F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AEC50-C6E8-4165-B55C-B036E7B8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87664-455B-4E25-9E10-F77A78CA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951BA-74E8-44A9-8AF3-310C4EE1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8E580-A662-4DF8-845E-4FC1DCDC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8D31-8C4E-4B71-8ECF-2ACD4443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2C51D-DC38-4BF1-9EC1-504C0C74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B489E-DD69-4997-943D-03359041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F7363-1519-4240-A605-501F8179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0C1AC-EBEC-4591-9FD5-61CBB6B4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5DCE6-A522-4D89-870A-91E7D871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D7335-1539-4347-8CC7-FE1EAD9F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497E1-6707-45A5-9577-8398D873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E967D-569B-4F87-B31C-B8CF7584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BBE44-6E84-4C62-AA28-9B3C9421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36E39-06D1-4DC6-A71E-798DBE06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00C-A840-49AA-A670-715199E8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F35E7-1A3D-4CE5-9E48-DAE57857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2C3CD-85CC-4934-81C0-55B812A9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9241F-F98D-4E35-903E-E42FB93D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5E4DC-D90A-4E82-B1E4-B1D4F512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746E5-E563-4627-98A6-F267E155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C4457-0BAD-4D6B-8FC5-25D1A25D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39FB2-320A-4806-82E4-122974F6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C202E-1C73-4945-AE1A-A6D565C2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2BF22-87CA-4B71-A37F-55026E8F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9A34C-4240-4222-B672-9A1B1CC7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F325-4ED2-461E-AD70-89BC8F67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91909-0091-4717-B442-5FC83158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231E2-4A23-4F7F-BDA6-40A6CC9A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2BB80-3322-4F63-B445-52262B75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B26EC-DDFE-44A3-9471-15398811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E6375-3B78-4549-9DD3-FC739615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2C29C-C4C7-4BB1-916D-4A0C63E1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26C00-DB0B-40F8-A5E6-3295BC03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66B72-3918-4B89-A509-AED30A2E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15945-54B8-4866-AA91-FD6F97BD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2FC3F-5083-4D4A-973A-51E499F8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A1A-792F-4F9B-931F-DA790577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FEE56-456B-4F96-B0DF-D934C9AF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DA3EA-5435-4357-97D8-3E64B3DD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8BA54-1952-46BE-93DB-A1319A0F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B3ED7-6B2A-48F9-8A61-92A387C0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C4A3C-04EE-4C07-B2E9-3E54E238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967CD-4F4D-470F-95FF-0962CB80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0799D-687D-41B6-8343-5E1555B1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2C324-D2B7-4177-B3BD-AE4E3EB8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8DABA-EFAF-45DE-93F9-14CE9660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D3707-08C9-41DE-83D8-CC19052B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66B6-03E1-4912-A45F-1B1FF15F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7ED9B-E698-44A2-BADC-4D5C95B5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1BB46-BCD0-4432-B571-30CEB322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773C2-3114-48C6-85AB-503938BE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E31-D8EA-4401-BAB4-9BD4E39C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1A6-5109-4353-A428-1E9FDCD5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F4B2-C12D-4B04-988D-55011A78413F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3454-BC02-4307-BBE0-064139866A32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E5C6-4161-45B2-99D7-6E5566792B4A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1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E346-5348-4234-9DBD-808B38A32942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1DBA-0174-413B-BAB2-3C9C6F379B4A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1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E430-352C-450A-8898-B224CD895B86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8A3F-A7A7-44CB-8803-E688F06472F8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6718-D886-4C93-8D09-D395E8F72D5B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1B08-ABFD-46B2-8243-CC9B10203DCA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85EE-76BA-4060-AAC8-AE08709A8173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6BCA-095F-4262-801D-EE3AFCD4A5AF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89D3-E5A2-4D19-B0C9-69365C5C6A36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Nadpis 1" descr=""/>
          <p:cNvPicPr/>
          <p:nvPr/>
        </p:nvPicPr>
        <p:blipFill>
          <a:blip r:embed="rId1"/>
          <a:stretch/>
        </p:blipFill>
        <p:spPr>
          <a:xfrm>
            <a:off x="281160" y="3176640"/>
            <a:ext cx="8637480" cy="24858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13840" y="928800"/>
            <a:ext cx="849636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Franklin Gothic Book"/>
              </a:rPr>
              <a:t>Vyhledávání dopravního spojen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Zástupný symbol pro zápatí 3"/>
          <p:cNvSpPr/>
          <p:nvPr/>
        </p:nvSpPr>
        <p:spPr>
          <a:xfrm>
            <a:off x="0" y="558972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Nový začátek (New start) CZ.1.07/1.4.00/21.1409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575316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Zástupný symbol pro zápatí 3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Vytvořeno dne 17. 3. 2012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9280" y="1052640"/>
          <a:ext cx="8715600" cy="368748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yhledávání informací na Internetu</a:t>
                      </a: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-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yhledávání dopravního spoje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ezentace je zaměřena na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yhledávání informací na internetu, především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yhledávání dopravního spojení a jeho využití pro cestování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INF – vyhledat potřebné informace na internetu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Rectangle 1"/>
          <p:cNvSpPr/>
          <p:nvPr/>
        </p:nvSpPr>
        <p:spPr>
          <a:xfrm>
            <a:off x="179280" y="5742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č. 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358120" cy="227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Jízdní řád na Internetu najdeme snadno v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hledávači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nebo přímo zadáním adresy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www.jizdnirady.cz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(resp.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www.idos.cz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) 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Načte se nám následující stránka: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V roletc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Jízdní řády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vyberem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způsob přepravy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–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lak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 autobus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 letadlo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MHD (město)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nebo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kombinace vlak + autobus atd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9" name="obrázek 150" descr="44EB893E"/>
          <p:cNvPicPr/>
          <p:nvPr/>
        </p:nvPicPr>
        <p:blipFill>
          <a:blip r:embed="rId1"/>
          <a:stretch/>
        </p:blipFill>
        <p:spPr>
          <a:xfrm>
            <a:off x="428760" y="2643120"/>
            <a:ext cx="8229600" cy="3714840"/>
          </a:xfrm>
          <a:prstGeom prst="rect">
            <a:avLst/>
          </a:prstGeom>
          <a:ln w="0">
            <a:noFill/>
          </a:ln>
        </p:spPr>
      </p:pic>
      <p:sp>
        <p:nvSpPr>
          <p:cNvPr id="270" name="Zástupný symbol pro zápatí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467480" cy="285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Kliknutím do políček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Odkud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a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Kam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napíšeme místa naší cesty.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Rozhodneme se, zda zaškrtneme políčko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Pouze přímá spojení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(bez přestupů).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V případě hledání s přestupy je maximální počet možných přestupů omezen na 4 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obrázek 144" descr="9AC0AA8C"/>
          <p:cNvPicPr/>
          <p:nvPr/>
        </p:nvPicPr>
        <p:blipFill>
          <a:blip r:embed="rId1"/>
          <a:stretch/>
        </p:blipFill>
        <p:spPr>
          <a:xfrm>
            <a:off x="500040" y="3286080"/>
            <a:ext cx="7467480" cy="2417760"/>
          </a:xfrm>
          <a:prstGeom prst="rect">
            <a:avLst/>
          </a:prstGeom>
          <a:ln w="0">
            <a:noFill/>
          </a:ln>
        </p:spPr>
      </p:pic>
      <p:sp>
        <p:nvSpPr>
          <p:cNvPr id="273" name="Zástupný symbol pro zápatí 4"/>
          <p:cNvSpPr/>
          <p:nvPr/>
        </p:nvSpPr>
        <p:spPr>
          <a:xfrm>
            <a:off x="0" y="6286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2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Vyplníme políčka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Datum a čas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a to kliknutím do políček a následným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psáním čísel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nebo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bráním z kalendáře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 Můžeme využít i nakliknutím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pomocí šipek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Zaškrtnem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Odjezd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a klikneme na políčko </a:t>
            </a:r>
            <a:r>
              <a:rPr b="1" lang="cs-CZ" sz="2800" spc="-1" strike="noStrike">
                <a:solidFill>
                  <a:srgbClr val="ff0000"/>
                </a:solidFill>
                <a:latin typeface="Franklin Gothic Book"/>
              </a:rPr>
              <a:t>HLEDAT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5" name="obrázek 1" descr="60214B8A"/>
          <p:cNvPicPr/>
          <p:nvPr/>
        </p:nvPicPr>
        <p:blipFill>
          <a:blip r:embed="rId1"/>
          <a:stretch/>
        </p:blipFill>
        <p:spPr>
          <a:xfrm>
            <a:off x="500040" y="2143080"/>
            <a:ext cx="7467480" cy="3929040"/>
          </a:xfrm>
          <a:prstGeom prst="rect">
            <a:avLst/>
          </a:prstGeom>
          <a:ln w="0">
            <a:noFill/>
          </a:ln>
        </p:spPr>
      </p:pic>
      <p:sp>
        <p:nvSpPr>
          <p:cNvPr id="276" name="Zástupný symbol pro zápatí 4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Zobrazí se nám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tabulka spojů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57132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Kadaň » Pra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0" y="3929040"/>
          <a:ext cx="9144000" cy="24541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917640"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Dat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dkud/Přestup/K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říj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dj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oz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Spoj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.7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Kadaň,,aut.nádr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8: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421292 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raha,,ÚAN Florenc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1: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5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47520" rIns="47520" tIns="9540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Celkový čas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 hod 25 min</a:t>
                      </a: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, vzdálenost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18 km</a:t>
                      </a: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, cena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32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ffff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Autobusy Karlovy Vary, a.s.; Karlovy Vary; 353 226 2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ffff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jede v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0" y="1071720"/>
          <a:ext cx="9144000" cy="27874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631800"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Dat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dkud/Přestup/K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říj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dj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oz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Spoj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.7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Kadaň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7: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7: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s 1765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Kadaň-Prunéřov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7: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7: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R 611 Karlex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raha hl.n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0: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53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47520" rIns="47520" tIns="9540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Celkový čas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 hod 46 min</a:t>
                      </a: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, vzdálenost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95 km</a:t>
                      </a: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, cena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54 Kč / IN50 127 Kč / IN25 191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ffff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České dráhy, a.s.; nábřeží L.Svobody 1222/12, 110 15 Praha 1; +420 840 112 1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Zástupný symbol pro zápatí 4"/>
          <p:cNvSpPr/>
          <p:nvPr/>
        </p:nvSpPr>
        <p:spPr>
          <a:xfrm>
            <a:off x="0" y="642132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715160" cy="3500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Jízdní řád nám nabízí i další informace a možnosti využití.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Můžem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hledat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-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předchozí i následující spoje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         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zpáteční spojení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         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hledat nová spojení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nebo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měnit zadání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Jízdní řád můžem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tisknout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3" name="obrázek 1" descr="71AC7866"/>
          <p:cNvPicPr/>
          <p:nvPr/>
        </p:nvPicPr>
        <p:blipFill>
          <a:blip r:embed="rId1"/>
          <a:stretch/>
        </p:blipFill>
        <p:spPr>
          <a:xfrm>
            <a:off x="428760" y="3857760"/>
            <a:ext cx="7467480" cy="1857240"/>
          </a:xfrm>
          <a:prstGeom prst="rect">
            <a:avLst/>
          </a:prstGeom>
          <a:ln w="0">
            <a:noFill/>
          </a:ln>
        </p:spPr>
      </p:pic>
      <p:sp>
        <p:nvSpPr>
          <p:cNvPr id="284" name="Zástupný symbol pro zápatí 4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2T15:51:32Z</dcterms:created>
  <dc:creator>ZS Kadan</dc:creator>
  <dc:description/>
  <dc:language>en-US</dc:language>
  <cp:lastModifiedBy>martina</cp:lastModifiedBy>
  <dcterms:modified xsi:type="dcterms:W3CDTF">2013-08-22T15:07:06Z</dcterms:modified>
  <cp:revision>20</cp:revision>
  <dc:subject/>
  <dc:title>Práce s Internetem – vyhledávání informací</dc:title>
</cp:coreProperties>
</file>