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7C99-7739-40CA-9771-FBBBC75AB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B42-F712-4A6E-A41C-A800CF158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578-D104-469C-8BC2-6FD983E6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C9B-0E4C-4427-AC5C-50FEE885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1EC-C8EB-427E-8639-1B1B769A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F11-C9AA-4700-9FCD-820DEB07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609D-0C3B-48E3-AA2D-93C68F9F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9E33-901E-45DB-BC8B-12D16219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8E2C-764A-406C-9932-631D11CC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B90E-4A4A-483D-B470-FD19C61A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6F89-6EFE-4E50-A471-4F126EEA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D7FB-42AC-452A-A856-A60B6C50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63A9-9CE7-4423-BFA3-14C6B536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2AA-AC38-4138-850B-0C49FBAA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BF17-0FBA-4835-BFA2-61B7653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DE4C-0812-4793-91D0-A1E57C6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7721-FD24-4A1E-9683-8A5E9D4C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37CE-6973-4C70-9FC6-47FAFA50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9D72-0DF7-4E53-8A9C-44F5F553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180-60F0-4603-8A66-3101D862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7AE-178D-4E1D-8B3F-D6F199FD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84A-5FDF-421C-9372-5CA0102A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EC3-4351-4A73-8FA3-AB211DC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663-9FA5-4207-9342-238E5E4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03A-3F29-4311-AE6F-DAF9632E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9F1-B1CC-463F-9653-BF0DCDDE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EFBA-070E-4538-B07A-8C01931251AA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FBB3-151A-40A4-ACF0-1F9FF173E5E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2247-3D48-475F-94CE-D6EDA7661CBC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729D-800B-44B8-A2B1-012EBD1269A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800" spc="-1" strike="noStrike">
                <a:solidFill>
                  <a:srgbClr val="006666"/>
                </a:solidFill>
                <a:latin typeface="Arial"/>
              </a:rPr>
              <a:t>Internet</a:t>
            </a:r>
            <a:endParaRPr b="0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04560" y="2776320"/>
            <a:ext cx="569124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Svobodné méd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Zástupný symbol pro zápatí 3"/>
          <p:cNvSpPr/>
          <p:nvPr/>
        </p:nvSpPr>
        <p:spPr>
          <a:xfrm>
            <a:off x="0" y="5780160"/>
            <a:ext cx="914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3"/>
          <p:cNvSpPr/>
          <p:nvPr/>
        </p:nvSpPr>
        <p:spPr>
          <a:xfrm>
            <a:off x="250920" y="5732640"/>
            <a:ext cx="864216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052640"/>
          <a:ext cx="8715600" cy="412416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internetem z hlediska svobodného média a jeho významem pro dnešní dobu. Žáci se seznámí s jeho historií, službami, které poskytuje a způsoby připojení k němu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179280" y="5349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Co je to Intern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pojené počítačové sítě celého světa, které mají za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cíl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ci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a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enos dat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ezi jednotlivými počítač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aždý připojený počítač má svo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IP adres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192.168.0.1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92.243.202.14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Zástupný symbol pro zápatí 3"/>
          <p:cNvSpPr/>
          <p:nvPr/>
        </p:nvSpPr>
        <p:spPr>
          <a:xfrm>
            <a:off x="611280" y="59292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7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Histor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052640"/>
            <a:ext cx="801396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60. – 70. léta: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ARPA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xperiment, cca 50 počítačů v sí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80. léta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pojeno cca 1 000 počítač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1987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ojem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 síti připojeno asi 30 000 počítač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90. léta: Internet se stává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erční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hlížeče, v síti cca 50 milion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00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50 milionů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10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řes 2 miliardy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250920" y="6237360"/>
            <a:ext cx="8642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-171720"/>
            <a:ext cx="7686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lužb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99640" y="691920"/>
            <a:ext cx="7758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www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webové stránky (protokol http, http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e-mail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lektronická poš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FTP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enos souborů (Total Commande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č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elefon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Sky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nline komunikace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ICQ, Messenger, Face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ciální sítě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facebook, Twit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dílení soubor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Zástupný symbol pro zápatí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řipoj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1052640"/>
            <a:ext cx="783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prostředkovatel připojení je provi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ychlost v bitech za sekundu (b/s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b/s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OZOR!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1 byte = 8 bit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xistuje několik různých způsobů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ipojen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telefonní – ADSL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kabelovou televiz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Wi-Fi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      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obilním telefonem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Zástupný symbol pro zápatí 3"/>
          <p:cNvSpPr/>
          <p:nvPr/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ile:Routing.gif"/>
          <p:cNvPicPr/>
          <p:nvPr/>
        </p:nvPicPr>
        <p:blipFill>
          <a:blip r:embed="rId2"/>
          <a:stretch/>
        </p:blipFill>
        <p:spPr>
          <a:xfrm>
            <a:off x="6572160" y="3571920"/>
            <a:ext cx="2089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bový prohlížeč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7280" y="1773360"/>
            <a:ext cx="731376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rogram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umožňující prohlížení www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í číst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http://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Explor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Google Chro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Mozil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Safa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Zástupný symbol pro zápatí 3"/>
          <p:cNvSpPr/>
          <p:nvPr/>
        </p:nvSpPr>
        <p:spPr>
          <a:xfrm>
            <a:off x="0" y="6143760"/>
            <a:ext cx="88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ové zdroje obrázků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26920" y="1599840"/>
            <a:ext cx="810288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šechny uveřejněné odkazy [cit. 2012-02-24] dostupné pod licencí Creative Commons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wikimedia.or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rnet. připojení -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Routing.gi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íťová karta - </a:t>
            </a:r>
            <a:r>
              <a:rPr b="0" i="1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Ethernet_pci_card.jp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Zástupný symbol pro zápatí 3"/>
          <p:cNvSpPr/>
          <p:nvPr/>
        </p:nvSpPr>
        <p:spPr>
          <a:xfrm>
            <a:off x="179280" y="585792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4:24:17Z</dcterms:created>
  <dc:creator>ZS Kadan</dc:creator>
  <dc:description/>
  <dc:language>en-US</dc:language>
  <cp:lastModifiedBy>martina</cp:lastModifiedBy>
  <dcterms:modified xsi:type="dcterms:W3CDTF">2013-08-22T15:06:08Z</dcterms:modified>
  <cp:revision>21</cp:revision>
  <dc:subject/>
  <dc:title>Snímek 1</dc:title>
</cp:coreProperties>
</file>