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4316-AF91-45C3-A305-BCF34F1A8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9044-5FC1-4022-83E0-B88E978FD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F82-2AC3-4026-A938-7DDFEDC9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EA9-90E4-43EA-AB05-5DBAE54B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A18-57F2-4AE8-BB62-1EB70BE3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2BD-F418-47C3-9C44-744ED386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7D39-E5DF-4BD1-A0F1-8F445448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970E-6C4A-4CD1-9A3D-4B093994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7C04-B86B-4CBA-85F0-8D9E62E7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CB07-A2CA-441C-809D-596070B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E165-0A73-4455-B373-2B37017B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6BF8-A53D-4339-9061-A01B5371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671A-D0F5-4B34-9088-26FB0DF2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86B-C82A-4CF1-B194-F27C28C2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C624-CDCF-4E6C-B846-8111ACF9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1A0D-8E53-4006-A78C-77A9AEB7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E733-12AB-4614-A8B9-39D84488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B455-4685-46F0-A9CD-91629D58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D3E4-BDB3-47C2-AB14-705599CE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D314-3846-4D95-A53E-1F3BF089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AE05-FDE2-4B5B-920D-60704122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BA1D-9479-4E22-A904-AB342A26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D91C-38C0-45F3-9961-79F13BFD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1A92-903D-4FA1-8BE0-D2921D31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00B-2317-42FC-8CC9-96078F55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5FBA-45B6-4B6B-ACDB-8F6718E3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5515-EA27-4C0B-9A9C-5D007A1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6D5E-D7F6-4897-9A1C-1AC04659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9A4A-FC15-4F88-B0EE-53BCCBA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1C4D-2FAB-4BF5-908C-B99BCFA1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9D60-7B24-4EA4-BA22-A56D919E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4876-6D30-4EE0-B521-06F27D9B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4E110-1999-4FCE-8004-27030068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10AE-D719-409D-B4A2-D41A4595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76C2-4DF5-4159-A3FB-8D991B21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106-9E7E-4D66-BE24-D6994F89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01BC4-C7E5-4799-918D-B9644947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9175A-DB2B-4661-99C0-02596C32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2144C-5650-4931-B4A3-CF702ED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88B0E-6E1F-4CCD-B652-F7DD99B3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0A16-876C-4B44-BC20-2BF081A7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724F-2DB1-42AC-AB01-6D1CE30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04A6-86E7-4858-8231-02893FAC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622C7-EF1F-4C1B-A34C-BDEF745E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04E3-5E44-431F-98A1-3F6201D3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1625B-0A0A-4A02-A606-F4D579D9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2C6-7738-45CE-88FB-16494505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F93B7-932D-45C4-9245-C98D62ED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4DE3-73C9-43AC-ACD8-2DA874D3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72560-0529-4C16-A219-D0528684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24699-BCCF-41C6-ACFF-1B11AAC5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D6427-0C95-4047-A752-1A5D6A09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98A6-ED18-489A-8A65-88F4CA3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67560-6E23-4FA6-94AF-9932BC1B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73B8A-FED5-4CEF-9E30-83C9FF91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371B-3A9D-4A11-894A-56CE41E7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1589-0ACF-404B-8E55-F4E84A45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231-E007-4D19-AC62-B8DE9B26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5108A-FABE-4C1A-BE5B-2B739495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5B9F3-AE4A-4282-90E1-BCD44359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634FE-2F27-4D13-B369-89976F98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73288-4B48-4E9D-99D3-08097A58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8536A-7145-4FF1-9016-713B31F9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C12B7-6063-4BDD-8C58-ED8E126D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16D2-58AF-4472-A5D2-191DB86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CB9F-4DBE-4B45-B0A7-9C5218F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7088-9912-43BB-B01D-DEF13662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BCE01-6EFF-455A-B8EB-A0439A5F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A66-BC4B-4305-B17E-8B1BC8DF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8108A-E3FB-4745-85B7-919D63A0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CE1F0-F3E6-4147-91B8-55E3FA96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7A7FF-4006-4A8A-B3B0-A143B135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0A60A-1D58-4ADB-A65A-ACAB4C1D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9B64B-A69D-41B2-B6B1-31D1CF0B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CB5C-E5C9-437D-942A-08137BFD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6FDA-A511-443B-9CE9-BAFE3C33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A50AD-B273-46FE-AC7C-5FBFE69D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D130B-60E1-4970-9C7E-0ECF0ACD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0A980-8D9F-40F8-A5D2-2FDD7C2A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78F-DF33-430A-9346-2D883C24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B6DE4-D931-412C-BF70-42DF2D97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EFCF-3F20-442A-95C3-780AE7E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19555-C969-437A-A450-FCDA3C47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4C430-522C-46B2-8ADF-64BE6F43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A16C5-DF12-46DA-B71E-14938857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3DF-5F37-4F3B-A71F-1B78475E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177E-3D14-41F6-84FD-AED6F336D4C6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0B69-D186-4ECB-86F5-D6CEFAD4D042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EEF9-85E1-42E7-A3B2-7649AF5F7314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0CB1-3EA6-421F-A077-819EFB0E0F2F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CA18-CB9A-47A4-A3B0-C1F30DE24AD2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E9AC-20B6-4C26-95B0-C891CAC67030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7B62-7DF2-4042-ACD7-ABD010AAFDB2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35AF-8729-440F-92B5-0FD81C8CD054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élní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élní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ED61-4C8C-41AC-B18A-F31B1D640416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AC57-86C9-461F-BE20-55A43095C6DE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2E7E-A58D-4A74-98DA-E60EFE91FC41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57A5-F41E-404A-B798-DA3E229E1B14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élní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Obdélní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ostup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ostup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8457-1F96-4594-8112-17AB7610511B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BFAB-A350-48FC-A7B7-D598966A6739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MS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PowerPoint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2003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stup tvorby prezenta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1332000" y="5734080"/>
            <a:ext cx="72784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8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332000" y="1447560"/>
            <a:ext cx="7602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Hotovou prezentaci spustíme nabídkou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e – Spustit prezentaci 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 možností (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Od začát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, 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Z aktuálního sním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…)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Spustit</a:t>
            </a:r>
            <a:r>
              <a:rPr b="1" lang="cs-CZ" sz="41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i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můžeme také přes klávesnici – </a:t>
            </a:r>
            <a:r>
              <a:rPr b="1" lang="cs-CZ" sz="4100" spc="-1" strike="noStrike">
                <a:solidFill>
                  <a:srgbClr val="c00000"/>
                </a:solidFill>
                <a:latin typeface="Gill Sans MT"/>
              </a:rPr>
              <a:t>F5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Zástupný symbol pro zápatí 4"/>
          <p:cNvSpPr/>
          <p:nvPr/>
        </p:nvSpPr>
        <p:spPr>
          <a:xfrm>
            <a:off x="1928880" y="6000840"/>
            <a:ext cx="66816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Zástupný symbol pro zápatí 3"/>
          <p:cNvSpPr/>
          <p:nvPr/>
        </p:nvSpPr>
        <p:spPr>
          <a:xfrm>
            <a:off x="1332000" y="5516640"/>
            <a:ext cx="6669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0920" y="981000"/>
          <a:ext cx="8643960" cy="3888000"/>
        </p:xfrm>
        <a:graphic>
          <a:graphicData uri="http://schemas.openxmlformats.org/drawingml/2006/table">
            <a:tbl>
              <a:tblPr/>
              <a:tblGrid>
                <a:gridCol w="3343320"/>
                <a:gridCol w="53006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 - postup tvorby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v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Žáci se seznámí s obsahem panelu nástrojů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Rectangle 1"/>
          <p:cNvSpPr/>
          <p:nvPr/>
        </p:nvSpPr>
        <p:spPr>
          <a:xfrm>
            <a:off x="468360" y="41004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cs-CZ" sz="65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1)</a:t>
            </a:r>
            <a:r>
              <a:rPr b="0" lang="cs-CZ" sz="65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</a:t>
            </a:r>
            <a:br>
              <a:rPr sz="39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puštěním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ogramu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werPoint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se objeví na ploše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rvní prázdný snímek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ezentace většinou jen pro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nadpis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Zástupný symbol pro zápatí 4"/>
          <p:cNvSpPr/>
          <p:nvPr/>
        </p:nvSpPr>
        <p:spPr>
          <a:xfrm>
            <a:off x="1571760" y="5445000"/>
            <a:ext cx="7038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2)</a:t>
            </a:r>
            <a:r>
              <a:rPr b="0" lang="cs-CZ" sz="60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ávrh grafiky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klikneme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ávrh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 po straně se nám otevře dialogové okno se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šablonou grafických návrh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barevným spektrem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animačním schématem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 pro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všechny snímky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ebo jen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ro vybraný snímek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 a vše potvrdíme kliknutím</a:t>
            </a:r>
            <a:r>
              <a:rPr b="0" lang="cs-CZ" sz="27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Zástupný symbol pro zápatí 4"/>
          <p:cNvSpPr/>
          <p:nvPr/>
        </p:nvSpPr>
        <p:spPr>
          <a:xfrm>
            <a:off x="1785960" y="6143760"/>
            <a:ext cx="6753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3)</a:t>
            </a:r>
            <a:r>
              <a:rPr b="1" lang="cs-CZ" sz="54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Vložení dalšího snímk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ový snímek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tvoříme kliknutím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se stejným nápisem v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 straně se nám otevře okno se způsoby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rozložení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snímk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dle obsahu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(Napis a obsah, Dva obsahy, Obrázek s titulkem …)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tvrdíme kliknutím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Zástupný symbol pro zápatí 4"/>
          <p:cNvSpPr/>
          <p:nvPr/>
        </p:nvSpPr>
        <p:spPr>
          <a:xfrm>
            <a:off x="1785960" y="6000840"/>
            <a:ext cx="68245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4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Psaní text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Kliknutím d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yznačeného rámečku napíš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zkopírujete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ext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aformátuj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stejně jako u Wordu (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ísma</a:t>
            </a:r>
            <a:r>
              <a:rPr b="1" lang="cs-CZ" sz="3200" spc="-1" strike="noStrike">
                <a:solidFill>
                  <a:srgbClr val="4f271c"/>
                </a:solidFill>
                <a:latin typeface="Gill Sans MT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elikost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barva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učné písmo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formátování odstavců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arovnání textu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1500120" y="6000840"/>
            <a:ext cx="7110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280" y="285480"/>
            <a:ext cx="86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3891a7"/>
                </a:solidFill>
                <a:latin typeface="Gill Sans MT"/>
              </a:rPr>
              <a:t>5)</a:t>
            </a:r>
            <a:r>
              <a:rPr b="1" lang="cs-CZ" sz="49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900" spc="-1" strike="noStrike" u="sng">
                <a:solidFill>
                  <a:srgbClr val="4f271c"/>
                </a:solidFill>
                <a:uFillTx/>
                <a:latin typeface="Gill Sans MT"/>
              </a:rPr>
              <a:t>Vložení Klipártů, obrázků 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268280"/>
            <a:ext cx="789156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tlačítk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ení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můžeme do prezentace vkládat:                      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rozvinutou nabídku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po straně       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obrázky ze souboru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 přes dialogové okn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it obrázek                         grafy                                                          zvuk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- přes výběr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Galerie médi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ýběr potvrdíme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Entrem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kliknutí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Zástupný symbol pro zápatí 4"/>
          <p:cNvSpPr/>
          <p:nvPr/>
        </p:nvSpPr>
        <p:spPr>
          <a:xfrm>
            <a:off x="1428840" y="6000840"/>
            <a:ext cx="71816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6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Animace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Animovat můžeme celou prezentaci, jednotlivé snímky nebo jen části snímk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ybereme ji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Animačních schéma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, které rozvineme 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vrhu snímk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3891a7"/>
                </a:solidFill>
                <a:uFillTx/>
                <a:latin typeface="Gill Sans MT"/>
              </a:rPr>
              <a:t>Animační schémata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: Rolovat, Lupa, Rozvinout, Prolínání, Vystupovat at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lačítkem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hled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si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můžeme jednotlivé animace prohlédn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Zástupný symbol pro zápatí 4"/>
          <p:cNvSpPr/>
          <p:nvPr/>
        </p:nvSpPr>
        <p:spPr>
          <a:xfrm>
            <a:off x="1428840" y="6000840"/>
            <a:ext cx="72151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7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astave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Zaškrtnutím nastavíme upřesněné možnosti pro celou prezentaci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rezent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Možnosti zobrazen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obrazení snímků a jejich přechod na dalš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Zástupný symbol pro zápatí 4"/>
          <p:cNvSpPr/>
          <p:nvPr/>
        </p:nvSpPr>
        <p:spPr>
          <a:xfrm>
            <a:off x="1500120" y="6072120"/>
            <a:ext cx="711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20:18:49Z</dcterms:created>
  <dc:creator>ZS Kadan</dc:creator>
  <dc:description/>
  <dc:language>en-US</dc:language>
  <cp:lastModifiedBy>martina</cp:lastModifiedBy>
  <dcterms:modified xsi:type="dcterms:W3CDTF">2013-08-22T15:03:47Z</dcterms:modified>
  <cp:revision>29</cp:revision>
  <dc:subject/>
  <dc:title>     MS PowerPoint 2003</dc:title>
</cp:coreProperties>
</file>