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8F16-C9C1-41AE-9901-ED5036875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5677-499C-49A3-A6FE-7A105A510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F1A-13BF-4FDE-B0D5-5D5AB19D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371-8AC9-44DA-AB2F-2DE5F176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505-7293-49D2-AE8C-928CD4C5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3F6-D178-43BF-95AB-3F4D31EF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52B9-9F6A-42CE-A2F0-DEE70EA9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A090-3DA1-45AB-BA93-EDB00305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A97C-B07C-463F-90FD-F1E2E407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C10D-B179-499C-B28C-3B1FA57D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E013-9857-4575-AA8A-7EB4441B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CCFD-F061-4EB5-8C7E-D49DEDE3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960C-460C-4012-A62F-D992912E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F12-0FBD-4E5E-935D-98D458DC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4EA7-8DA3-45CF-8C30-E6A525A0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956D-FA30-4EF0-A6F5-624F586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6124-EB6C-4FBE-9445-EC2A459B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0AFB-82CD-4BA1-892B-7115FF46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59D8-FC44-462A-80B8-D59303F2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8259-7C10-4216-8F4C-AE0D72DB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D19C-D537-4239-B181-FE2358F5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1371-074A-4830-B0EC-F14E252C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D6619-CB15-47DA-B4A4-1101F6CC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D68D-45C0-408A-9AAB-8CFDDA83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C59-B4AD-4AA3-9E8F-B2C63BD3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353C-50E7-4858-9148-DAE98F34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6BE4-4D49-43D0-A127-E81222F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AFDE-7E25-4537-A44D-1DA5E13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4D9A-1564-4A83-836A-E5CC1C59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B9BE-CE16-4DB3-B9E7-5D51475C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C98D-C0B1-4867-A6D7-4F342FAE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9D60-6128-4CFA-872A-9F0DA0B7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D9B6-66DD-4677-AC7C-E0834B49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7F6D-B6C1-4373-B0E4-019A446F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C274C-2D11-4C8B-9E67-31413222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A36-0487-4C7D-82C3-D0172F52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FEB1-DB84-4EFC-B313-983EB8C3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6D29-E055-4F72-935A-F61E1F8C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FC27-EEDD-49DB-B24A-426008B3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DCDA-25B5-4C74-B694-F2A22C0E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8DD5-889A-4860-8E64-98FA02A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3C2F-ADAF-4234-A0F5-7551BE4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968D8-CF51-42EF-B4FC-EEC4ACFE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3A273-1DC4-47ED-96B5-0F056402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CAD2-E798-45A9-9DD1-AE31C3CE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055C0-02D1-4A34-B0E7-47AF832B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B2C-1ECB-4EC4-B8FE-059040AD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3581E-353E-4055-8268-619B1DAE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A5F3-C7C8-44B2-9EEC-8F3CF5FB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D5A1-73E7-4317-8AB2-C0A6E283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2BE6-94A3-4F70-ABB8-905DDBA1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A9E39-EE97-4364-A7FE-B4A5C805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F22FE-4CCC-48B0-8EFF-273FE6EF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4A44E-E7AA-4942-84F2-F32D27E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DDD9-4641-4034-B297-EE94190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CCD36-2BCC-4826-BE47-A1E0E5E8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F4870-33DC-4EBC-B61F-FCC26ED5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891-2EA7-4FD9-A385-6CEEB688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D047-7C64-49EE-904F-34E54882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DBDBC-DF48-48E3-95D8-AD76EA31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37BEF-F446-4480-B002-AE28E38F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DDC73-A034-4576-B3AD-504309FF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EEB7-11BA-4B0F-882B-8F6EC4C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E1378-15E2-4428-88E3-DD7BB2C4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08B23-BD4F-4CCD-921B-0CA7CA7D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FF297-760B-4502-81F4-8CB50E6B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34D87-A343-4F07-ABD3-63BDE383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7A27-0D33-4276-8133-1D30C3DC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ED5-F182-464A-9B0A-4EAF01FD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E3B9-A9B7-448B-A732-79E18F1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6F388-F4B2-460F-8DAD-99EA9FAE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3BB83-B09A-4013-8B6B-AB42BB2F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BDEA6-1EE4-4195-8927-D00C212D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6B0D-CF24-4A3A-9284-49AF5C84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E2A3-6BF3-41AD-8C64-AD91EF14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1E6D-9223-4303-BEE0-C1C1C6FB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D7841-9102-4F5D-B6E1-B463ED44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A8998-2FA0-4097-B34B-D62FA2FC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0358B-3786-434E-9465-C0EBB06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8E3-39C3-441F-8F7B-A3BFC81A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7C6D6-9F93-4C6D-AD4D-F2B45EF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D73EE-8AAA-4DCE-92AE-A1FBBBA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8485E-057F-4E27-8A49-115E4178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E69B-ACC5-4F49-91B0-E66846CE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05C1D-BCCD-4FBE-9FC4-C8620012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7F1-289B-4F99-9FA3-7C963915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14BE-80D5-4AF8-9B84-6A59ECAB3492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86A1-B8DB-41A9-BF35-1A7B97717545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81F9-4B8B-49E7-8322-1FCC4483591A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61DB-6F8D-4748-926A-F5ABFD1E9878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342C-FB25-49B2-A44C-87B12370C893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2BC8-9A12-45EF-B345-41C0599703C8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803-C09E-42B3-B76F-63746317F60D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F28A-E3FE-4084-8940-1D4A6AAA4C4D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élní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élní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9044-A0AB-4D12-B123-301E43B3B9C0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0B71-C25E-4778-B34F-C3DC08C9E1AE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7CC1-C0F4-4A24-A9E1-646713C57B74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2F91-1A59-4C75-9E32-9EDBF46BF4F1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élní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Obdélní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ostup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ostup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DB30-31B4-4171-9DC1-E38E59D0A1EA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71E7-C2B7-43C6-B311-F1C9FB567177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MS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PowerPoint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2003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stup tvorby prezenta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1332000" y="5734080"/>
            <a:ext cx="72784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8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332000" y="1447560"/>
            <a:ext cx="7602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Hotovou prezentaci spustíme nabídkou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e – Spustit prezentaci 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 možností (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Od začát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, 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Z aktuálního sním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…)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Spustit</a:t>
            </a:r>
            <a:r>
              <a:rPr b="1" lang="cs-CZ" sz="41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i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můžeme také přes klávesnici – </a:t>
            </a:r>
            <a:r>
              <a:rPr b="1" lang="cs-CZ" sz="4100" spc="-1" strike="noStrike">
                <a:solidFill>
                  <a:srgbClr val="c00000"/>
                </a:solidFill>
                <a:latin typeface="Gill Sans MT"/>
              </a:rPr>
              <a:t>F5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Zástupný symbol pro zápatí 4"/>
          <p:cNvSpPr/>
          <p:nvPr/>
        </p:nvSpPr>
        <p:spPr>
          <a:xfrm>
            <a:off x="1928880" y="6000840"/>
            <a:ext cx="66816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Zástupný symbol pro zápatí 3"/>
          <p:cNvSpPr/>
          <p:nvPr/>
        </p:nvSpPr>
        <p:spPr>
          <a:xfrm>
            <a:off x="1332000" y="5516640"/>
            <a:ext cx="6669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0920" y="981000"/>
          <a:ext cx="8643960" cy="3888000"/>
        </p:xfrm>
        <a:graphic>
          <a:graphicData uri="http://schemas.openxmlformats.org/drawingml/2006/table">
            <a:tbl>
              <a:tblPr/>
              <a:tblGrid>
                <a:gridCol w="3343320"/>
                <a:gridCol w="53006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 - postup tvorby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v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Žáci se seznámí s obsahem panelu nástrojů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Rectangle 1"/>
          <p:cNvSpPr/>
          <p:nvPr/>
        </p:nvSpPr>
        <p:spPr>
          <a:xfrm>
            <a:off x="468360" y="41004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cs-CZ" sz="65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1)</a:t>
            </a:r>
            <a:r>
              <a:rPr b="0" lang="cs-CZ" sz="65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</a:t>
            </a:r>
            <a:br>
              <a:rPr sz="39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puštěním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ogramu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werPoint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se objeví na ploše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rvní prázdný snímek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ezentace většinou jen pro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nadpis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Zástupný symbol pro zápatí 4"/>
          <p:cNvSpPr/>
          <p:nvPr/>
        </p:nvSpPr>
        <p:spPr>
          <a:xfrm>
            <a:off x="1571760" y="5445000"/>
            <a:ext cx="7038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2)</a:t>
            </a:r>
            <a:r>
              <a:rPr b="0" lang="cs-CZ" sz="60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ávrh grafiky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klikneme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ávrh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 po straně se nám otevře dialogové okno se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šablonou grafických návrh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barevným spektrem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animačním schématem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 pro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všechny snímky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ebo jen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ro vybraný snímek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 a vše potvrdíme kliknutím</a:t>
            </a:r>
            <a:r>
              <a:rPr b="0" lang="cs-CZ" sz="27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Zástupný symbol pro zápatí 4"/>
          <p:cNvSpPr/>
          <p:nvPr/>
        </p:nvSpPr>
        <p:spPr>
          <a:xfrm>
            <a:off x="1785960" y="6143760"/>
            <a:ext cx="6753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3)</a:t>
            </a:r>
            <a:r>
              <a:rPr b="1" lang="cs-CZ" sz="54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Vložení dalšího snímk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ový snímek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tvoříme kliknutím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se stejným nápisem v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 straně se nám otevře okno se způsoby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rozložení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snímk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dle obsahu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(Napis a obsah, Dva obsahy, Obrázek s titulkem …)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tvrdíme kliknutím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Zástupný symbol pro zápatí 4"/>
          <p:cNvSpPr/>
          <p:nvPr/>
        </p:nvSpPr>
        <p:spPr>
          <a:xfrm>
            <a:off x="1785960" y="6000840"/>
            <a:ext cx="68245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4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Psaní text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Kliknutím d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yznačeného rámečku napíš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zkopírujete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ext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aformátuj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stejně jako u Wordu (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ísma</a:t>
            </a:r>
            <a:r>
              <a:rPr b="1" lang="cs-CZ" sz="3200" spc="-1" strike="noStrike">
                <a:solidFill>
                  <a:srgbClr val="4f271c"/>
                </a:solidFill>
                <a:latin typeface="Gill Sans MT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elikost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barva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učné písmo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formátování odstavců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arovnání textu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1500120" y="6000840"/>
            <a:ext cx="7110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280" y="285480"/>
            <a:ext cx="86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3891a7"/>
                </a:solidFill>
                <a:latin typeface="Gill Sans MT"/>
              </a:rPr>
              <a:t>5)</a:t>
            </a:r>
            <a:r>
              <a:rPr b="1" lang="cs-CZ" sz="49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900" spc="-1" strike="noStrike" u="sng">
                <a:solidFill>
                  <a:srgbClr val="4f271c"/>
                </a:solidFill>
                <a:uFillTx/>
                <a:latin typeface="Gill Sans MT"/>
              </a:rPr>
              <a:t>Vložení Klipártů, obrázků 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268280"/>
            <a:ext cx="789156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tlačítk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ení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můžeme do prezentace vkládat:                      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rozvinutou nabídku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po straně       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obrázky ze souboru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 přes dialogové okn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it obrázek                         grafy                                                          zvuk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- přes výběr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Galerie médi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ýběr potvrdíme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Entrem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kliknutí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Zástupný symbol pro zápatí 4"/>
          <p:cNvSpPr/>
          <p:nvPr/>
        </p:nvSpPr>
        <p:spPr>
          <a:xfrm>
            <a:off x="1428840" y="6000840"/>
            <a:ext cx="71816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6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Animace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Animovat můžeme celou prezentaci, jednotlivé snímky nebo jen části snímk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ybereme ji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Animačních schéma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, které rozvineme 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vrhu snímk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3891a7"/>
                </a:solidFill>
                <a:uFillTx/>
                <a:latin typeface="Gill Sans MT"/>
              </a:rPr>
              <a:t>Animační schémata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: Rolovat, Lupa, Rozvinout, Prolínání, Vystupovat at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lačítkem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hled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si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můžeme jednotlivé animace prohlédn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Zástupný symbol pro zápatí 4"/>
          <p:cNvSpPr/>
          <p:nvPr/>
        </p:nvSpPr>
        <p:spPr>
          <a:xfrm>
            <a:off x="1428840" y="6000840"/>
            <a:ext cx="72151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7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astave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Zaškrtnutím nastavíme upřesněné možnosti pro celou prezentaci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rezent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Možnosti zobrazen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obrazení snímků a jejich přechod na dalš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Zástupný symbol pro zápatí 4"/>
          <p:cNvSpPr/>
          <p:nvPr/>
        </p:nvSpPr>
        <p:spPr>
          <a:xfrm>
            <a:off x="1500120" y="6072120"/>
            <a:ext cx="711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20:18:49Z</dcterms:created>
  <dc:creator>ZS Kadan</dc:creator>
  <dc:description/>
  <dc:language>en-US</dc:language>
  <cp:lastModifiedBy>martina</cp:lastModifiedBy>
  <dcterms:modified xsi:type="dcterms:W3CDTF">2013-08-22T15:03:47Z</dcterms:modified>
  <cp:revision>29</cp:revision>
  <dc:subject/>
  <dc:title>     MS PowerPoint 2003</dc:title>
</cp:coreProperties>
</file>