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1D0F-9644-4001-B23A-35957C698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6342-136B-437E-988A-E218B35B40C1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F44-9F05-4785-9B14-19571504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0452-C871-4A35-B37C-1C2A0FFA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7F9C-F838-41CA-8D1C-1EE17E51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9E6-80E2-419B-8971-73B055A4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6E38-0713-43DB-88EE-F115C28B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972E-4EBE-4919-897C-2ACC74EF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72DB-E0A7-42FC-A9D2-26AE94DC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C068-9849-4FD1-84C8-6C87667F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2076-E6A3-4E11-B77B-7C1BE0C3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FB67-E29B-4155-BCD2-D1E059E9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A628-1867-43F9-88D9-59AF4C08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C4D-5FA0-4F6C-B41D-131A50B3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46A0-8B12-4665-AA8C-DBD06F24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4A69-D871-4E27-ACD2-1DFBD160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B087-E26D-4AE1-AA1A-30CC876B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4B6E-AE77-4324-B70C-A04D24C4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2690-04DD-4061-BCE6-7A24BE37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E841B-602A-4C09-A8CC-09D0B8DD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2628-F89A-4ECC-AA7B-C6FEB161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D9404-3927-4615-A2EB-585ABE37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BE6F9-D33F-415C-A4C8-77411A82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0D822-EF89-47F2-995B-458DB31A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A06-9032-4C71-96BB-5671B5EE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2A435-69ED-4EA3-B980-B5156A4E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3FC2F-F747-4B20-8EFE-A67A1552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EF7EA-9D7B-4DE0-858B-7D0187D1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94B99-8FF1-4A5B-BA4E-1FD1D2DF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C52D-71BA-4B4F-93EA-AE39A434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E838F-14BC-4ECC-BBC5-D72438BF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65678-FF7E-4DFD-A78F-1B9775CB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C7057-50EC-412E-8CCA-B5FE69C0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45F0E-4FC7-4F87-B2B1-7B5B21B7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D2B12-B62C-452B-938F-B1548CBC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6FB-5CD0-4E2A-B3A1-A2FD5E5E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C1E45-FFE7-43EB-AF1A-3B7B549D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69616-214F-49E2-858E-783B1958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10F45-D32D-4102-B4B1-9A8454F2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FDBA9-DEA5-486B-ACC6-BACE5B72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D0964-245A-420C-87C8-CC11C660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16CBB-61E6-4C5D-90DC-BD9FA61F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02468-B066-44A8-83E2-39F9F0BD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8E368-FFDD-4170-9536-ECCF7817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302A0-7991-495F-93E0-16E70E1F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4EB3E-1E0A-494A-B349-75773C73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248-1305-465E-B843-AAF9A909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AE2B0-4E64-4B90-A3D9-450A0A20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07BBD-47D1-46BB-83F0-8B4975B6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59129-0041-419C-B14C-4047DE79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69281-EBCE-4713-809D-0B45547A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9A394-61C8-4094-BFE3-45117295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03DE5-D2AC-4696-9B9C-17A30CF6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6A64B-0737-4F15-BC8F-25A16A17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E06A2-8808-4027-A48B-4F4CB0F2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25C8B-9065-43A4-BCB0-8642FBA4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EBCD1-CB37-4440-93CF-F0A5AB9D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AB9-A377-4CDA-B03B-EF768AB2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79ED5-DBC5-4BD7-A933-E2A60BEC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20AC0-8528-402A-9132-06CD58C9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83866-B8A3-4D46-B98B-229B05C9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DF6DA-EAA2-4DC9-8F2C-52F41404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1BA1C-8D10-4C78-BBAB-20D2D791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3C7C7-6DBF-45DD-AA53-0EA3155F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E9782-5685-44CD-88FD-1D307990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60CA1-F012-4A14-823A-64B7BCF3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145C4-6D38-4651-BDB5-F423EE8A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15F8F-9449-4E7A-9105-815C00A4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459A-D9F7-45D5-A1A2-C4881B75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67F6C-7636-4A65-BFA6-3F31DFD5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A1CB1-371A-4EF4-B872-181CE58A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E2716-D740-4723-AD3B-986A8990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033-6145-4C39-B6C6-1EF6288B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5AF0-7EDC-4286-8F33-B0B9E889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202C-3BDC-440F-8BC3-17E13222626A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0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329F-B01F-49E7-9EFA-42880573C169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540F-E8D2-4EAE-A770-389AEA1BA7D0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50D3-3FD3-4BB8-8F54-5B64B7AF2F51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6F0E-3DCF-4499-BEE1-FD32CFAD9539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0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4E8C-4798-4AB9-9B91-ED0BF4B86807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4F0E-627B-4181-96F3-BB64701DBFE3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0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B388-E380-4330-A0C4-D4E257D7B350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6E73-B3CE-4C77-B4C3-A8802889ECC0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0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1A30-F204-4C56-A8DA-14EA627C6A62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EDE8-33C5-496C-B99B-C8BC359DBA59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30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EDD3-7CE5-472C-9EA1-90D590441667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Nadpis 1" descr=""/>
          <p:cNvPicPr/>
          <p:nvPr/>
        </p:nvPicPr>
        <p:blipFill>
          <a:blip r:embed="rId1"/>
          <a:stretch/>
        </p:blipFill>
        <p:spPr>
          <a:xfrm>
            <a:off x="281160" y="3176640"/>
            <a:ext cx="8637480" cy="24858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13840" y="928800"/>
            <a:ext cx="849636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Franklin Gothic Book"/>
              </a:rPr>
              <a:t>Vyhledávání dopravního spojen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Zástupný symbol pro zápatí 3"/>
          <p:cNvSpPr/>
          <p:nvPr/>
        </p:nvSpPr>
        <p:spPr>
          <a:xfrm>
            <a:off x="0" y="558972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Nový začátek (New start) CZ.1.07/1.4.00/21.1409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575316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Zástupný symbol pro zápatí 3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Vytvořeno dne 17. 3. 2012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9280" y="1052640"/>
          <a:ext cx="8715600" cy="368748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yhledávání informací na Internetu</a:t>
                      </a: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-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yhledávání dopravního spoje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ezentace je zaměřena na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yhledávání informací na internetu, především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yhledávání dopravního spojení a jeho využití pro cestování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INF – vyhledat potřebné informace na internetu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Rectangle 1"/>
          <p:cNvSpPr/>
          <p:nvPr/>
        </p:nvSpPr>
        <p:spPr>
          <a:xfrm>
            <a:off x="179280" y="5742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č. 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358120" cy="227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Jízdní řád na Internetu najdeme snadno v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hledávači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nebo přímo zadáním adresy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www.jizdnirady.cz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(resp.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www.idos.cz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) 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Načte se nám následující stránka: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V roletc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Jízdní řády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vyberem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způsob přepravy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–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lak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 autobus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 letadlo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MHD (město)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nebo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kombinace vlak + autobus atd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9" name="obrázek 150" descr="44EB893E"/>
          <p:cNvPicPr/>
          <p:nvPr/>
        </p:nvPicPr>
        <p:blipFill>
          <a:blip r:embed="rId1"/>
          <a:stretch/>
        </p:blipFill>
        <p:spPr>
          <a:xfrm>
            <a:off x="428760" y="2643120"/>
            <a:ext cx="8229600" cy="3714840"/>
          </a:xfrm>
          <a:prstGeom prst="rect">
            <a:avLst/>
          </a:prstGeom>
          <a:ln w="0">
            <a:noFill/>
          </a:ln>
        </p:spPr>
      </p:pic>
      <p:sp>
        <p:nvSpPr>
          <p:cNvPr id="270" name="Zástupný symbol pro zápatí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467480" cy="285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Kliknutím do políček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Odkud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a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Kam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napíšeme místa naší cesty.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Rozhodneme se, zda zaškrtneme políčko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Pouze přímá spojení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(bez přestupů).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V případě hledání s přestupy je maximální počet možných přestupů omezen na 4 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obrázek 144" descr="9AC0AA8C"/>
          <p:cNvPicPr/>
          <p:nvPr/>
        </p:nvPicPr>
        <p:blipFill>
          <a:blip r:embed="rId1"/>
          <a:stretch/>
        </p:blipFill>
        <p:spPr>
          <a:xfrm>
            <a:off x="500040" y="3286080"/>
            <a:ext cx="7467480" cy="2417760"/>
          </a:xfrm>
          <a:prstGeom prst="rect">
            <a:avLst/>
          </a:prstGeom>
          <a:ln w="0">
            <a:noFill/>
          </a:ln>
        </p:spPr>
      </p:pic>
      <p:sp>
        <p:nvSpPr>
          <p:cNvPr id="273" name="Zástupný symbol pro zápatí 4"/>
          <p:cNvSpPr/>
          <p:nvPr/>
        </p:nvSpPr>
        <p:spPr>
          <a:xfrm>
            <a:off x="0" y="6286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2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Vyplníme políčka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Datum a čas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a to kliknutím do políček a následným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psáním čísel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nebo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bráním z kalendáře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 Můžeme využít i nakliknutím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pomocí šipek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Zaškrtnem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Odjezd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a klikneme na políčko </a:t>
            </a:r>
            <a:r>
              <a:rPr b="1" lang="cs-CZ" sz="2800" spc="-1" strike="noStrike">
                <a:solidFill>
                  <a:srgbClr val="ff0000"/>
                </a:solidFill>
                <a:latin typeface="Franklin Gothic Book"/>
              </a:rPr>
              <a:t>HLEDAT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5" name="obrázek 1" descr="60214B8A"/>
          <p:cNvPicPr/>
          <p:nvPr/>
        </p:nvPicPr>
        <p:blipFill>
          <a:blip r:embed="rId1"/>
          <a:stretch/>
        </p:blipFill>
        <p:spPr>
          <a:xfrm>
            <a:off x="500040" y="2143080"/>
            <a:ext cx="7467480" cy="3929040"/>
          </a:xfrm>
          <a:prstGeom prst="rect">
            <a:avLst/>
          </a:prstGeom>
          <a:ln w="0">
            <a:noFill/>
          </a:ln>
        </p:spPr>
      </p:pic>
      <p:sp>
        <p:nvSpPr>
          <p:cNvPr id="276" name="Zástupný symbol pro zápatí 4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Zobrazí se nám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tabulka spojů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57132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Kadaň » Pra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0" y="3929040"/>
          <a:ext cx="9144000" cy="24541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917640"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Dat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dkud/Přestup/K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říj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dj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oz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Spoj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.7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Kadaň,,aut.nádr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8: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421292 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raha,,ÚAN Florenc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1: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5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47520" rIns="47520" tIns="9540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Celkový čas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 hod 25 min</a:t>
                      </a: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, vzdálenost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18 km</a:t>
                      </a: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, cena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32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ffff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Autobusy Karlovy Vary, a.s.; Karlovy Vary; 353 226 2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ffff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jede v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0" y="1071720"/>
          <a:ext cx="9144000" cy="27874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631800"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Dat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dkud/Přestup/K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říj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dj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oz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Spoj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.7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Kadaň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7: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7: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s 1765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Kadaň-Prunéřov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7: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7: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R 611 Karlex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raha hl.n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0: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53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47520" rIns="47520" tIns="9540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Celkový čas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 hod 46 min</a:t>
                      </a: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, vzdálenost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95 km</a:t>
                      </a: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, cena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54 Kč / IN50 127 Kč / IN25 191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ffff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České dráhy, a.s.; nábřeží L.Svobody 1222/12, 110 15 Praha 1; +420 840 112 1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Zástupný symbol pro zápatí 4"/>
          <p:cNvSpPr/>
          <p:nvPr/>
        </p:nvSpPr>
        <p:spPr>
          <a:xfrm>
            <a:off x="0" y="642132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715160" cy="3500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Jízdní řád nám nabízí i další informace a možnosti využití.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Můžem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hledat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-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předchozí i následující spoje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         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zpáteční spojení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         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hledat nová spojení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nebo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měnit zadání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Jízdní řád můžem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tisknout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3" name="obrázek 1" descr="71AC7866"/>
          <p:cNvPicPr/>
          <p:nvPr/>
        </p:nvPicPr>
        <p:blipFill>
          <a:blip r:embed="rId1"/>
          <a:stretch/>
        </p:blipFill>
        <p:spPr>
          <a:xfrm>
            <a:off x="428760" y="3857760"/>
            <a:ext cx="7467480" cy="1857240"/>
          </a:xfrm>
          <a:prstGeom prst="rect">
            <a:avLst/>
          </a:prstGeom>
          <a:ln w="0">
            <a:noFill/>
          </a:ln>
        </p:spPr>
      </p:pic>
      <p:sp>
        <p:nvSpPr>
          <p:cNvPr id="284" name="Zástupný symbol pro zápatí 4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2T15:51:32Z</dcterms:created>
  <dc:creator>ZS Kadan</dc:creator>
  <dc:description/>
  <dc:language>en-US</dc:language>
  <cp:lastModifiedBy>martina</cp:lastModifiedBy>
  <dcterms:modified xsi:type="dcterms:W3CDTF">2013-08-22T15:07:06Z</dcterms:modified>
  <cp:revision>20</cp:revision>
  <dc:subject/>
  <dc:title>Práce s Internetem – vyhledávání informací</dc:title>
</cp:coreProperties>
</file>