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4862-781D-4615-BCE5-10DD544DA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D995-F167-4E9D-8BE0-8C24D2E2A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C81-44D9-4518-8144-8DDA9C48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E42-A01C-46BA-9F60-6CBEE1DE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A4D-CEFD-47B6-901E-F39B3991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7DE-E3F7-42BE-8F08-33C83CC1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0BA-5DE9-4337-9FFA-699DFA73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A5AD-5BA2-4ED6-8259-665C58B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511D-2089-4B1C-BE10-EEEBDFEC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757D-72D2-44E7-87E0-8CD76708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854C-2C5E-47AC-9750-10A55E52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F3EA-52A6-45DD-B3C3-7B0FA3A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BA03-3217-45AD-AC5D-7A7F087E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0D6-5DDD-4C7A-BFF6-1035154C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42C8-C1C0-4A30-9429-E86182C7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72E6-1084-4023-BCCF-E0B42F04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5BC5-57AF-4F66-BA25-D5E6AA7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498C-ABB5-488B-9DD8-B3507666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A1C4-5107-44B1-81AE-375A81A0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FC2-3B38-43B7-A7DF-A85A94BC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DF3-35DF-4F6C-8DB1-3048D159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5A4-D8A4-4B3F-95E7-C55374BD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512-8CD2-4D0D-A5E5-534F1E2C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03F-1990-4AF1-B22D-492C537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6DD-169B-4DAE-9438-9CCAE94F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77E-3779-4606-971D-C41A658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CBDA-5986-42C2-9798-73ADC4B003BD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0C93-3841-4F8A-929C-EE12BC1968A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3469-EAA5-46E0-9FE7-EBBEAAF9C887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60A8-5896-4138-8A5B-43FC3BF4F4D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800" spc="-1" strike="noStrike">
                <a:solidFill>
                  <a:srgbClr val="006666"/>
                </a:solidFill>
                <a:latin typeface="Arial"/>
              </a:rPr>
              <a:t>Internet</a:t>
            </a:r>
            <a:endParaRPr b="0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04560" y="2776320"/>
            <a:ext cx="569124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Svobodné méd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Zástupný symbol pro zápatí 3"/>
          <p:cNvSpPr/>
          <p:nvPr/>
        </p:nvSpPr>
        <p:spPr>
          <a:xfrm>
            <a:off x="0" y="5780160"/>
            <a:ext cx="914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3"/>
          <p:cNvSpPr/>
          <p:nvPr/>
        </p:nvSpPr>
        <p:spPr>
          <a:xfrm>
            <a:off x="250920" y="5732640"/>
            <a:ext cx="864216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052640"/>
          <a:ext cx="8715600" cy="412416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internetem z hlediska svobodného média a jeho významem pro dnešní dobu. Žáci se seznámí s jeho historií, službami, které poskytuje a způsoby připojení k němu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179280" y="5349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Co je to Intern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pojené počítačové sítě celého světa, které mají za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cíl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ci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a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enos dat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ezi jednotlivými počítač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aždý připojený počítač má svo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IP adres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192.168.0.1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92.243.202.14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Zástupný symbol pro zápatí 3"/>
          <p:cNvSpPr/>
          <p:nvPr/>
        </p:nvSpPr>
        <p:spPr>
          <a:xfrm>
            <a:off x="611280" y="59292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7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Histor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052640"/>
            <a:ext cx="801396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60. – 70. léta: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ARPA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xperiment, cca 50 počítačů v sí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80. léta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pojeno cca 1 000 počítač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1987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ojem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 síti připojeno asi 30 000 počítač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90. léta: Internet se stává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erční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hlížeče, v síti cca 50 milion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00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50 milionů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10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řes 2 miliardy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250920" y="6237360"/>
            <a:ext cx="8642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-171720"/>
            <a:ext cx="7686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lužb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99640" y="691920"/>
            <a:ext cx="7758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www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webové stránky (protokol http, http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e-mail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lektronická poš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FTP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enos souborů (Total Commande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č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elefon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Sky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nline komunikace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ICQ, Messenger, Face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ciální sítě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facebook, Twit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dílení soubor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Zástupný symbol pro zápatí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řipoj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1052640"/>
            <a:ext cx="783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prostředkovatel připojení je provi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ychlost v bitech za sekundu (b/s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b/s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OZOR!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1 byte = 8 bit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xistuje několik různých způsobů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ipojen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telefonní – ADSL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kabelovou televiz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Wi-Fi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      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obilním telefonem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Zástupný symbol pro zápatí 3"/>
          <p:cNvSpPr/>
          <p:nvPr/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ile:Routing.gif"/>
          <p:cNvPicPr/>
          <p:nvPr/>
        </p:nvPicPr>
        <p:blipFill>
          <a:blip r:embed="rId2"/>
          <a:stretch/>
        </p:blipFill>
        <p:spPr>
          <a:xfrm>
            <a:off x="6572160" y="3571920"/>
            <a:ext cx="2089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bový prohlížeč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7280" y="1773360"/>
            <a:ext cx="731376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rogram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umožňující prohlížení www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í číst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http://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Explor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Google Chro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Mozil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Safa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Zástupný symbol pro zápatí 3"/>
          <p:cNvSpPr/>
          <p:nvPr/>
        </p:nvSpPr>
        <p:spPr>
          <a:xfrm>
            <a:off x="0" y="6143760"/>
            <a:ext cx="88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ové zdroje obrázků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26920" y="1599840"/>
            <a:ext cx="810288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šechny uveřejněné odkazy [cit. 2012-02-24] dostupné pod licencí Creative Commons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wikimedia.or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rnet. připojení -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Routing.gi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íťová karta - </a:t>
            </a:r>
            <a:r>
              <a:rPr b="0" i="1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Ethernet_pci_card.jp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Zástupný symbol pro zápatí 3"/>
          <p:cNvSpPr/>
          <p:nvPr/>
        </p:nvSpPr>
        <p:spPr>
          <a:xfrm>
            <a:off x="179280" y="585792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4:24:17Z</dcterms:created>
  <dc:creator>ZS Kadan</dc:creator>
  <dc:description/>
  <dc:language>en-US</dc:language>
  <cp:lastModifiedBy>martina</cp:lastModifiedBy>
  <dcterms:modified xsi:type="dcterms:W3CDTF">2013-08-22T15:06:08Z</dcterms:modified>
  <cp:revision>21</cp:revision>
  <dc:subject/>
  <dc:title>Snímek 1</dc:title>
</cp:coreProperties>
</file>