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A38D-DB94-4261-ACAE-E4C95926CA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E1EF-725F-4C4E-BAF8-1D6B4A50A9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926-3EBE-43B7-8E60-F1198046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68C-EC3A-40E7-B0F7-9763F396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135-3973-4443-8BC4-252CBD09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6C9-F16C-4D70-A549-4A85CE43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539-EB8C-4C9A-BBBA-A8F28C50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96F-2EE5-419D-A1B4-7AE0C92E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49F-C480-46DC-9901-C9DA4C9D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531-F067-4383-80AD-3F5431CB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480-6647-4F66-9AB4-D93CBC05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A81-DEAD-4506-A3B0-4159D151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CD3-B9C9-4986-8CF4-76D1680D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56B-43CC-476E-9558-66AC2FEC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8443-EC77-4831-8BA9-3BC2CF5ED9FB}" type="datetime">
              <a:rPr b="0" lang="cs-CZ" sz="1200" spc="-1" strike="noStrike">
                <a:solidFill>
                  <a:srgbClr val="898989"/>
                </a:solidFill>
                <a:latin typeface="Arial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10B2-C54A-4D48-BBD1-67EB6E5091E8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Oprava chybné prezentace</a:t>
            </a: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142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Úkol: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Opravte chyby ve vytvořené prezentac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4"/>
          <p:cNvSpPr/>
          <p:nvPr/>
        </p:nvSpPr>
        <p:spPr>
          <a:xfrm>
            <a:off x="785880" y="5877000"/>
            <a:ext cx="7715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Vytvořeno dne  8. 2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Vánoční zvyk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řejeme šťastné a veselé Váno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C:\Documents and Settings\Spravce\Dokumenty\Kliparty\Kliparty_2\WMF\Udalosti\eve_0007.wmf"/>
          <p:cNvPicPr/>
          <p:nvPr/>
        </p:nvPicPr>
        <p:blipFill>
          <a:blip r:embed="rId1"/>
          <a:stretch/>
        </p:blipFill>
        <p:spPr>
          <a:xfrm>
            <a:off x="3571920" y="2214720"/>
            <a:ext cx="2131920" cy="310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Documents and Settings\Spravce\Dokumenty\Kliparty\Kliparty_2\WMF\Udalosti\eve_2010.wmf"/>
          <p:cNvPicPr/>
          <p:nvPr/>
        </p:nvPicPr>
        <p:blipFill>
          <a:blip r:embed="rId2"/>
          <a:stretch/>
        </p:blipFill>
        <p:spPr>
          <a:xfrm>
            <a:off x="3429000" y="357120"/>
            <a:ext cx="1684440" cy="77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:\Documents and Settings\Spravce\Dokumenty\Kliparty\Kliparty_2\WMF\Udalosti\eve_0003.wmf"/>
          <p:cNvPicPr/>
          <p:nvPr/>
        </p:nvPicPr>
        <p:blipFill>
          <a:blip r:embed="rId3"/>
          <a:stretch/>
        </p:blipFill>
        <p:spPr>
          <a:xfrm>
            <a:off x="6500880" y="2786040"/>
            <a:ext cx="1152360" cy="200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Documents and Settings\Spravce\Dokumenty\Kliparty\Kliparty_3\WMF\Prilezitosti\eve00011.wmf"/>
          <p:cNvPicPr/>
          <p:nvPr/>
        </p:nvPicPr>
        <p:blipFill>
          <a:blip r:embed="rId4"/>
          <a:stretch/>
        </p:blipFill>
        <p:spPr>
          <a:xfrm>
            <a:off x="1285920" y="3143160"/>
            <a:ext cx="1254240" cy="1569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C:\Documents and Settings\Spravce\Dokumenty\Kliparty\Kliparty_3\WMF\Prilezitosti\eve80005.wmf"/>
          <p:cNvPicPr/>
          <p:nvPr/>
        </p:nvPicPr>
        <p:blipFill>
          <a:blip r:embed="rId5"/>
          <a:stretch/>
        </p:blipFill>
        <p:spPr>
          <a:xfrm>
            <a:off x="7358040" y="928800"/>
            <a:ext cx="1150920" cy="13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C:\Documents and Settings\Spravce\Dokumenty\Kliparty\Kliparty_3\WMF\Prilezitosti\eve80006.wmf"/>
          <p:cNvPicPr/>
          <p:nvPr/>
        </p:nvPicPr>
        <p:blipFill>
          <a:blip r:embed="rId6"/>
          <a:stretch/>
        </p:blipFill>
        <p:spPr>
          <a:xfrm>
            <a:off x="571680" y="857160"/>
            <a:ext cx="1468080" cy="143352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9"/>
          <p:cNvSpPr/>
          <p:nvPr/>
        </p:nvSpPr>
        <p:spPr>
          <a:xfrm>
            <a:off x="2357280" y="2071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Správné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11"/>
          <p:cNvSpPr/>
          <p:nvPr/>
        </p:nvSpPr>
        <p:spPr>
          <a:xfrm>
            <a:off x="857160" y="6208560"/>
            <a:ext cx="7572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Něco o Vánocích 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svátky klidu a míru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v křesťanské tradici oslavou narození Ježíše Krista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Přípravu na Vánoce představuje advent, období čtyř týdnů před Vánoc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se slaví na mnoha místech a to i tam, kde křesťanství nemá silnou tradici či stoupence, slaví se zvláště v Evropě, Americe, Africe, Austrálii a částečně i v Asi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7500960" y="285840"/>
            <a:ext cx="1000080" cy="117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571680" y="28584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108" name="Zástupný symbol pro zápatí 6"/>
          <p:cNvSpPr/>
          <p:nvPr/>
        </p:nvSpPr>
        <p:spPr>
          <a:xfrm>
            <a:off x="785880" y="6351480"/>
            <a:ext cx="7715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 .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České vánoční zvy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kalendář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U jeho zrodu byl mnichovský majitel jedné tiskárny Gerhart Lang. Dal vytisknout dětský kalendář „V zemi Ježíškově“. Dětem měl připomenout advent a zároveň zkrátit čekání na Štědrý den. Tvořily ho dva listy papíru. Na jednom bylo v malých okénkách 24 básniček, na druhém pak 24 obrázků. Děti si každý den vystřihly obrázek a nalepily jej na příslušnou básnič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786800" y="28584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zápatí 6"/>
          <p:cNvSpPr/>
          <p:nvPr/>
        </p:nvSpPr>
        <p:spPr>
          <a:xfrm>
            <a:off x="785880" y="6280200"/>
            <a:ext cx="764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věnec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Je mladým a velm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blíbeným zvykem. První zmínky o něm pocházejí z 19. století z bohatého města Hamburk. Objevil se na dveřích sirotčince. Byl ze dřeva s malou pokladničkou, do které lidé házeli vánoční milodary pro osiřelé děti. Odtud pronikl dále do Evropy, kde se vyráběl ze zelených větviček chvojí, které vyjadřovaly věčný život. Tvar symbolizuje jednotu a plamen svíčky plamen lásky každého člověka. Zdobí ho 4 svíce, tři fialové (barva pokání) a jedna růžová (barva naděje), mají stejnou barvu jako mešní roucha adventu. Každou neděli se zapaluje je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142920" y="5857920"/>
            <a:ext cx="727200" cy="85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8072280" y="5857920"/>
            <a:ext cx="857520" cy="836640"/>
          </a:xfrm>
          <a:prstGeom prst="rect">
            <a:avLst/>
          </a:prstGeom>
          <a:ln w="0">
            <a:noFill/>
          </a:ln>
        </p:spPr>
      </p:pic>
      <p:sp>
        <p:nvSpPr>
          <p:cNvPr id="117" name="Zástupný symbol pro zápatí 6"/>
          <p:cNvSpPr/>
          <p:nvPr/>
        </p:nvSpPr>
        <p:spPr>
          <a:xfrm>
            <a:off x="928800" y="6351480"/>
            <a:ext cx="714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Louskání ořechů a krájení jablek</a:t>
            </a:r>
            <a:r>
              <a:rPr b="1" i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Calibri"/>
              </a:rPr>
              <a:t>Po večeři se louskají ořechy a překrajují jablíčka. Smrt číhá na toho, kdo rozlouskne prázdný, seschlý ořech. Zlým znamením je i to, když se při rozkrojení jablíčka místo hvězdičky objeví kříž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Pouštění lodiček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: Do skořápek ořechů se dají svíčky, zapálí se a pustí po vodě. Když lodičky plavou v kruhu, znamená to dobré soužití v rodi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0" descr="C:\Documents and Settings\Spravce\Dokumenty\Kliparty\Kliparty_2\WMF\Udalosti\eve_0003.wmf"/>
          <p:cNvPicPr/>
          <p:nvPr/>
        </p:nvPicPr>
        <p:blipFill>
          <a:blip r:embed="rId1"/>
          <a:stretch/>
        </p:blipFill>
        <p:spPr>
          <a:xfrm>
            <a:off x="7000920" y="4214880"/>
            <a:ext cx="94608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Spravce\Dokumenty\Kliparty\Kliparty_2\WMF\Udalosti\eve_0007.wmf"/>
          <p:cNvPicPr/>
          <p:nvPr/>
        </p:nvPicPr>
        <p:blipFill>
          <a:blip r:embed="rId2"/>
          <a:stretch/>
        </p:blipFill>
        <p:spPr>
          <a:xfrm>
            <a:off x="928800" y="4143240"/>
            <a:ext cx="1271520" cy="185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Documents and Settings\Spravce\Dokumenty\Kliparty\Kliparty_3\WMF\Prilezitosti\eve00011.wmf"/>
          <p:cNvPicPr/>
          <p:nvPr/>
        </p:nvPicPr>
        <p:blipFill>
          <a:blip r:embed="rId3"/>
          <a:stretch/>
        </p:blipFill>
        <p:spPr>
          <a:xfrm>
            <a:off x="4071960" y="4429080"/>
            <a:ext cx="1254240" cy="156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5572080" y="4429080"/>
            <a:ext cx="1000080" cy="117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2428920" y="442908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124" name="Zástupný symbol pro zápatí 8"/>
          <p:cNvSpPr/>
          <p:nvPr/>
        </p:nvSpPr>
        <p:spPr>
          <a:xfrm>
            <a:off x="785880" y="6208560"/>
            <a:ext cx="757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Vánoce v cizině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ngl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 Anglii se Vánoce slaví 25. prosince ráno. Dárky nosí Santa Claus, který chodí komínem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Franc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e Francii se Vánoce slaví 24.prosice večer. Dárkům však předchází velká hostina, takže když se protáhne, dávají se dárky až druhý den ráno. Dárky naděluje Pere No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Německo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Stejně jako u nás se Vánoce slaví 24. prosince. Dárky nosí Ježíšek a vánoční duch jménem Weinachtsmann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571680" y="1429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429680" y="14292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129" name="Zástupný symbol pro zápatí 6"/>
          <p:cNvSpPr/>
          <p:nvPr/>
        </p:nvSpPr>
        <p:spPr>
          <a:xfrm>
            <a:off x="857160" y="6308640"/>
            <a:ext cx="7643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zápatí 3"/>
          <p:cNvSpPr/>
          <p:nvPr/>
        </p:nvSpPr>
        <p:spPr>
          <a:xfrm>
            <a:off x="1785960" y="5929200"/>
            <a:ext cx="621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981000"/>
          <a:ext cx="8715600" cy="424512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Oprava chybné 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Žáci sami pracují na jednotlivých úpravách prezentace v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MS PowerPoint 2003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za pomoci panelu nástrojů. Součástí prezentace je i správné řešen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 –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ovládat základy psaní na klávesnici, na uživatelské úrovni práci s textovým editorem, využívat vhodné aplik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acovn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ktiv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468360" y="4809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Vánoční zvyk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řejeme šťastné a veselé Váno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C:\Documents and Settings\Spravce\Dokumenty\Kliparty\Kliparty_2\WMF\Udalosti\eve_0007.wmf"/>
          <p:cNvPicPr/>
          <p:nvPr/>
        </p:nvPicPr>
        <p:blipFill>
          <a:blip r:embed="rId1"/>
          <a:stretch/>
        </p:blipFill>
        <p:spPr>
          <a:xfrm>
            <a:off x="3571920" y="2214720"/>
            <a:ext cx="2131920" cy="310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Spravce\Dokumenty\Kliparty\Kliparty_2\WMF\Udalosti\eve_2010.wmf"/>
          <p:cNvPicPr/>
          <p:nvPr/>
        </p:nvPicPr>
        <p:blipFill>
          <a:blip r:embed="rId2"/>
          <a:stretch/>
        </p:blipFill>
        <p:spPr>
          <a:xfrm>
            <a:off x="3429000" y="357120"/>
            <a:ext cx="1684440" cy="77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:\Documents and Settings\Spravce\Dokumenty\Kliparty\Kliparty_2\WMF\Udalosti\eve_0003.wmf"/>
          <p:cNvPicPr/>
          <p:nvPr/>
        </p:nvPicPr>
        <p:blipFill>
          <a:blip r:embed="rId3"/>
          <a:stretch/>
        </p:blipFill>
        <p:spPr>
          <a:xfrm>
            <a:off x="4786200" y="3429000"/>
            <a:ext cx="1152720" cy="200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7358040" y="928800"/>
            <a:ext cx="1150920" cy="135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571680" y="857160"/>
            <a:ext cx="1468080" cy="143352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9"/>
          <p:cNvSpPr/>
          <p:nvPr/>
        </p:nvSpPr>
        <p:spPr>
          <a:xfrm>
            <a:off x="2357280" y="207180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ástupný symbol pro zápatí 11"/>
          <p:cNvSpPr/>
          <p:nvPr/>
        </p:nvSpPr>
        <p:spPr>
          <a:xfrm>
            <a:off x="857160" y="6208560"/>
            <a:ext cx="7572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:\Documents and Settings\Spravce\Dokumenty\Kliparty\Kliparty_3\WMF\Prilezitosti\eve00011.wmf"/>
          <p:cNvPicPr/>
          <p:nvPr/>
        </p:nvPicPr>
        <p:blipFill>
          <a:blip r:embed="rId6"/>
          <a:stretch/>
        </p:blipFill>
        <p:spPr>
          <a:xfrm>
            <a:off x="3286080" y="2428920"/>
            <a:ext cx="1254240" cy="156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Něco o Vánocích </a:t>
            </a: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Agency FB"/>
              </a:rPr>
              <a:t>Vánoce jsou svátky klidu a mír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v křesťanské tradici oslavou narození Ježíše Krista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merican Text AT"/>
              </a:rPr>
              <a:t>Přípravu na Vánoce představuje advent, období čtyř týdnů před Váno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se slaví na mnoha místech a to i tam, kde křesťanství nemá silnou tradici či stoupence, slaví se zvláště v Evropě, Americe, Africe, Austrálii a částečně i v Asi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7500960" y="285840"/>
            <a:ext cx="1000080" cy="117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571680" y="28584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6"/>
          <p:cNvSpPr/>
          <p:nvPr/>
        </p:nvSpPr>
        <p:spPr>
          <a:xfrm>
            <a:off x="785880" y="6351480"/>
            <a:ext cx="7715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České vánoční zvy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kalendář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U jeho zrodu byl mnichovský majitel jedné tiskárny Gerhart Lang. Dal vytisknout dětský kalendář „V zemi Ježíškově“. Dětem měl připomenout advent a zároveň zkrátit čekání na Štědrý den. Tvořily ho dva listy papíru. Na jednom bylo v malých okénkách 24 básniček, na druhém pak 24 obrázků. Děti si každý den vystřihly obrázek a nalepily jej na příslušnou básnič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786800" y="28584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zápatí 6"/>
          <p:cNvSpPr/>
          <p:nvPr/>
        </p:nvSpPr>
        <p:spPr>
          <a:xfrm>
            <a:off x="785880" y="6280200"/>
            <a:ext cx="764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7375e"/>
                </a:solidFill>
                <a:uFillTx/>
                <a:latin typeface="Calibri"/>
              </a:rPr>
              <a:t>Adventní věnec</a:t>
            </a:r>
            <a:r>
              <a:rPr b="1" lang="cs-CZ" sz="18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1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7375e"/>
                </a:solidFill>
                <a:latin typeface="Calibri"/>
              </a:rPr>
              <a:t>Je mladým a velmi</a:t>
            </a:r>
            <a:r>
              <a:rPr b="0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7375e"/>
                </a:solidFill>
                <a:latin typeface="Calibri"/>
              </a:rPr>
              <a:t>oblíbeným zvykem. První zmínky o něm pocházejí z 19. století z bohatého města Hamburk. Objevil se na dveřích sirotčince. Byl ze dřeva s malou pokladničkou, do které lidé házeli vánoční milodary pro osiřelé děti.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dtud pronikl dále do Evropy, kde se vyráběl ze zelených větviček chvojí, které vyjadřovaly věčný život. Tvar symbolizuje jednotu a plamen svíčky plamen lásky každého člověka. Zdobí ho 4 svíce, tři fialové (barva pokání) a jedna růžová (barva naděje), mají stejnou barvu jako mešní roucha adventu. Každou neděli se zapaluje je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142920" y="5857920"/>
            <a:ext cx="72720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3995640" y="2708280"/>
            <a:ext cx="857520" cy="83664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6"/>
          <p:cNvSpPr/>
          <p:nvPr/>
        </p:nvSpPr>
        <p:spPr>
          <a:xfrm>
            <a:off x="928800" y="6351480"/>
            <a:ext cx="714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c00000"/>
                </a:solidFill>
                <a:uFillTx/>
                <a:latin typeface="Calibri"/>
              </a:rPr>
              <a:t>Louskání ořechů a krájení jablek</a:t>
            </a:r>
            <a:r>
              <a:rPr b="1" i="1" lang="cs-CZ" sz="32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i="1" lang="cs-CZ" sz="3200" spc="-1" strike="noStrike">
                <a:solidFill>
                  <a:srgbClr val="c00000"/>
                </a:solidFill>
                <a:latin typeface="Calibri"/>
              </a:rPr>
              <a:t>Po večeři se louskají ořechy a překrajují jablíčka. Smrt číhá na toho, kdo rozlouskne prázdný, seschlý ořech. Zlým znamením je i to, když se při rozkrojení jablíčka místo hvězdičky objeví křížek</a:t>
            </a:r>
            <a:r>
              <a:rPr b="0" i="1" lang="cs-CZ" sz="32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Pouštění lodiček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: Do skořápek ořechů se dají svíčky, zapálí se a pustí po vodě. Když lodičky plavou v kruhu, znamená to dobré soužití v rodi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pravce\Dokumenty\Kliparty\Kliparty_2\WMF\Udalosti\eve_0003.wmf"/>
          <p:cNvPicPr/>
          <p:nvPr/>
        </p:nvPicPr>
        <p:blipFill>
          <a:blip r:embed="rId1"/>
          <a:stretch/>
        </p:blipFill>
        <p:spPr>
          <a:xfrm>
            <a:off x="7000920" y="4214880"/>
            <a:ext cx="946080" cy="1643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Spravce\Dokumenty\Kliparty\Kliparty_2\WMF\Udalosti\eve_0007.wmf"/>
          <p:cNvPicPr/>
          <p:nvPr/>
        </p:nvPicPr>
        <p:blipFill>
          <a:blip r:embed="rId2"/>
          <a:stretch/>
        </p:blipFill>
        <p:spPr>
          <a:xfrm>
            <a:off x="928800" y="4143240"/>
            <a:ext cx="127152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:\Documents and Settings\Spravce\Dokumenty\Kliparty\Kliparty_3\WMF\Prilezitosti\eve00011.wmf"/>
          <p:cNvPicPr/>
          <p:nvPr/>
        </p:nvPicPr>
        <p:blipFill>
          <a:blip r:embed="rId3"/>
          <a:stretch/>
        </p:blipFill>
        <p:spPr>
          <a:xfrm>
            <a:off x="900000" y="1268280"/>
            <a:ext cx="3935520" cy="492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5572080" y="4429080"/>
            <a:ext cx="1000080" cy="117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2428920" y="442908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85" name="Zástupný symbol pro zápatí 8"/>
          <p:cNvSpPr/>
          <p:nvPr/>
        </p:nvSpPr>
        <p:spPr>
          <a:xfrm>
            <a:off x="785880" y="6208560"/>
            <a:ext cx="757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c00000"/>
                </a:solidFill>
                <a:latin typeface="Calibri"/>
              </a:rPr>
              <a:t>Vánoce v cizině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0004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00000"/>
                </a:solidFill>
                <a:uFillTx/>
                <a:latin typeface="Calibri"/>
              </a:rPr>
              <a:t>Anglie: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c00000"/>
                </a:solidFill>
                <a:uFillTx/>
                <a:latin typeface="Agency FB"/>
              </a:rPr>
              <a:t>V Anglii se Vánoce slaví 25. prosince ráno. Dárky nosí Santa Claus, který chodí komín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Franc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e Francii se Vánoce slaví 24.prosice večer. Dárkům však předchází velká hostina, takže když se protáhne, dávají se dárky až druhý den ráno. Dárky naděluje Pere No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ffff00"/>
                </a:solidFill>
                <a:uFillTx/>
                <a:latin typeface="Calibri"/>
              </a:rPr>
              <a:t>Německo: </a:t>
            </a:r>
            <a:r>
              <a:rPr b="0" lang="cs-CZ" sz="1400" spc="-1" strike="noStrike">
                <a:solidFill>
                  <a:srgbClr val="ffff00"/>
                </a:solidFill>
                <a:latin typeface="Calibri"/>
              </a:rPr>
              <a:t> Stejně jako u nás se Vánoce slaví 24. prosince. Dárky nosí Ježíšek a vánoční duch jménem Weinachtsmann</a:t>
            </a:r>
            <a:r>
              <a:rPr b="0" lang="cs-CZ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571680" y="1429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429680" y="14292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90" name="Zástupný symbol pro zápatí 6"/>
          <p:cNvSpPr/>
          <p:nvPr/>
        </p:nvSpPr>
        <p:spPr>
          <a:xfrm>
            <a:off x="857160" y="6215040"/>
            <a:ext cx="7643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Zdroje obrázk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Všechny uveřejněné odkazy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[cit. 2012-0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08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] dostupné pod licencí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Zdroje obrázků:  jmelí - [eve_00011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zvoneček - [eve_80005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lucerna - [eve_80006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prskavka - [eve_0003]. Dostupný pod licencí office. microsoft.com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stromeček - [eve_0007]. Dostupný pod licencí office. microsof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kometa - [eve_2010]. Dostupný pod licencí office. microsof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zápatí 4"/>
          <p:cNvSpPr/>
          <p:nvPr/>
        </p:nvSpPr>
        <p:spPr>
          <a:xfrm>
            <a:off x="428760" y="6356520"/>
            <a:ext cx="835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4:35:29Z</dcterms:created>
  <dc:creator>Lucie Dlouhá</dc:creator>
  <dc:description/>
  <dc:language>en-US</dc:language>
  <cp:lastModifiedBy>martina</cp:lastModifiedBy>
  <dcterms:modified xsi:type="dcterms:W3CDTF">2013-08-22T15:05:32Z</dcterms:modified>
  <cp:revision>79</cp:revision>
  <dc:subject/>
  <dc:title>Vánoční zvyky</dc:title>
</cp:coreProperties>
</file>