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62DC-E07A-4912-9E73-527E96D0C9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E60-DF21-4B40-A937-2495E2BE7D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C74-44C0-4B8C-AD40-7429A7F8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AB8-C6FE-418B-B8D6-5E146B9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2BB-2136-4E3D-8F82-E522A70A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24A-828C-4204-AEAF-F8E15A8A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F08-B75D-4AD9-BD46-EADA7C91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AF70-410F-444B-BCAF-1E5FB54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0FC0-11AB-4E28-8A08-93087C54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0AD-67B0-4D01-A2C0-A36F5F3A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06F-1EC0-4EFE-97F6-952AC049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DB6-5D7A-4E60-8079-3B1B1D9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395-3D74-4951-ACCC-143A049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9F6-119A-4A82-B980-65736D4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9929-CC53-4235-95B3-99FDB66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9F95-E92D-42C9-8798-A9229B9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1A86-30B6-4125-9366-0F40D284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1561-8B3F-439F-A5FD-A518FD26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00C1-AE5E-4273-B263-9F589AB2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ECAB-18C8-469A-9ECE-D52CC0F8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ED7B-5F00-4D33-A4BB-BAA4DED6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3EDA-DF5B-4085-B06D-6E33A26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78D9-2FD9-467E-8FE6-2AB9F442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3168-5B38-4151-BA49-0546103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5E1-E4C5-41E0-87A3-A72E7FE6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A66F-78A3-46DC-B24D-B797EE5C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7BD5-750B-4312-A611-52A94A6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BBA2-996A-4F34-A8F1-7514DAD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4DD0-C0CA-4CF6-A27C-215D6E1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0E16-E63C-4B35-AE85-DA112E2B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BF15-C2C9-4F79-9728-610E8B2E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CCF6-A8E9-4102-9A27-210AF637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1F07-A805-4B78-A61B-3E07454D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52AC-B84A-4667-9149-DD152CF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42E8-1D6F-4DD7-BB69-76B8381D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35E-ED49-4B28-AC7A-64DEAD44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84DB-478F-44B4-A150-D734359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B35E-8E33-4D2D-A286-B0F12EA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6739-8B1A-417B-A3FC-D3EBFCE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467E-FD2A-470D-B13D-CB9150F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3556-8B0E-4CDB-87F6-5169C8A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9FAC-8932-400F-B493-DBB69DA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018C-23A2-4EBB-922D-30B2B2E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F8EC-7F12-48B4-98B4-B02C8664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98B8-4190-49F9-AE6E-C821673B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FBE2-1E02-48A5-9456-3A5AAA4C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6F6-98EE-41A8-9EAD-50C921B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C59C-B2F2-45BC-A25A-A8D6C245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6BD5-82AE-49EB-9722-2300EE3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08D7-9AD5-40BB-B369-E9C36348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4A70-148C-4E59-BF2D-15B5D14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06D1-805D-40CD-A824-FED5081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C65E6-5F76-4D33-BD98-B9323B8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511E-B8B1-48B2-88CC-F5D2996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2ED38-AAD3-4AC1-8A19-44730C3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0BC4-DF26-4E56-9B71-1B3E22D4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C1A82-52DD-4CA9-9BA9-2540438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580-1E5E-4576-BA46-583DC61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0EBA-9CCC-4B55-AB41-C7C9F579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58EF3-0F68-4BDC-BE74-5386B5DC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0E4B-1E71-4035-BF0A-DE1AB96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EB55-71DE-4805-8294-E8791B4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9850-A439-4D87-9155-F679BBA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65DD-202D-412A-9923-2D8DDA1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6847A-86A2-41D6-ACF7-624665F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0E51-B24B-485E-A02B-F209F0D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598D-4B10-4A8B-901B-31541E1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D3FA-EB33-4D22-B061-47E8828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650-9C2D-4537-8C4D-CB07B1DA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3C35-2B28-47FA-8577-D6C3BA2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22B52-6077-4B6E-AEE3-2D4050CF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21DD-6008-40C9-A0A6-C288EC42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C47B-064B-4F50-8367-AAF83550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D7AE-658F-49FA-A2CA-23D610E6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87B31-FEC8-4F0A-8B1E-8EA55E9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A762F-E05D-485D-BB79-E272B24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FABF-1A92-4C1F-B08E-6A27933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EED0-C176-44C2-9D8A-30EB9CAD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82BC-EB78-4441-86D6-2320F7C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619-EA1D-40FC-9500-3C4C1F5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0FBC-5894-43E3-82DD-4DCB72D9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9FE2-2343-471C-81F3-29CEE18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08DC-EBDD-4305-8D1B-8396D6A8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F17B-E036-48EE-A040-80C8A0E7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AA05-20E5-4F1F-A5C4-190FE009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5102-A46F-45D9-9E8E-09C7B795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AC0F-905A-4A68-8FA7-CE26229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239B1-F38E-4DE1-92E2-B67597D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5A46-32FE-43AD-81A6-9C2D7614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6F166-3F51-4E43-B3EE-D513E3D3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B4E-7E44-4FFC-A11A-FD97AA8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6F6E-3B97-4859-9FD9-3EF8D18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E4D2-CEDE-4316-8B89-28071A7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E76D-ECC0-49CA-A1F3-E4F5CF2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D26B-C587-4D24-B0C7-3609602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9C5E4-1F70-42C2-91F6-9C8A68D6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ADEA6-4784-4ED5-B8AE-12AC78BE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BEB2-9AC9-4934-887D-40D09489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6737-9B4E-4EA1-8101-41D78E4B20C8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8CD-728C-4050-8439-E4CC695E286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816A-1261-4577-9DE5-35B2F781ED80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10F-61E8-421A-86B1-492FA529210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067-25E8-49A6-9A97-591C0C5D94FE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FB4F-444A-47E8-BE23-4A386149728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7F5-3241-4D0A-A952-B37D7095CBFA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8364-F7BA-4952-A3D4-593FE065D31A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B17-C047-473C-BC71-86F880E394EF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1BA-34B7-4D0C-8812-EA9A65A979A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250E-419D-4685-8733-6C2DAAF7649C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1C3-DC5A-4306-8D44-35244342FBC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1C3-C858-4889-97DC-A1660B654D1E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CF6B-31E0-4911-816A-E29F50FA664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9622-AF79-4FD1-B499-DEEBE763B8E5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C182-0F3D-4E17-8911-3929131A66A4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3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ro vlastní bezp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Zástupný symbol pro zápatí 4"/>
          <p:cNvSpPr/>
          <p:nvPr/>
        </p:nvSpPr>
        <p:spPr>
          <a:xfrm>
            <a:off x="611280" y="5732640"/>
            <a:ext cx="7889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Vytvořeno dne 4. 4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zápatí 3"/>
          <p:cNvSpPr/>
          <p:nvPr/>
        </p:nvSpPr>
        <p:spPr>
          <a:xfrm>
            <a:off x="1000080" y="5357880"/>
            <a:ext cx="6786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9280" y="1052640"/>
          <a:ext cx="8715600" cy="360504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idla bezpečného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e zásady bezpečného využívání internetu z hlediska svobodného média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1"/>
          <p:cNvSpPr/>
          <p:nvPr/>
        </p:nvSpPr>
        <p:spPr>
          <a:xfrm>
            <a:off x="179280" y="6076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svého bydliště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telefonní čís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školy, kam chodí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jména a adresy rodičů a rodinných příslušníků a jejich telefonní čísl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zápatí 4"/>
          <p:cNvSpPr/>
          <p:nvPr/>
        </p:nvSpPr>
        <p:spPr>
          <a:xfrm>
            <a:off x="121428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počítač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počítač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údaje o kreditní kartě nebo peněžním úč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Zástupný symbol pro zápatí 4"/>
          <p:cNvSpPr/>
          <p:nvPr/>
        </p:nvSpPr>
        <p:spPr>
          <a:xfrm>
            <a:off x="1071720" y="5857920"/>
            <a:ext cx="7358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domlouvej osobní schůzku s někým, s kým jsi se seznámil prostřednictvím Intern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osobní výzvy od těch, které nezná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zlé, urážlivé, nevkusné nebo hrubé e-m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zápatí 4"/>
          <p:cNvSpPr/>
          <p:nvPr/>
        </p:nvSpPr>
        <p:spPr>
          <a:xfrm>
            <a:off x="785880" y="5857920"/>
            <a:ext cx="785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soubory přiložené k e-mailům, pokud přijdou z míst, které nezná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webové stránky, které jsou určené jen pro dospě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zápatí 4"/>
          <p:cNvSpPr/>
          <p:nvPr/>
        </p:nvSpPr>
        <p:spPr>
          <a:xfrm>
            <a:off x="135720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Sociální sítě: Lidé.cz, Líbímseti at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ich osobních údaj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eho osobního denního progra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vystavování osobních fotografií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navazování kontakt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723520" cy="149400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4"/>
          <p:cNvSpPr/>
          <p:nvPr/>
        </p:nvSpPr>
        <p:spPr>
          <a:xfrm>
            <a:off x="1285920" y="5857920"/>
            <a:ext cx="7143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3:00:14Z</dcterms:created>
  <dc:creator>ZS Kadan</dc:creator>
  <dc:description/>
  <dc:language>en-US</dc:language>
  <cp:lastModifiedBy>martina</cp:lastModifiedBy>
  <dcterms:modified xsi:type="dcterms:W3CDTF">2013-08-22T15:08:27Z</dcterms:modified>
  <cp:revision>14</cp:revision>
  <dc:subject/>
  <dc:title>Pravidla bezpečného internetu</dc:title>
</cp:coreProperties>
</file>