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35C6-317C-4134-AFC6-747948165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E77B-1FA7-466B-BFA1-17F38E32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D8C4-7766-4D15-B4AE-517AC691A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8F29-1267-4AC2-BD12-C7D57DFB2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CB9A-763E-4D13-B321-E2C344EB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B4EE-52EF-4A98-B492-277F7E0E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67C7-AE97-41CE-A45C-E6574560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E0D3-4A66-4BA6-BFC8-F77F3155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3C49-6D67-486B-8ACC-3361E92A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E97E-906A-48FB-8D50-6BA2580E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0E43-AF2B-4BA6-8A48-99771A10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1605-EABC-48C0-A917-B7BB448D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DF10-5D5D-4FFA-8637-2103EF16B56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ikimedia.org/" TargetMode="External"/><Relationship Id="rId2" Type="http://schemas.openxmlformats.org/officeDocument/2006/relationships/hyperlink" Target="http://commons.wikimedia.org/wiki/File:USB_Flash_Drive_animated.gif?uselang=cs" TargetMode="External"/><Relationship Id="rId3" Type="http://schemas.openxmlformats.org/officeDocument/2006/relationships/hyperlink" Target="http://commons.wikimedia.org/wiki/File:Wacom_Pen-tablet_without_mouse.jpg?uselang=cs" TargetMode="External"/><Relationship Id="rId4" Type="http://schemas.openxmlformats.org/officeDocument/2006/relationships/hyperlink" Target="http://commons.wikimedia.org/wiki/File:K7_SEM_Motherboard.jpg" TargetMode="External"/><Relationship Id="rId5" Type="http://schemas.openxmlformats.org/officeDocument/2006/relationships/hyperlink" Target="http://commons.wikimedia.org/wiki/File:Hard_disk_Western_Digital_WD1200_%28dark1%29.jpg" TargetMode="External"/><Relationship Id="rId6" Type="http://schemas.openxmlformats.org/officeDocument/2006/relationships/hyperlink" Target="http://commons.wikimedia.org/wiki/File:Memory_module_DDRAM_20-03-2006.jpg" TargetMode="External"/><Relationship Id="rId7" Type="http://schemas.openxmlformats.org/officeDocument/2006/relationships/hyperlink" Target="http://commons.wikimedia.org/wiki/File:Creative_SoundBlaster_Audigy_2_%28SB0400%29-3.jpg" TargetMode="External"/><Relationship Id="rId8" Type="http://schemas.openxmlformats.org/officeDocument/2006/relationships/hyperlink" Target="http://commons.wikimedia.org/wiki/File:Ethernet_pci_card.jpg" TargetMode="External"/><Relationship Id="rId9" Type="http://schemas.openxmlformats.org/officeDocument/2006/relationships/hyperlink" Target="http://commons.wikimedia.org/wiki/File:ATI_Radeon_HD_4890_Graphics_Card-vertical_black_background_oblique_view.jpg" TargetMode="External"/><Relationship Id="rId10" Type="http://schemas.openxmlformats.org/officeDocument/2006/relationships/hyperlink" Target="http://commons.wikimedia.org/wiki/File:DVD_drive.jpg?uselang=cs" TargetMode="External"/><Relationship Id="rId11" Type="http://schemas.openxmlformats.org/officeDocument/2006/relationships/hyperlink" Target="http://commons.wikimedia.org/wiki/File:PC_Netzteil_FSP350-60MDN_Rev._A_Ansicht_1.jpg" TargetMode="External"/><Relationship Id="rId12" Type="http://schemas.openxmlformats.org/officeDocument/2006/relationships/hyperlink" Target="http://commons.wikimedia.org/wiki/File:PC_Netzteil_FSP350-60MDN_Rev._A_Ansicht_1.jpg" TargetMode="External"/><Relationship Id="rId13" Type="http://schemas.openxmlformats.org/officeDocument/2006/relationships/hyperlink" Target="http://upload.wikimedia.org/wikipedia/commons/a/a3/AM486_DX2-80_and_i486_DX2-66.jpg" TargetMode="External"/><Relationship Id="rId14" Type="http://schemas.openxmlformats.org/officeDocument/2006/relationships/hyperlink" Target="http://commons.wikimedia.org/wiki/File:Zone_Evil_Joypad_ZE-JPD-010_Green.jpg?uselang=cs" TargetMode="External"/><Relationship Id="rId15" Type="http://schemas.openxmlformats.org/officeDocument/2006/relationships/hyperlink" Target="http://commons.wikimedia.org/wiki/File:MiniDIN-6_Connector_Pinout.svg?uselang=cs" TargetMode="External"/><Relationship Id="rId16" Type="http://schemas.openxmlformats.org/officeDocument/2006/relationships/hyperlink" Target="http://commons.wikimedia.org/wiki/File:DVI-Buchse%2BStecker.JPG" TargetMode="External"/><Relationship Id="rId17" Type="http://schemas.openxmlformats.org/officeDocument/2006/relationships/hyperlink" Target="http://commons.wikimedia.org/wiki/File:USB_Connector.jpg" TargetMode="External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Hardware a periferie počítače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00080" y="2428560"/>
            <a:ext cx="750096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alibri"/>
              </a:rPr>
              <a:t>Počítač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je zařízení, které zpracovává </a:t>
            </a:r>
            <a:r>
              <a:rPr b="0" lang="cs-CZ" sz="3200" spc="-1" strike="noStrike">
                <a:solidFill>
                  <a:srgbClr val="c00000"/>
                </a:solidFill>
                <a:latin typeface="Calibri"/>
              </a:rPr>
              <a:t>data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pomocí předem vytvořeného </a:t>
            </a:r>
            <a:r>
              <a:rPr b="0" lang="cs-CZ" sz="3200" spc="-1" strike="noStrike">
                <a:solidFill>
                  <a:srgbClr val="c00000"/>
                </a:solidFill>
                <a:latin typeface="Calibri"/>
              </a:rPr>
              <a:t>program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klad a procvičování uči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Obdélník 3"/>
          <p:cNvSpPr/>
          <p:nvPr/>
        </p:nvSpPr>
        <p:spPr>
          <a:xfrm>
            <a:off x="1643040" y="5429160"/>
            <a:ext cx="61437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Calibri"/>
              </a:rPr>
              <a:t>Autorem materiálu a všech jeho částí, není-li uvedeno jinak, je  Martin Dlouhý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Vytvořeno dne 4. 9. 2011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Calibri"/>
              </a:rPr>
              <a:t>Nový začátek (New start) CZ.1.07/1.4.00/21.14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Calibri"/>
              </a:rPr>
              <a:t>Tento projekt je spolufinancován Evropským sociálním fondem a státním rozpočtem České republik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1908000" y="1197000"/>
            <a:ext cx="575316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Zástupný symbol pro zápatí 3"/>
          <p:cNvSpPr/>
          <p:nvPr/>
        </p:nvSpPr>
        <p:spPr>
          <a:xfrm>
            <a:off x="1285920" y="5357880"/>
            <a:ext cx="71438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Martin Dlouh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4. 9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14200" y="981000"/>
          <a:ext cx="8715600" cy="4245120"/>
        </p:xfrm>
        <a:graphic>
          <a:graphicData uri="http://schemas.openxmlformats.org/drawingml/2006/table">
            <a:tbl>
              <a:tblPr/>
              <a:tblGrid>
                <a:gridCol w="3372120"/>
                <a:gridCol w="5343480"/>
              </a:tblGrid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rdware a periferie počítač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o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zentace je zaměřena na popis jednotlivých částí PC, kdy žáci samostatně pojmenují součásti a zařízení PC a roztřídí vstupní a výstupní zařízení P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čekávaný výst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V – LM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ormační a komunikační technologie – 2. stupe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 – dodržovat pravidla zacházení s výpočetní technik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uh učebního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uh inter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ý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Rectangle 1"/>
          <p:cNvSpPr/>
          <p:nvPr/>
        </p:nvSpPr>
        <p:spPr>
          <a:xfrm>
            <a:off x="285840" y="429120"/>
            <a:ext cx="57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č.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1.cv.: </a:t>
            </a: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Přiřaďte správné slov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28760" y="128556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eškeré fyzické vybavení počítače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(např. hard disk, procesor, grafická karta) se nazý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eškeré programové vybavení počítače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(např. MS Windows, MS Office, Mac OS X) se nazý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00000"/>
                </a:solidFill>
                <a:latin typeface="Calibri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00000"/>
                </a:solidFill>
                <a:latin typeface="Calibri"/>
              </a:rPr>
              <a:t>Hardw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Zástupný symbol pro zápatí 4"/>
          <p:cNvSpPr/>
          <p:nvPr/>
        </p:nvSpPr>
        <p:spPr>
          <a:xfrm>
            <a:off x="785880" y="6072120"/>
            <a:ext cx="7786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: 4. 9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Hardware uvnitř PC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57120" y="50004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Základní deska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propojuje jednotlivé součástky počítače do fungujícího celku a poskytuje jim elektrické napájení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Procesor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nebo </a:t>
            </a: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mikroprocesor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CPU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cs-CZ" sz="20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e základní součást počítače, která vykonává strojový kód spuštěného počítačového program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Operační paměť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je vnitřní elektronická paměť počítače určená pro dočasné uložení zpracovávaných dat a spouštěného program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Pevný disk</a:t>
            </a:r>
            <a:r>
              <a:rPr b="0" lang="cs-CZ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HDD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) je zařízení, které používá počítač k dočasnému nebo trvalému uchovávání většího množství d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Grafická karta</a:t>
            </a:r>
            <a:r>
              <a:rPr b="0" lang="cs-CZ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e součástí počítače jejímž úkolem je vytvářet grafický výstup na monitoru, grafické výpočty atd.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Zvuková karta</a:t>
            </a:r>
            <a:r>
              <a:rPr b="0" lang="cs-CZ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e rozšiřující karta počítače pro vstup a výstup zvukového signálu, ovládaná softwarov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Síťová karta</a:t>
            </a:r>
            <a:r>
              <a:rPr b="0" lang="cs-CZ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NIC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) slouží ke vzájemné komunikaci počítačů počítačové sít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Napájecí zdroj počítače</a:t>
            </a:r>
            <a:r>
              <a:rPr b="0" lang="cs-CZ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e zařízení sloužící ke zpracování střídavého napětí dodávaného ze sítě na nízké napětí potřebné k napájení komponentů počítač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Chladič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e ventilátor, který ochlazuje vnitřní prostor počítače a zabraňuje přehřátí počítač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Počítačová skříň</a:t>
            </a:r>
            <a:r>
              <a:rPr b="0" lang="cs-CZ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louží k mechanickému upevnění všech ostatních vnitřních dílů a částí počítač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4"/>
          <p:cNvSpPr/>
          <p:nvPr/>
        </p:nvSpPr>
        <p:spPr>
          <a:xfrm>
            <a:off x="500040" y="6215040"/>
            <a:ext cx="828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4. 9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2.cv.: </a:t>
            </a: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Přiřaďte správný název k obrázku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428760" y="857160"/>
            <a:ext cx="1180800" cy="1657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2"/>
          <a:stretch/>
        </p:blipFill>
        <p:spPr>
          <a:xfrm>
            <a:off x="1428840" y="857160"/>
            <a:ext cx="1552320" cy="1600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"/>
          <p:cNvPicPr/>
          <p:nvPr/>
        </p:nvPicPr>
        <p:blipFill>
          <a:blip r:embed="rId3"/>
          <a:stretch/>
        </p:blipFill>
        <p:spPr>
          <a:xfrm>
            <a:off x="2786040" y="1143000"/>
            <a:ext cx="1285920" cy="1324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"/>
          <p:cNvPicPr/>
          <p:nvPr/>
        </p:nvPicPr>
        <p:blipFill>
          <a:blip r:embed="rId4"/>
          <a:stretch/>
        </p:blipFill>
        <p:spPr>
          <a:xfrm>
            <a:off x="3929040" y="928800"/>
            <a:ext cx="1819440" cy="1676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"/>
          <p:cNvPicPr/>
          <p:nvPr/>
        </p:nvPicPr>
        <p:blipFill>
          <a:blip r:embed="rId5"/>
          <a:stretch/>
        </p:blipFill>
        <p:spPr>
          <a:xfrm>
            <a:off x="5572080" y="857160"/>
            <a:ext cx="1743120" cy="1671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"/>
          <p:cNvPicPr/>
          <p:nvPr/>
        </p:nvPicPr>
        <p:blipFill>
          <a:blip r:embed="rId6"/>
          <a:stretch/>
        </p:blipFill>
        <p:spPr>
          <a:xfrm>
            <a:off x="357120" y="2714760"/>
            <a:ext cx="2067120" cy="1962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"/>
          <p:cNvPicPr/>
          <p:nvPr/>
        </p:nvPicPr>
        <p:blipFill>
          <a:blip r:embed="rId7"/>
          <a:stretch/>
        </p:blipFill>
        <p:spPr>
          <a:xfrm>
            <a:off x="2286000" y="3071880"/>
            <a:ext cx="1743120" cy="1619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"/>
          <p:cNvPicPr/>
          <p:nvPr/>
        </p:nvPicPr>
        <p:blipFill>
          <a:blip r:embed="rId8"/>
          <a:stretch/>
        </p:blipFill>
        <p:spPr>
          <a:xfrm>
            <a:off x="3929040" y="3357720"/>
            <a:ext cx="1486080" cy="1361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" descr=""/>
          <p:cNvPicPr/>
          <p:nvPr/>
        </p:nvPicPr>
        <p:blipFill>
          <a:blip r:embed="rId9"/>
          <a:stretch/>
        </p:blipFill>
        <p:spPr>
          <a:xfrm>
            <a:off x="5214960" y="3429000"/>
            <a:ext cx="1685880" cy="1457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"/>
          <p:cNvPicPr/>
          <p:nvPr/>
        </p:nvPicPr>
        <p:blipFill>
          <a:blip r:embed="rId10"/>
          <a:stretch/>
        </p:blipFill>
        <p:spPr>
          <a:xfrm>
            <a:off x="7215120" y="1571760"/>
            <a:ext cx="1219320" cy="1047600"/>
          </a:xfrm>
          <a:prstGeom prst="rect">
            <a:avLst/>
          </a:prstGeom>
          <a:ln w="0">
            <a:noFill/>
          </a:ln>
        </p:spPr>
      </p:pic>
      <p:sp>
        <p:nvSpPr>
          <p:cNvPr id="65" name="Obdélník 20"/>
          <p:cNvSpPr/>
          <p:nvPr/>
        </p:nvSpPr>
        <p:spPr>
          <a:xfrm>
            <a:off x="569880" y="500076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Calibri"/>
              </a:rPr>
              <a:t>zvuková ka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8" descr=""/>
          <p:cNvPicPr/>
          <p:nvPr/>
        </p:nvPicPr>
        <p:blipFill>
          <a:blip r:embed="rId11"/>
          <a:stretch/>
        </p:blipFill>
        <p:spPr>
          <a:xfrm>
            <a:off x="6715080" y="3214800"/>
            <a:ext cx="1866960" cy="1619280"/>
          </a:xfrm>
          <a:prstGeom prst="rect">
            <a:avLst/>
          </a:prstGeom>
          <a:ln w="0">
            <a:noFill/>
          </a:ln>
        </p:spPr>
      </p:pic>
      <p:sp>
        <p:nvSpPr>
          <p:cNvPr id="67" name="Obdélník 22"/>
          <p:cNvSpPr/>
          <p:nvPr/>
        </p:nvSpPr>
        <p:spPr>
          <a:xfrm>
            <a:off x="580320" y="535788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Calibri"/>
              </a:rPr>
              <a:t>USB flash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bdélník 23"/>
          <p:cNvSpPr/>
          <p:nvPr/>
        </p:nvSpPr>
        <p:spPr>
          <a:xfrm>
            <a:off x="576000" y="571500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Calibri"/>
              </a:rPr>
              <a:t>DVD mecha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bdélník 24"/>
          <p:cNvSpPr/>
          <p:nvPr/>
        </p:nvSpPr>
        <p:spPr>
          <a:xfrm>
            <a:off x="2214720" y="5000760"/>
            <a:ext cx="17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Calibri"/>
              </a:rPr>
              <a:t>mikroproce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bdélník 25"/>
          <p:cNvSpPr/>
          <p:nvPr/>
        </p:nvSpPr>
        <p:spPr>
          <a:xfrm>
            <a:off x="2217960" y="5357880"/>
            <a:ext cx="10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Calibri"/>
              </a:rPr>
              <a:t>game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bdélník 26"/>
          <p:cNvSpPr/>
          <p:nvPr/>
        </p:nvSpPr>
        <p:spPr>
          <a:xfrm>
            <a:off x="2357280" y="5715000"/>
            <a:ext cx="74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Calibri"/>
              </a:rPr>
              <a:t>tab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bdélník 27"/>
          <p:cNvSpPr/>
          <p:nvPr/>
        </p:nvSpPr>
        <p:spPr>
          <a:xfrm>
            <a:off x="3861360" y="5000760"/>
            <a:ext cx="15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Calibri"/>
              </a:rPr>
              <a:t>základní de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bdélník 28"/>
          <p:cNvSpPr/>
          <p:nvPr/>
        </p:nvSpPr>
        <p:spPr>
          <a:xfrm>
            <a:off x="3358800" y="535788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Calibri"/>
              </a:rPr>
              <a:t>síťová ka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bdélník 29"/>
          <p:cNvSpPr/>
          <p:nvPr/>
        </p:nvSpPr>
        <p:spPr>
          <a:xfrm>
            <a:off x="3287880" y="571500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Calibri"/>
              </a:rPr>
              <a:t>grafická ka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bdélník 30"/>
          <p:cNvSpPr/>
          <p:nvPr/>
        </p:nvSpPr>
        <p:spPr>
          <a:xfrm>
            <a:off x="4718160" y="5357880"/>
            <a:ext cx="168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Calibri"/>
              </a:rPr>
              <a:t>operační pamě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31"/>
          <p:cNvSpPr/>
          <p:nvPr/>
        </p:nvSpPr>
        <p:spPr>
          <a:xfrm>
            <a:off x="4790520" y="5715000"/>
            <a:ext cx="15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Calibri"/>
              </a:rPr>
              <a:t>zdroj napáj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bdélník 32"/>
          <p:cNvSpPr/>
          <p:nvPr/>
        </p:nvSpPr>
        <p:spPr>
          <a:xfrm>
            <a:off x="5432040" y="500076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Calibri"/>
              </a:rPr>
              <a:t>pevný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0" descr="AM486_DX2-80_and_i486_DX2-66"/>
          <p:cNvPicPr/>
          <p:nvPr/>
        </p:nvPicPr>
        <p:blipFill>
          <a:blip r:embed="rId12"/>
          <a:stretch/>
        </p:blipFill>
        <p:spPr>
          <a:xfrm>
            <a:off x="7072200" y="5214960"/>
            <a:ext cx="1543320" cy="809640"/>
          </a:xfrm>
          <a:prstGeom prst="rect">
            <a:avLst/>
          </a:prstGeom>
          <a:ln w="0">
            <a:noFill/>
          </a:ln>
        </p:spPr>
      </p:pic>
      <p:sp>
        <p:nvSpPr>
          <p:cNvPr id="79" name="Zástupný symbol pro zápatí 27"/>
          <p:cNvSpPr/>
          <p:nvPr/>
        </p:nvSpPr>
        <p:spPr>
          <a:xfrm>
            <a:off x="714240" y="6143760"/>
            <a:ext cx="77868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4. 9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Periferi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57120" y="5716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7030a0"/>
                </a:solidFill>
                <a:latin typeface="Calibri"/>
              </a:rPr>
              <a:t>Vstupní zařízení</a:t>
            </a:r>
            <a:r>
              <a:rPr b="0" lang="cs-CZ" sz="2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e zařízení, kterým počítač pořizuje dat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Počítačová klávesnice</a:t>
            </a:r>
            <a:r>
              <a:rPr b="0" lang="cs-CZ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e odvozená od klávesnice psacího stroje. Je určena ke vkládání znaků a ovládání počítač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Počítačová myš</a:t>
            </a:r>
            <a:r>
              <a:rPr b="0" lang="cs-CZ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umožňuje pohybovat kurzorem myši a vyvolávat události stiskem tlačítk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Gamepad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e zařízení k ovládání počítače při hraní počítačových h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Scanner</a:t>
            </a:r>
            <a:r>
              <a:rPr b="0" lang="cs-CZ" sz="20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Skener</a:t>
            </a:r>
            <a:r>
              <a:rPr b="0" lang="cs-CZ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e zařízení umožňující převedení fyzické předlohy do digitální podoby pro další využití, většinou pomocí počítač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Mikrofon</a:t>
            </a:r>
            <a:r>
              <a:rPr b="0" lang="cs-CZ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e zařízení pro přeměnu zvukového signálu na signál elektrick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7030a0"/>
                </a:solidFill>
                <a:latin typeface="Calibri"/>
              </a:rPr>
              <a:t>Výstupní zařízení</a:t>
            </a:r>
            <a:r>
              <a:rPr b="0" lang="cs-CZ" sz="2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edává data od počítače k uživatel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Monitor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je základní výstupní zařízení sloužící k zobrazování textových a grafických informac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Tiskárna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je zařízení, které slouží k přenosu dat uložených v elektronické podobě na papí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Reproduktory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jsou zvuková výstupní zaří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Zástupný symbol pro zápatí 4"/>
          <p:cNvSpPr/>
          <p:nvPr/>
        </p:nvSpPr>
        <p:spPr>
          <a:xfrm>
            <a:off x="714240" y="6215040"/>
            <a:ext cx="7358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4. 9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3.cv.: </a:t>
            </a: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Připojte periferi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785880" y="2143080"/>
            <a:ext cx="8062920" cy="1546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642960" y="928800"/>
            <a:ext cx="7961400" cy="18572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9"/>
          <p:cNvSpPr/>
          <p:nvPr/>
        </p:nvSpPr>
        <p:spPr>
          <a:xfrm>
            <a:off x="5072040" y="535824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  <a:ea typeface="Calibri"/>
              </a:rPr>
              <a:t>my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575280" y="528696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  <a:ea typeface="Calibri"/>
              </a:rPr>
              <a:t>klávesn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2005200" y="485820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  <a:ea typeface="Calibri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5931360" y="535824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  <a:ea typeface="Calibri"/>
              </a:rPr>
              <a:t>ske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4"/>
          <p:cNvSpPr/>
          <p:nvPr/>
        </p:nvSpPr>
        <p:spPr>
          <a:xfrm>
            <a:off x="3218760" y="485820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  <a:ea typeface="Calibri"/>
              </a:rPr>
              <a:t>reproduk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5"/>
          <p:cNvSpPr/>
          <p:nvPr/>
        </p:nvSpPr>
        <p:spPr>
          <a:xfrm>
            <a:off x="6932160" y="4929480"/>
            <a:ext cx="104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  <a:ea typeface="Calibri"/>
              </a:rPr>
              <a:t>mon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6"/>
          <p:cNvSpPr/>
          <p:nvPr/>
        </p:nvSpPr>
        <p:spPr>
          <a:xfrm>
            <a:off x="6001560" y="4858200"/>
            <a:ext cx="71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  <a:ea typeface="Calibri"/>
              </a:rPr>
              <a:t>zdro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bdélník 19"/>
          <p:cNvSpPr/>
          <p:nvPr/>
        </p:nvSpPr>
        <p:spPr>
          <a:xfrm>
            <a:off x="2076120" y="5286240"/>
            <a:ext cx="9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mod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8"/>
          <p:cNvSpPr/>
          <p:nvPr/>
        </p:nvSpPr>
        <p:spPr>
          <a:xfrm>
            <a:off x="7002000" y="5358240"/>
            <a:ext cx="8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  <a:ea typeface="Calibri"/>
              </a:rPr>
              <a:t>r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9"/>
          <p:cNvSpPr/>
          <p:nvPr/>
        </p:nvSpPr>
        <p:spPr>
          <a:xfrm>
            <a:off x="5002920" y="4858200"/>
            <a:ext cx="81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  <a:ea typeface="Calibri"/>
              </a:rPr>
              <a:t>tab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23"/>
          <p:cNvSpPr/>
          <p:nvPr/>
        </p:nvSpPr>
        <p:spPr>
          <a:xfrm>
            <a:off x="577080" y="4857840"/>
            <a:ext cx="116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flash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0"/>
          <p:cNvSpPr/>
          <p:nvPr/>
        </p:nvSpPr>
        <p:spPr>
          <a:xfrm>
            <a:off x="3216960" y="52869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  <a:ea typeface="Calibri"/>
              </a:rPr>
              <a:t>dataprojek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Zástupný symbol pro zápatí 17"/>
          <p:cNvSpPr/>
          <p:nvPr/>
        </p:nvSpPr>
        <p:spPr>
          <a:xfrm>
            <a:off x="857160" y="6000840"/>
            <a:ext cx="75726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4. 9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Internetové zdroje obrázků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57120" y="42840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Všechny uveřejněné odkazy [cit. 2011-09-04] dostupné pod licencí Creative Commons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ikimedia.or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USB flash disk -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commons.wikimedia.org/wiki/File:USB_Flash_Drive_animated.gif?uselang=c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ablet -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commons.wikimedia.org/wiki/File:Wacom_Pen-tablet_without_mouse.jpg?uselang=c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základní deska -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commons.wikimedia.org/wiki/File:K7_SEM_Motherboard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evný disk -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commons.wikimedia.org/wiki/File:Hard_disk_Western_Digital_WD1200_%28dark1%29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operační paměť -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commons.wikimedia.org/wiki/File:Memory_module_DDRAM_20-03-2006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zvuková karta -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commons.wikimedia.org/wiki/File:Creative_SoundBlaster_Audigy_2_%28SB0400%29-3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íťová karta -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commons.wikimedia.org/wiki/File:Ethernet_pci_card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rafická karta -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commons.wikimedia.org/wiki/File:ATI_Radeon_HD_4890_Graphics_Card-vertical_black_background_oblique_view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VD mechanika -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commons.wikimedia.org/wiki/File:DVD_drive.jpg?uselang=c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zdroj napájení -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commons.wikimedia.org/wiki/File:PC_Netzteil_FSP350-60MDN_Rev._A_Ansicht_1.jpg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ocesor -</a:t>
            </a:r>
            <a:r>
              <a:rPr b="0" lang="cs-CZ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upload.wikimedia.org/wikipedia/commons/a/a3/AM486_DX2-80_and_i486_DX2-66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amepad -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commons.wikimedia.org/wiki/File:Zone_Evil_Joypad_ZE-JPD-010_Green.jpg?uselang=c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S/2 connector -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http://commons.wikimedia.org/wiki/File:MiniDIN-6_Connector_Pinout.svg?uselang=c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VI connector -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://commons.wikimedia.org/wiki/File:DVI-Buchse%2BStecker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USB connector -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http://commons.wikimedia.org/wiki/File:USB_Connector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VGA connector - </a:t>
            </a:r>
            <a:r>
              <a:rPr b="0" lang="cs-CZ" sz="1400" spc="-1" strike="noStrike" u="sng">
                <a:solidFill>
                  <a:srgbClr val="000000"/>
                </a:solidFill>
                <a:uFillTx/>
                <a:latin typeface="Calibri"/>
              </a:rPr>
              <a:t>http://commons.wikimedia.org/wiki/File:VGA_connector_PNr%C2%B00052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TX pover connector - </a:t>
            </a:r>
            <a:r>
              <a:rPr b="0" lang="cs-CZ" sz="1400" spc="-1" strike="noStrike" u="sng">
                <a:solidFill>
                  <a:srgbClr val="000000"/>
                </a:solidFill>
                <a:uFillTx/>
                <a:latin typeface="Calibri"/>
              </a:rPr>
              <a:t>http://commons.wikimedia.org/wiki/File:ATX_PC_back_connectors.jpg?uselang=c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CR cards connector - http</a:t>
            </a:r>
            <a:r>
              <a:rPr b="0" lang="cs-CZ" sz="1400" spc="-1" strike="noStrike" u="sng">
                <a:solidFill>
                  <a:srgbClr val="000000"/>
                </a:solidFill>
                <a:uFillTx/>
                <a:latin typeface="Calibri"/>
              </a:rPr>
              <a:t>://commons.wikimedia.org/wiki/File:Ethernet_pci_card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RS connector – http://commons.wikimedia.org/wiki/File:Salida-entrada_de_audioplacamadre.jpg?uselang=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Zástupný symbol pro zápatí 4"/>
          <p:cNvSpPr/>
          <p:nvPr/>
        </p:nvSpPr>
        <p:spPr>
          <a:xfrm>
            <a:off x="571680" y="6215040"/>
            <a:ext cx="7929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4. 9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3T14:42:50Z</dcterms:created>
  <dc:creator>ZS Kadan</dc:creator>
  <dc:description/>
  <dc:language>en-US</dc:language>
  <cp:lastModifiedBy>martina</cp:lastModifiedBy>
  <dcterms:modified xsi:type="dcterms:W3CDTF">2013-08-22T14:57:08Z</dcterms:modified>
  <cp:revision>44</cp:revision>
  <dc:subject/>
  <dc:title>Hardware a periferie počítače  </dc:title>
</cp:coreProperties>
</file>