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11C-0A0F-40D5-916D-B80ADD87D3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D07-DBF4-4A61-804D-7B1A44FB9B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A71-5F39-41AB-A62E-98B45FA4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B33-3B8B-4326-ABCE-8B7EF87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26A-A82D-4F2B-A59B-DFA94BD1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AA5-A26E-406F-894E-1405A954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BC9B-C444-43A1-8199-B35506FC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DFFE-BB9E-4D83-AEA5-05EF55AF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D4B4-FD68-4B53-BC81-7908B37C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D467-70B5-4173-BDA0-0D3E6F24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0E70-93A3-4849-9EC1-B828A08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F9E3-D080-4875-ABCD-4A13D0B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815-EA58-4D53-BE43-C84555A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CC4-36EC-4F9B-B231-C2E5145C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2786-E45A-40E4-98ED-D13923A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F183-3EE3-4F19-A073-3A6C85A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E4C-23A7-41C7-A9EF-0B9AEBB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25DE-58D3-4E45-8CD0-F6AE77C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5E96-5385-4044-A1AF-BDE7A50B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81B-B058-4F3B-8210-C89B04FD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83C-5471-4BC5-B0DE-0F533BD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006-FAF0-4E81-AF9D-BE5ECA96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77D-9A44-46D2-BA73-17A3A969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4C9-59E0-4ACA-B030-D482460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BDF-24C5-497B-B39D-C46851C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C08-8FC5-4E97-B58A-95ED087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77C9-5BB7-441B-847F-3AA60845D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E577-4C2A-43DD-B382-14F456A5B958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vskadan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5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Základní prvky internetového prohlížeč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ozi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Zástupný symbol pro zápatí 6"/>
          <p:cNvSpPr/>
          <p:nvPr/>
        </p:nvSpPr>
        <p:spPr>
          <a:xfrm>
            <a:off x="1000080" y="6165720"/>
            <a:ext cx="728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Nový začátek (New start) CZ.1.07/1.4.00/21.1409 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571680" y="5877000"/>
            <a:ext cx="8143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Vytvořeno dne 25. 2. 201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133720"/>
          <a:ext cx="8712360" cy="3321000"/>
        </p:xfrm>
        <a:graphic>
          <a:graphicData uri="http://schemas.openxmlformats.org/drawingml/2006/table">
            <a:tbl>
              <a:tblPr/>
              <a:tblGrid>
                <a:gridCol w="3370320"/>
                <a:gridCol w="5342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prvky internetového prohlížeč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prací s internetovým prohlížečem. Žáci se seznámí s jeho základními prvk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1332000" y="12754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a Zpět a Vpř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785600"/>
            <a:ext cx="842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vrátí na předchoz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posune na následujíc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m kliknutí na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ebo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se posuneme o strán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dle tlačíte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je symbol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malé šipky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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po kliknutí na ni se nám zobrazí nabídka všech navštívených strán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kurzorové klávesy vlevo a vpravo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listování stránek přes klávesnici)</a:t>
            </a:r>
            <a:r>
              <a:rPr b="1" lang="cs-CZ" sz="20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Zástupný symbol pro zápatí 6"/>
          <p:cNvSpPr/>
          <p:nvPr/>
        </p:nvSpPr>
        <p:spPr>
          <a:xfrm>
            <a:off x="1071720" y="6400800"/>
            <a:ext cx="735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anel ad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 tohoto okénka zapisujeme webové adre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dresa se skládá z několika slov oddělených tečkami a je psána bez mezer, čárek a háč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zvskadan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dnotlivé webové stránky obsahují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hypertextové odkaz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které odkazují na další webové stránky a poznáme je změnou kurzoru myš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Esc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pozastavení načítání stránky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Zástupný symbol pro zápatí 6"/>
          <p:cNvSpPr/>
          <p:nvPr/>
        </p:nvSpPr>
        <p:spPr>
          <a:xfrm>
            <a:off x="1000080" y="6243480"/>
            <a:ext cx="75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o Aktualizovat a Oblíbené položky,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785960"/>
            <a:ext cx="842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Aktualiza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↓↑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ačte na dlouhodobě otevřené stránce aktuální data a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zobrazí stránku znov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F5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aktualizace otevřené stránky přes klávesnici)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kazují na často navštěvované stránky, které si zařadíme kliknutím na polož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Přidat oblíbenou polož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Histori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ajdeme v záložc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umožňuje najít navštívené stránky v minu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071720" y="6243480"/>
            <a:ext cx="792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Domů</a:t>
            </a:r>
            <a:br>
              <a:rPr sz="4400"/>
            </a:b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42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m znovu načte „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ou stránk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“ = (stránku výchoz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yvolání nabídky domů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vedeme v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lavní nabíd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kliknutím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stroj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Možnosti internet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v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ialogovém okně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 záložko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ecn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píšeme požadovanou internetovou adresu do políčk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á stránk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tvrdím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214280" y="6243480"/>
            <a:ext cx="76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Tis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slouží pro vytištění aktuální webové strán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liknutím na </a:t>
            </a:r>
            <a:r>
              <a:rPr b="1" i="1" lang="cs-CZ" sz="2800" spc="-1" strike="noStrike">
                <a:solidFill>
                  <a:srgbClr val="333399"/>
                </a:solidFill>
                <a:latin typeface="Tahoma"/>
              </a:rPr>
              <a:t>symbol malé šip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dle vyvoláme nabíd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hl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stránku před tiskem zkontroluj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928800" y="624348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Internetové vyhledáva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4240" y="19288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líme je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fultextov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 fultext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edáme informaci zadáním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klíčového slov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do okénka vyhledávače a zvolíme podobu výsledku hledání (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tex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obráze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td.)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Google.cz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sou odkazy řazeny přehledně pod jednotlivými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es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stupně se přes ně proklikáme k požadované informaci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Seznam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143000" y="6243480"/>
            <a:ext cx="77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Ukládání dat z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960" y="185688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celé strán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Úplná 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stránky bez obrázků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14300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8:31:33Z</dcterms:created>
  <dc:creator>Server</dc:creator>
  <dc:description/>
  <dc:language>en-US</dc:language>
  <cp:lastModifiedBy>martina</cp:lastModifiedBy>
  <dcterms:modified xsi:type="dcterms:W3CDTF">2013-08-22T15:06:35Z</dcterms:modified>
  <cp:revision>29</cp:revision>
  <dc:subject/>
  <dc:title>Základní prvky prohlížeče</dc:title>
</cp:coreProperties>
</file>