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C382-B7BC-4E50-B0CF-11F99EC41F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FBF0-4D04-4AAE-944E-8E6C1A63CA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C58-83C7-4BB5-B79D-CAA2B39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FCB-2EA2-455D-A584-A9976C3E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91A-92B1-4436-9F15-1E9E849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801-22AB-48A3-85D6-29BB520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D30-F1B8-4C2C-AEEE-2A8BFB9B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41C-9A6A-4AB5-9831-20DBCDCD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BBD-EA9B-4950-B16A-C3F0842F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FF8-FAD9-4265-B88F-7D622725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3F2-3BC7-4190-8F0F-F9FD6AF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7A1-899C-4A30-9F6E-7AC9427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355-B7F2-480E-85CB-5B6A1180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48B-11AD-4B11-A709-0599594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17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Vytvořeno dne:  Nový začátek (New start) CZ.1.07/1.4.00/21.1409 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5E7-7EE4-45C1-8134-EC11EDCBBA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3"/>
          <p:cNvSpPr/>
          <p:nvPr/>
        </p:nvSpPr>
        <p:spPr>
          <a:xfrm>
            <a:off x="857160" y="5072040"/>
            <a:ext cx="7243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1000080" y="20001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crosoft Office Word 2003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Vkládání klipartu a obráz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Klipar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obrázek vytvořený v programu Word, který můžeme vložit do tex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lipart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po straně se otevře nabídka,  kde vybereme vhodný klipa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Obrázek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e souboru uloženém v počítači vybereme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dobným způsobem.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Ze soubor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obráz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s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rázk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lastmi hledání daného soubor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de vybereme vhodný obráze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857160" y="63565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Zásady psaní textu ve Word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0000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ěžný text píšeme velikostí 10 nebo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nadpisy nepíšeme tečk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můžeme je zvětšit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každou tečkou, čárkou, dvojtečkou píšeme meze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zvýraznění důležité části textu použijem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urzív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učné pís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každou úpravou textu musíme text označ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857160" y="5929200"/>
            <a:ext cx="77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3"/>
          <p:cNvSpPr/>
          <p:nvPr/>
        </p:nvSpPr>
        <p:spPr>
          <a:xfrm>
            <a:off x="857160" y="5929200"/>
            <a:ext cx="7572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1680" y="714240"/>
          <a:ext cx="8001000" cy="4970520"/>
        </p:xfrm>
        <a:graphic>
          <a:graphicData uri="http://schemas.openxmlformats.org/drawingml/2006/table">
            <a:tbl>
              <a:tblPr/>
              <a:tblGrid>
                <a:gridCol w="3095280"/>
                <a:gridCol w="49057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crosoft Office Word 2003 - Cesta k základním úprav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 je zaměřena na úpravy textu v textovém editoru Microsoft Office Word 2003. Žáci se zde postupně seznámí např. s formátováním písma, změnou jeho typu, barvy a velikosti, vložením klipartu nebo obrázku do tex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 - ovládat základy psaní na klávesnici, na uživatelské úrovni práci s textovým editorem, využívat vhodné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42960" y="37476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esta k základním úpravám</a:t>
            </a:r>
            <a:br>
              <a:rPr sz="3600"/>
            </a:br>
            <a:r>
              <a:rPr b="0" lang="cs-CZ" sz="3600" spc="-1" strike="noStrike">
                <a:solidFill>
                  <a:srgbClr val="bfbfbf"/>
                </a:solidFill>
                <a:latin typeface="Calibri"/>
              </a:rPr>
              <a:t>výkl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14320"/>
            <a:ext cx="70005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Microsoft Office Word 2003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je program, který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í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zpracovávat text; mj. v něm lze do dokumentů vkládat obrázky, tabulky a grafy  pomocí </a:t>
            </a: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. V kreslení lze vytvářet jednoduché grafické útvary. Microsoft Word jednoznačně dominuje a formát souborů s příponou </a:t>
            </a:r>
            <a:r>
              <a:rPr b="1" i="1" lang="cs-CZ" sz="3100" spc="-1" strike="noStrike">
                <a:solidFill>
                  <a:srgbClr val="000000"/>
                </a:solidFill>
                <a:latin typeface="Calibri"/>
              </a:rPr>
              <a:t>.doc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se stal standardem, který musí podporovat i konkurenční programy, pokud chtějí uspě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714240" y="5929200"/>
            <a:ext cx="764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Označení textu pomocí myš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vojklik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slovo ho označí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 do textu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sunuj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ojitým kliknutím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íme celý odstave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 př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čátkem jej celý označí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ý text můžeme označi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symbol pro zápatí 4"/>
          <p:cNvSpPr/>
          <p:nvPr/>
        </p:nvSpPr>
        <p:spPr>
          <a:xfrm>
            <a:off x="1071720" y="5857920"/>
            <a:ext cx="700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Psaní speciálních znak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lávesnici nenajdeme všechny znaky, které máme k dispoz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napsání speciálních znaků do textu nám slouž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lož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→ zobrazí se dialogové okno → vybere se symbol a potvrdí s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em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vlož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1357200" y="5857920"/>
            <a:ext cx="707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yp písma a velikost pís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značíme část tex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budeme upravov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yp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mají své názvy –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Arie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Times New Roma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em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ikonu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st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stli se nám nehodí žádná z nabízených velikostí, napíš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 políč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lastní číslo.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1214280" y="5929200"/>
            <a:ext cx="7215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Barva písma a zvýraznění tex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u označeného napsaného textu nastaví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arva písm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zvýraznit kliknutím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výraz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1071720" y="5857920"/>
            <a:ext cx="7358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Formátování odstavc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átovat tlačítky pro formátování odstavc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é najdeme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deme provádět tyt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pra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rovnání tex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levo, na střed, vpravo, do blo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ádkování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sazení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y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714240" y="5786280"/>
            <a:ext cx="764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vorba tabulky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bulka slouží pro přehledné uspořádání da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Tabu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rametry tabulky: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ost tabulky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sloupců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řádků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astnosti automatického přizpůsob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evná šířka sloup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obsah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 okn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Navrhnou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y a ohranič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stavením parametrů tabulk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1000080" y="6357960"/>
            <a:ext cx="7500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16:25Z</dcterms:created>
  <dc:creator>ZS Kadan</dc:creator>
  <dc:description/>
  <dc:language>en-US</dc:language>
  <cp:lastModifiedBy>martina</cp:lastModifiedBy>
  <dcterms:modified xsi:type="dcterms:W3CDTF">2013-08-22T15:00:36Z</dcterms:modified>
  <cp:revision>30</cp:revision>
  <dc:subject/>
  <dc:title>Microsoft Office Word 2003  Cesta k základním úpravám</dc:title>
</cp:coreProperties>
</file>