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3D4-3596-484D-ACC5-D641106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BFA-C14C-456F-B334-6AD90A8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48F-BD7A-4C7D-8EF8-3033FF93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BFF-5790-4115-8211-3E2AFE4B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97B1-BF0B-4310-9CB5-41F05BF3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E337-7FE4-428B-90B2-8213292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4A22-3293-4549-91C2-CEFCEFD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BE19-4F4F-44CB-9994-EA4A222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21C-3CBF-4DD7-9B69-F385BDE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8E5-982A-493B-980B-84D7C98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B4A1-8B20-49EF-A18E-78EE613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860-880E-4480-B548-28EF972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89B2-2B04-41FC-AE05-16E3DE6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35A3-CD12-4EC3-8E8F-33D3096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970B-5912-436B-909F-E29DFFC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9BB9-D9EB-46F8-AC73-402B263F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59A-9956-4926-832F-4A2705BC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0CE22-B419-4114-9ADA-CEC583D2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5D2BB-63BC-48E7-A21B-0EFFE6F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989E3-2952-495F-BD7F-DD102AD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3D20B-AE94-4852-911E-7ECA306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9B9FD-5CAA-46C0-B6D4-955D21B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0D0-7F12-4F7D-A47A-31440913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02C06-8289-46CF-A5EE-5118517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05DF9-BBBF-4D1A-A700-DC3B535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30EAF-9347-4D57-88B1-3A5D798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A438E-4ECC-4CA9-B2CF-DC291F5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40FEC-B9FA-4A6E-9704-C3AC61E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37756-00A1-47ED-B5BB-7BE4BA6F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6B378-94E9-482C-8C7B-247252A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35E0-AFF8-42A0-BD13-55C9D507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5C83-912B-41A9-BC09-F8315DEC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5373-952D-43DC-AC28-87585C57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E33-1FA6-4F67-86C2-651AED6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7590-83F6-46B2-B1AC-7A12237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0E6B-7062-441D-A11A-773FA166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C48B-4B26-4735-9317-D303535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A00D-3AF0-45D8-9C36-097480F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C26F-F481-43B3-A666-E14C8DA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488B-BC11-4A2A-9BE6-6968781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86FD-6422-4545-B358-712AE1E9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1F1B-2B51-4C31-AEAC-88F6106A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1E5F9-4C6D-434B-8711-41FAA3F5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9D16F-89FA-4B55-A3CF-7875E79A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14D-1456-437F-B68E-A2D5C3C6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85E4B-21A3-4F54-8544-77AA064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D0A0F-13FB-43F9-9D2D-69E2CA8B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5792A-9F54-45E5-A7F3-4EE0D888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E746D-6536-48CF-96B6-0510102C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467F2-C479-40BE-82EC-84570313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1A137-BEE6-4FAA-84EB-4AD344A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7E728-A3E4-44F5-B450-9021F18C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73735-5391-45C4-9962-B7CE891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4CEBF-1204-48D8-91FA-295A2A8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A0085-BC83-4A6F-833E-E30CC60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4F4-480E-424B-B730-EFCFFA63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B9475-AE1B-4E29-9B5E-BF8D303B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756A1-4DAD-47D9-9855-DEDC6BDF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CB392-C695-4245-9489-7A1C684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34B5B-98E4-4A48-A537-FA793EC9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4E41E-9E59-4157-9D2E-30A86F7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3E1CF-7FFF-4596-A30A-3F10C827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01EC7-C5D6-45C5-B9C8-2334752E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FB1BC-76A4-4E61-81F4-EEA26CA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4E1E9-D0A9-40B7-AB10-AEAD444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59D82-B9AC-4E32-8128-8F837E2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D0B-6B54-4443-A54D-CEBFBCE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FFC1A8-98FC-44DA-A35D-E511AF1A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CE841-6F5A-4078-9765-B242200F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06A37-6939-4861-AB35-FAB2BAB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4E9EB-96E1-4F17-B03A-14B94421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B6FEC-C961-44B2-97BE-A31F159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AA46B-BE52-456E-BC68-0980307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DF822-E413-4FAA-82D9-D71CB33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E091D-1767-42AA-9CE5-1EBF446B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DFB60-58F7-481C-ACF5-6B353AC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FD51E-B6D1-47C2-A04D-10ADC78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72E-E0CA-4892-8D87-D3B0FEB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F4C1D-F201-4E86-8FCC-4FCA7B05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A87CE-1339-4D4A-B550-CB5037A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6FC5B-6989-4B16-BDE1-294E8659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E32DA-A5E0-4DD5-B4C0-419F9F2A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22A09-4696-486E-B720-2F9F049C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1C7-47D7-4568-902F-D0C14D3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442A-0F84-4C7D-B11C-1BDB8FBD674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D55A-7C99-459E-B029-F0DF46BDD2D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B0C-5687-4735-9A3E-C7F158357EF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3729-BBD3-45F9-8265-88B333B76A3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DCE2-2933-490E-9B40-15BF29FBF47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FF42-740D-4B8A-ADE2-8376F7E34E1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E7F-5803-4AEB-8A08-E10D92D190A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Kuusk_Keila-Paldiski_rdt_&#228;&#228;res.jpg" TargetMode="External"/><Relationship Id="rId3" Type="http://schemas.openxmlformats.org/officeDocument/2006/relationships/hyperlink" Target="http://cs.wikipedia.org/wiki/Soubor:Abies_alba_Orjen.jpg" TargetMode="External"/><Relationship Id="rId4" Type="http://schemas.openxmlformats.org/officeDocument/2006/relationships/hyperlink" Target="http://cs.wikipedia.org/wiki/Soubor:Pinus_nigra_young_tree_Bulgaria.jpg" TargetMode="External"/><Relationship Id="rId5" Type="http://schemas.openxmlformats.org/officeDocument/2006/relationships/hyperlink" Target="http://cs.wikipedia.org/wiki/Soubor:Larix_decidua_Winter.jpg" TargetMode="External"/><Relationship Id="rId6" Type="http://schemas.openxmlformats.org/officeDocument/2006/relationships/hyperlink" Target="http://cs.wikipedia.org/wiki/Soubor:Fagus_sylvatica_Cristata_JPG01a.jpg" TargetMode="External"/><Relationship Id="rId7" Type="http://schemas.openxmlformats.org/officeDocument/2006/relationships/hyperlink" Target="http://cs.wikipedia.org/wiki/Soubor:KorkeichePortugal1994.jpg" TargetMode="External"/><Relationship Id="rId8" Type="http://schemas.openxmlformats.org/officeDocument/2006/relationships/hyperlink" Target="http://cs.wikipedia.org/wiki/Soubor:Alnus_glutinosa_011.jpg" TargetMode="External"/><Relationship Id="rId9" Type="http://schemas.openxmlformats.org/officeDocument/2006/relationships/hyperlink" Target="http://cs.wikipedia.org/wiki/Soubor:Populier_Populus_canadensis.jpg" TargetMode="External"/><Relationship Id="rId10" Type="http://schemas.openxmlformats.org/officeDocument/2006/relationships/hyperlink" Target="http://en.wikipedia.org/wiki/File:Fraxinus_americana_002.jpg" TargetMode="External"/><Relationship Id="rId11" Type="http://schemas.openxmlformats.org/officeDocument/2006/relationships/hyperlink" Target="http://cs.wikipedia.org/wiki/Soubor:Betula_Pendula_at_Stockholm_University_2005-07-01.jpg" TargetMode="External"/><Relationship Id="rId12" Type="http://schemas.openxmlformats.org/officeDocument/2006/relationships/hyperlink" Target="http://cs.wikipedia.org/wiki/Soubor:Litoria_caerulea.jpg" TargetMode="External"/><Relationship Id="rId13" Type="http://schemas.openxmlformats.org/officeDocument/2006/relationships/hyperlink" Target="http://cs.wikipedia.org/wiki/Soubor:Bjchwzh.jpg" TargetMode="External"/><Relationship Id="rId14" Type="http://schemas.openxmlformats.org/officeDocument/2006/relationships/hyperlink" Target="http://cs.wikipedia.org/wiki/Soubor:Arborophila_brunneopectus_male_-_Kaeng_Krachan.jpg" TargetMode="External"/><Relationship Id="rId15" Type="http://schemas.openxmlformats.org/officeDocument/2006/relationships/hyperlink" Target="http://cs.wikipedia.org/wiki/Soubor:Feldhase.jpg" TargetMode="External"/><Relationship Id="rId16" Type="http://schemas.openxmlformats.org/officeDocument/2006/relationships/hyperlink" Target="http://cs.wikipedia.org/wiki/Soubor:Abramis_ballerus.jpg" TargetMode="External"/><Relationship Id="rId17" Type="http://schemas.openxmlformats.org/officeDocument/2006/relationships/hyperlink" Target="http://cs.wikipedia.org/wiki/Soubor:Eichh&#246;rnchen_D&#252;sseldorf_Hofgarten_edit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8</a:t>
            </a: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–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mínky ČR, rozmístění obyvatelstva, vesnice a města</a:t>
            </a:r>
            <a:br>
              <a:rPr sz="2900"/>
            </a:br>
            <a:br>
              <a:rPr sz="27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86000"/>
            <a:ext cx="7559640" cy="4394160"/>
          </a:xfrm>
          <a:prstGeom prst="rect">
            <a:avLst/>
          </a:prstGeom>
          <a:ln w="0">
            <a:noFill/>
          </a:ln>
        </p:spPr>
      </p:pic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A KRAJSKÁ MĚSTA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1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SKANZEM, LÁZEŇSKÁ, HORNICKÁ A HISTOR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DŮLEŽITÁ ČE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371600"/>
            <a:ext cx="7559640" cy="4422600"/>
          </a:xfrm>
          <a:prstGeom prst="rect">
            <a:avLst/>
          </a:prstGeom>
          <a:ln w="0">
            <a:noFill/>
          </a:ln>
        </p:spPr>
      </p:pic>
      <p:sp>
        <p:nvSpPr>
          <p:cNvPr id="42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USTOTA OSÍDLENÍ KRA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6"/>
          <p:cNvSpPr/>
          <p:nvPr/>
        </p:nvSpPr>
        <p:spPr>
          <a:xfrm>
            <a:off x="75564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2 obyvatel/km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7"/>
          <p:cNvSpPr/>
          <p:nvPr/>
        </p:nvSpPr>
        <p:spPr>
          <a:xfrm>
            <a:off x="2342880" y="3500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ovéPole 8"/>
          <p:cNvSpPr/>
          <p:nvPr/>
        </p:nvSpPr>
        <p:spPr>
          <a:xfrm>
            <a:off x="2312640" y="2997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60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ovéPole 9"/>
          <p:cNvSpPr/>
          <p:nvPr/>
        </p:nvSpPr>
        <p:spPr>
          <a:xfrm>
            <a:off x="1487880" y="2276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5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ovéPole 10"/>
          <p:cNvSpPr/>
          <p:nvPr/>
        </p:nvSpPr>
        <p:spPr>
          <a:xfrm>
            <a:off x="2854800" y="19162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3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11"/>
          <p:cNvSpPr/>
          <p:nvPr/>
        </p:nvSpPr>
        <p:spPr>
          <a:xfrm>
            <a:off x="1197720" y="3789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ovéPole 12"/>
          <p:cNvSpPr/>
          <p:nvPr/>
        </p:nvSpPr>
        <p:spPr>
          <a:xfrm>
            <a:off x="2350440" y="4869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3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ovéPole 13"/>
          <p:cNvSpPr/>
          <p:nvPr/>
        </p:nvSpPr>
        <p:spPr>
          <a:xfrm>
            <a:off x="3998520" y="2565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6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ovéPole 14"/>
          <p:cNvSpPr/>
          <p:nvPr/>
        </p:nvSpPr>
        <p:spPr>
          <a:xfrm>
            <a:off x="3502800" y="4149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5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15"/>
          <p:cNvSpPr/>
          <p:nvPr/>
        </p:nvSpPr>
        <p:spPr>
          <a:xfrm>
            <a:off x="4070880" y="3213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4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ovéPole 16"/>
          <p:cNvSpPr/>
          <p:nvPr/>
        </p:nvSpPr>
        <p:spPr>
          <a:xfrm>
            <a:off x="4583520" y="4869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2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ovéPole 17"/>
          <p:cNvSpPr/>
          <p:nvPr/>
        </p:nvSpPr>
        <p:spPr>
          <a:xfrm>
            <a:off x="6096600" y="4508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9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ovéPole 18"/>
          <p:cNvSpPr/>
          <p:nvPr/>
        </p:nvSpPr>
        <p:spPr>
          <a:xfrm>
            <a:off x="5304240" y="3860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1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ovéPole 19"/>
          <p:cNvSpPr/>
          <p:nvPr/>
        </p:nvSpPr>
        <p:spPr>
          <a:xfrm>
            <a:off x="6167880" y="3357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7 obyvatel/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ovéPole 6"/>
          <p:cNvSpPr/>
          <p:nvPr/>
        </p:nvSpPr>
        <p:spPr>
          <a:xfrm>
            <a:off x="539640" y="1700280"/>
            <a:ext cx="785808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4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 map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mr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Kuusk_Keila-Paldiski_rdt_äär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dl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Abies_alba_Orje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orov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Pinus_nigra_young_tree_Bulgar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odří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Larix_decidua_Wint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Fagus_sylvatica_Cristata_JPG01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ub - 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KorkeichePortugal199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l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Alnus_glutinosa_01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opo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Populier_Populus_canadensi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as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en.wikipedia.org/wiki/File:Fraxinus_americana_0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říz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Betula_Pendula_at_Stockholm_University_2005-07-0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á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itoria_caerul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žan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jchwz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roptev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borophila_brunneopectus_male_-_Kaeng_Kracha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ají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Feld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yby (Cejn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Abramis_baller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ver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Eichhörnchen_Düsseldorf_Hofgarten_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voké prase - http://cs.wikipedia.org/wiki/Soubor:Wild_Boar_Habbitat_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atel - http://cs.wikipedia.org/wiki/Soubor:Sphyrapicus_ruber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rnec - http://cs.wikipedia.org/wiki/Soubor:Capreolus_capreolus_(Marek_Szczepanek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len - http://cs.wikipedia.org/wiki/Soubor:Silz_cerf2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ezevec - http://cs.wikipedia.org/wiki/Soubor:Taxidea_tax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aje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, měst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Mapa hustoty obyvatelstva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mínky ČR, rozmístění obyvatelstva, vesnice a mě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poznávají živou přírodu a města ČR, popisují rozmístění obyvatelstva. V prezentaci žáci získávají základní znalosti o České republice. Součástí prezentace je i 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vést hlavní údaje o rozmístění obyvatel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OUSEDN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Í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250920" y="1197000"/>
            <a:ext cx="6405480" cy="475308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6659640" y="184464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78 864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élka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2289.7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ejně jako okolní st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732720" y="3500280"/>
            <a:ext cx="1439640" cy="216072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2"/>
          <a:stretch/>
        </p:blipFill>
        <p:spPr>
          <a:xfrm>
            <a:off x="2556000" y="1341360"/>
            <a:ext cx="1584360" cy="237492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3"/>
          <a:stretch/>
        </p:blipFill>
        <p:spPr>
          <a:xfrm>
            <a:off x="6726240" y="1341360"/>
            <a:ext cx="144612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2556000" y="3573360"/>
            <a:ext cx="1598400" cy="21304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JEHLIČ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mrk (Pice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Jedle (Ab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jběžnější stro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šišky rostou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ČR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5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4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orovice (Pin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Modřín (Lar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tromy i keře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opadavý jehlič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0 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Polabi.jpg"/>
          <p:cNvPicPr/>
          <p:nvPr/>
        </p:nvPicPr>
        <p:blipFill>
          <a:blip r:embed="rId1"/>
          <a:stretch/>
        </p:blipFill>
        <p:spPr>
          <a:xfrm>
            <a:off x="1692360" y="1341360"/>
            <a:ext cx="23032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4140360" y="1341360"/>
            <a:ext cx="2376360" cy="167472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140360" y="3141720"/>
            <a:ext cx="2376360" cy="16858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324000" y="1268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uk (Fag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až 4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ub (Quer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neopadáv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lše (Al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rostou rychle ale do malé vý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3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Polabi.jpg"/>
          <p:cNvPicPr/>
          <p:nvPr/>
        </p:nvPicPr>
        <p:blipFill>
          <a:blip r:embed="rId1"/>
          <a:stretch/>
        </p:blipFill>
        <p:spPr>
          <a:xfrm>
            <a:off x="2484360" y="3284640"/>
            <a:ext cx="1785960" cy="24494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8" descr="450px-Pinus_nigra_young_tree_Bulgaria.jpg"/>
          <p:cNvPicPr/>
          <p:nvPr/>
        </p:nvPicPr>
        <p:blipFill>
          <a:blip r:embed="rId2"/>
          <a:stretch/>
        </p:blipFill>
        <p:spPr>
          <a:xfrm>
            <a:off x="3203640" y="1484280"/>
            <a:ext cx="2238480" cy="167652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9" descr="800px-Alnus_glutinosa_011.jpg"/>
          <p:cNvPicPr/>
          <p:nvPr/>
        </p:nvPicPr>
        <p:blipFill>
          <a:blip r:embed="rId3"/>
          <a:stretch/>
        </p:blipFill>
        <p:spPr>
          <a:xfrm>
            <a:off x="4427640" y="3284640"/>
            <a:ext cx="1873080" cy="2496960"/>
          </a:xfrm>
          <a:prstGeom prst="rect">
            <a:avLst/>
          </a:prstGeom>
          <a:ln w="0">
            <a:noFill/>
          </a:ln>
        </p:spPr>
      </p:pic>
      <p:sp>
        <p:nvSpPr>
          <p:cNvPr id="38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LISTNATÉ STR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LÓR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2"/>
          <p:cNvSpPr/>
          <p:nvPr/>
        </p:nvSpPr>
        <p:spPr>
          <a:xfrm>
            <a:off x="324000" y="1268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říza (Bet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ílá ků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12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opol (Populu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Jasan (Fraxin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měkké dřevo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v ČR 2 dru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100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ruhů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60 dru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rázek 8" descr="800px-Krusne_hory_CZ_I3A-2.png"/>
          <p:cNvPicPr/>
          <p:nvPr/>
        </p:nvPicPr>
        <p:blipFill>
          <a:blip r:embed="rId1"/>
          <a:stretch/>
        </p:blipFill>
        <p:spPr>
          <a:xfrm>
            <a:off x="4140360" y="2349360"/>
            <a:ext cx="1857240" cy="1224000"/>
          </a:xfrm>
          <a:prstGeom prst="rect">
            <a:avLst/>
          </a:prstGeom>
          <a:ln w="0">
            <a:noFill/>
          </a:ln>
        </p:spPr>
      </p:pic>
      <p:pic>
        <p:nvPicPr>
          <p:cNvPr id="386" name="Obrázek 9" descr="280px-Arborophila_brunneopectus_male_-_Kaeng_Krachan.jpg"/>
          <p:cNvPicPr/>
          <p:nvPr/>
        </p:nvPicPr>
        <p:blipFill>
          <a:blip r:embed="rId2"/>
          <a:stretch/>
        </p:blipFill>
        <p:spPr>
          <a:xfrm>
            <a:off x="826920" y="2708280"/>
            <a:ext cx="1833840" cy="12254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4716360" y="4653000"/>
            <a:ext cx="1981440" cy="129708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2556000" y="1484280"/>
            <a:ext cx="1670040" cy="129708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2484360" y="3573360"/>
            <a:ext cx="2266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V NÍŽINÁCH, U VODY A VE VO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12"/>
          <p:cNvSpPr/>
          <p:nvPr/>
        </p:nvSpPr>
        <p:spPr>
          <a:xfrm>
            <a:off x="468360" y="14842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táci (Aves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Obojživelné (Amphib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bažant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- žá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korop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Savci (Mammalia)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yby (Osteichthy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zajíc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- Ce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Obrázek 7" descr="800px-Cesky_les_CZ_I1A-1.png"/>
          <p:cNvPicPr/>
          <p:nvPr/>
        </p:nvPicPr>
        <p:blipFill>
          <a:blip r:embed="rId1"/>
          <a:stretch/>
        </p:blipFill>
        <p:spPr>
          <a:xfrm>
            <a:off x="7472520" y="3213000"/>
            <a:ext cx="1671480" cy="1079640"/>
          </a:xfrm>
          <a:prstGeom prst="rect">
            <a:avLst/>
          </a:prstGeom>
          <a:ln w="0">
            <a:noFill/>
          </a:ln>
        </p:spPr>
      </p:pic>
      <p:pic>
        <p:nvPicPr>
          <p:cNvPr id="395" name="Obrázek 14" descr="800px-Taxidea_taxus.jpg"/>
          <p:cNvPicPr/>
          <p:nvPr/>
        </p:nvPicPr>
        <p:blipFill>
          <a:blip r:embed="rId2"/>
          <a:stretch/>
        </p:blipFill>
        <p:spPr>
          <a:xfrm>
            <a:off x="5940360" y="4941720"/>
            <a:ext cx="1725840" cy="1151280"/>
          </a:xfrm>
          <a:prstGeom prst="rect">
            <a:avLst/>
          </a:prstGeom>
          <a:ln w="0">
            <a:noFill/>
          </a:ln>
        </p:spPr>
      </p:pic>
      <p:pic>
        <p:nvPicPr>
          <p:cNvPr id="396" name="Obrázek 9" descr="800px-Jizerske_hory_CZ_I4A-6.png"/>
          <p:cNvPicPr/>
          <p:nvPr/>
        </p:nvPicPr>
        <p:blipFill>
          <a:blip r:embed="rId3"/>
          <a:stretch/>
        </p:blipFill>
        <p:spPr>
          <a:xfrm>
            <a:off x="6875640" y="2133720"/>
            <a:ext cx="1728720" cy="1171440"/>
          </a:xfrm>
          <a:prstGeom prst="rect">
            <a:avLst/>
          </a:prstGeom>
          <a:ln w="0">
            <a:noFill/>
          </a:ln>
        </p:spPr>
      </p:pic>
      <p:pic>
        <p:nvPicPr>
          <p:cNvPr id="397" name="Obrázek 6" descr="800px-Sumava_CZ_I1B-1.png"/>
          <p:cNvPicPr/>
          <p:nvPr/>
        </p:nvPicPr>
        <p:blipFill>
          <a:blip r:embed="rId4"/>
          <a:stretch/>
        </p:blipFill>
        <p:spPr>
          <a:xfrm>
            <a:off x="7093080" y="4221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98" name="Obrázek 9" descr="280px-Arborophila_brunneopectus_male_-_Kaeng_Krachan.jpg"/>
          <p:cNvPicPr/>
          <p:nvPr/>
        </p:nvPicPr>
        <p:blipFill>
          <a:blip r:embed="rId5"/>
          <a:stretch/>
        </p:blipFill>
        <p:spPr>
          <a:xfrm>
            <a:off x="2484360" y="1700280"/>
            <a:ext cx="1224000" cy="1866960"/>
          </a:xfrm>
          <a:prstGeom prst="rect">
            <a:avLst/>
          </a:prstGeom>
          <a:ln w="0">
            <a:noFill/>
          </a:ln>
        </p:spPr>
      </p:pic>
      <p:sp>
        <p:nvSpPr>
          <p:cNvPr id="39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4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ZVÍŘATA ŽIJÍCÍ NA HORÁCH A V LES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FAUNA 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Obrázek 8" descr="800px-Krusne_hory_CZ_I3A-2.png"/>
          <p:cNvPicPr/>
          <p:nvPr/>
        </p:nvPicPr>
        <p:blipFill>
          <a:blip r:embed="rId6"/>
          <a:stretch/>
        </p:blipFill>
        <p:spPr>
          <a:xfrm>
            <a:off x="6012000" y="1052640"/>
            <a:ext cx="1858680" cy="1215720"/>
          </a:xfrm>
          <a:prstGeom prst="rect">
            <a:avLst/>
          </a:prstGeom>
          <a:ln w="0">
            <a:noFill/>
          </a:ln>
        </p:spPr>
      </p:pic>
      <p:pic>
        <p:nvPicPr>
          <p:cNvPr id="403" name="Diagram 23" descr=""/>
          <p:cNvPicPr/>
          <p:nvPr/>
        </p:nvPicPr>
        <p:blipFill>
          <a:blip r:embed="rId7"/>
          <a:stretch/>
        </p:blipFill>
        <p:spPr>
          <a:xfrm>
            <a:off x="2981160" y="1109520"/>
            <a:ext cx="4187880" cy="4784760"/>
          </a:xfrm>
          <a:prstGeom prst="rect">
            <a:avLst/>
          </a:prstGeom>
          <a:ln w="0">
            <a:noFill/>
          </a:ln>
        </p:spPr>
      </p:pic>
      <p:pic>
        <p:nvPicPr>
          <p:cNvPr id="404" name="Diagram 25" descr=""/>
          <p:cNvPicPr/>
          <p:nvPr/>
        </p:nvPicPr>
        <p:blipFill>
          <a:blip r:embed="rId8"/>
          <a:stretch/>
        </p:blipFill>
        <p:spPr>
          <a:xfrm>
            <a:off x="-6480" y="1127160"/>
            <a:ext cx="246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BYVATELÉ Č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Če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Morav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lezan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ě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usov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lá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ietnam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kraji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Obča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Schoolbook"/>
              </a:rPr>
              <a:t>Zde žijící cizin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Obdélník 6"/>
          <p:cNvSpPr/>
          <p:nvPr/>
        </p:nvSpPr>
        <p:spPr>
          <a:xfrm>
            <a:off x="611280" y="5732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4. 1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9:24Z</dcterms:modified>
  <cp:revision>116</cp:revision>
  <dc:subject/>
  <dc:title>č. 21 – Česká republika a Evropa - opakování</dc:title>
</cp:coreProperties>
</file>