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5DD-D64C-43DF-AB97-16B227CD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DB5-7C49-49F8-920C-3C928886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1629-6EFD-4ECD-AB8A-E5EC869C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71E1-5A97-4CFD-A2C9-4DA7DB22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5CF0-8B4B-4556-876F-FD749F3E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9B26-6845-4FB8-ABF3-748A67F0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E5EA-0601-43D1-A40E-7C250B82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4FB9-63C2-4F73-8F6C-5089D611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9172-0A5E-4BE6-9EFF-C912A5EE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D4E5-AB36-4CE7-B8A7-B3E61D93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5DD0-6624-4370-BFB7-DF021F70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8B79-83F4-4EC8-BDE9-96E1FF2C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1E88-F06D-47EF-9F8A-5F14D5AA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F1F4-5B83-4D1E-8830-B38C38B3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8047-B031-406A-8C70-A8E59F40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AD39-8FF9-4FC8-BEBE-63C84FB4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429E-F8AC-4A5B-BD6E-0282E73F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DC702-2267-4C7F-BB82-DE823DB1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351A3-042C-45B8-BD6E-FCE5EBDB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33076-A09E-4087-8BE2-6436F424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43435-0E13-444C-B890-AF659986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9068A4-1907-40B5-9E4F-A165D6E2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F8A-D041-4146-A1FF-934FD0AB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C3A7F-FB76-401E-AE3A-6DA134EA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ECFA8-4D62-45CC-85B5-27A5E8C8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0B947-ABDD-4CD6-BC84-DAB38820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0401C-900B-47F1-AFF9-3E19D4F8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F2370-853F-412D-A8AE-796570AD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03530-6742-4347-931B-343F7DFD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8F0A3-8A24-4CA1-9B0F-C3446281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30036-330F-4629-9C4D-E08D4811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BDC29-006B-40BA-863A-868C125E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8B512-B234-4077-B22E-A7BE7234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EDC2-8881-4B29-A1BC-F5532298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93E7C-9DB1-4C31-9A47-8E8BB06A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94858-C4E0-49CB-9E4C-9BA8CEFE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07BE2-E127-4041-B9C9-F56E91F7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D9DFB-1BD1-42C1-972C-44CA529F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3BB6B-04FA-4452-B16F-FF81DD45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681D9-DDE2-4654-B6AF-25BB2264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9784F-D8A3-4F79-B515-3FAC6B3B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4676B-4C93-4768-9134-0786EA02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5D354-0195-4C80-A592-5C1F5A00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B5E57F-DDB8-4ECE-B6CC-9417CEBB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2AC-1064-4CD4-BD64-1F93610B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C280A2-20DF-47D4-975F-92DF6CAB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50DFF0-DB80-4E07-A601-EF107AD7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3AF68-44A7-4F02-99F4-FC5DB308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DC0A7B-AA25-4EE6-A733-DB7C1F7C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6B8CB7-0AE0-429C-86E2-97D31766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6D12B4-5C65-4FC0-A47A-8B524006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CA4B0-E452-4BA8-8EF0-BA375925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3BF0E-1E4A-43AA-8044-EF41FD72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DBA5FF-F43A-42B6-81F0-FC56B9CA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0969D-DD05-44E5-AC73-571385BE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684-68F9-4014-8CCD-955A74BB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9A71DF-AE4B-42DB-BEBA-462BE42E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B89025-BA4E-46C5-853F-FED04CFE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824F3F-7E1C-427F-823C-92D405F1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9BA8B1-DC2B-41BC-AF49-55D8851E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A3C397-6DB4-4F76-A2DF-C1975D18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A3B59-A8C2-4F65-A874-77AC422D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60CD38-280B-41F2-9433-E6CA9156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CBC2B-E39B-40CD-90D5-5FF67825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708D97-55EB-425F-9591-48E0A6BB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03CDFD-03B8-45C1-A7F7-439C9F4F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786-DB02-4D74-8CC5-363A0887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C80D07-300E-46C0-A85D-72CBD4A4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FA1473-AC19-4D87-B9F5-834548B7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ED9359-C6FF-430A-B027-00ECCD50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854D10-B20C-4693-99F1-ABF06FD7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1CED03-9613-47F3-B2F0-06CB0166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D84C20-99FE-4243-9FD4-3CC0D08E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41AE30-715A-4B8B-8255-E0995393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8714DF-020A-409E-84A6-75D6B0EF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44B405-8FDB-45F0-98A3-C1BFE26F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BA1AB0-3BBD-4860-8081-0AE90F53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797-C0E3-421A-B473-9C27D9B6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6BACB3-13EF-41EC-AE71-D7E9BF51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A1F43E-3AC2-4E04-AEAA-A98AF34D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71C0B4-D26D-49F4-A16C-287B0812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3502A1-1013-4261-AB3F-4796C7BE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1C6246-B125-4A50-8803-296D5A2E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03F-2D17-4DD3-8CBA-FF0ADBC1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51F9-5D60-4616-BEA6-5BB0E1872256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6156-8A55-4965-A289-B96DAA6A20EB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7ED5-A242-48A2-B04E-80240D560F9C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40FB-BE95-44DA-A9D8-63898678C8B3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B54C-01EA-41C6-B905-2F916D8D36A9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FA56-15A5-4AB7-81C5-39BF2F978FDA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A503-299C-4D89-A7FB-024258E1A0E8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hyperlink" Target="http://cs.wikipedia.org/wiki/Soubor:Gobi_Desert.jpg" TargetMode="External"/><Relationship Id="rId3" Type="http://schemas.openxmlformats.org/officeDocument/2006/relationships/hyperlink" Target="http://cs.wikipedia.org/wiki/Soubor:FujiSunriseKawaguchiko2025WP.jpg" TargetMode="External"/><Relationship Id="rId4" Type="http://schemas.openxmlformats.org/officeDocument/2006/relationships/hyperlink" Target="http://en.wikipedia.org/wiki/File:Ganges-Brahmaputra-Meghna_basins.jpg" TargetMode="External"/><Relationship Id="rId5" Type="http://schemas.openxmlformats.org/officeDocument/2006/relationships/hyperlink" Target="http://cs.wikipedia.org/wiki/Soubor:GreatWall_2004_Summer_4.jpg" TargetMode="External"/><Relationship Id="rId6" Type="http://schemas.openxmlformats.org/officeDocument/2006/relationships/hyperlink" Target="http://en.wikipedia.org/wiki/File:Monastery_around_Dhamek_stupa,_Sarnath.jpg" TargetMode="External"/><Relationship Id="rId7" Type="http://schemas.openxmlformats.org/officeDocument/2006/relationships/hyperlink" Target="http://en.wikipedia.org/wiki/File:Ganga_Dashara,_at_Haridwar.jpg" TargetMode="External"/><Relationship Id="rId8" Type="http://schemas.openxmlformats.org/officeDocument/2006/relationships/hyperlink" Target="http://ru.wikipedia.org/wiki/&#1060;&#1072;&#1081;&#1083;:EthnAfrica.jpg" TargetMode="External"/><Relationship Id="rId9" Type="http://schemas.openxmlformats.org/officeDocument/2006/relationships/hyperlink" Target="http://cs.wikipedia.org/wiki/Soubor:African_continent-cs.svg" TargetMode="External"/><Relationship Id="rId10" Type="http://schemas.openxmlformats.org/officeDocument/2006/relationships/hyperlink" Target="http://cs.wikipedia.org/wiki/Soubor:Zebras,_Serengeti_savana_plains,_Tanzania.jpg" TargetMode="External"/><Relationship Id="rId11" Type="http://schemas.openxmlformats.org/officeDocument/2006/relationships/hyperlink" Target="http://cs.wikipedia.org/wiki/Soubor:All_Gizah_Pyramids.jpg" TargetMode="External"/><Relationship Id="rId12" Type="http://schemas.openxmlformats.org/officeDocument/2006/relationships/hyperlink" Target="http://en.wikipedia.org/wiki/File:Egyptian_funerary_stela.jpg" TargetMode="External"/><Relationship Id="rId13" Type="http://schemas.openxmlformats.org/officeDocument/2006/relationships/hyperlink" Target="http://cs.wikipedia.org/wiki/Soubor:Asian_Elephant_Prague_Zoo.jpg" TargetMode="External"/><Relationship Id="rId14" Type="http://schemas.openxmlformats.org/officeDocument/2006/relationships/hyperlink" Target="http://cs.wikipedia.org/wiki/Soubor:Chameau_de_bactriane.JPG" TargetMode="External"/><Relationship Id="rId15" Type="http://schemas.openxmlformats.org/officeDocument/2006/relationships/hyperlink" Target="http://cs.wikipedia.org/wiki/Soubor:Zebras.jpg" TargetMode="External"/><Relationship Id="rId16" Type="http://schemas.openxmlformats.org/officeDocument/2006/relationships/hyperlink" Target="http://cs.wikipedia.org/wiki/Soubor:Impala.JPG" TargetMode="External"/><Relationship Id="rId17" Type="http://schemas.openxmlformats.org/officeDocument/2006/relationships/hyperlink" Target="http://cs.wikipedia.org/wiki/Soubor:Giraffe_standing.jpg" TargetMode="External"/><Relationship Id="rId18" Type="http://schemas.openxmlformats.org/officeDocument/2006/relationships/hyperlink" Target="http://cs.wikipedia.org/wiki/Soubor:Smirolato.JPG" TargetMode="External"/><Relationship Id="rId19" Type="http://schemas.openxmlformats.org/officeDocument/2006/relationships/hyperlink" Target="http://cs.wikipedia.org/wiki/Soubor:Male_silverback_Gorilla.JPG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Č.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18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 –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SVĚTADÍLY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SIE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, AFRIKA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92360" y="76500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FAUNA AFRI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Diagram 13" descr=""/>
          <p:cNvPicPr/>
          <p:nvPr/>
        </p:nvPicPr>
        <p:blipFill>
          <a:blip r:embed="rId1"/>
          <a:stretch/>
        </p:blipFill>
        <p:spPr>
          <a:xfrm>
            <a:off x="463680" y="1390680"/>
            <a:ext cx="4114800" cy="4565520"/>
          </a:xfrm>
          <a:prstGeom prst="rect">
            <a:avLst/>
          </a:prstGeom>
          <a:ln w="0">
            <a:noFill/>
          </a:ln>
        </p:spPr>
      </p:pic>
      <p:pic>
        <p:nvPicPr>
          <p:cNvPr id="416" name="Diagram 17" descr=""/>
          <p:cNvPicPr/>
          <p:nvPr/>
        </p:nvPicPr>
        <p:blipFill>
          <a:blip r:embed="rId2"/>
          <a:stretch/>
        </p:blipFill>
        <p:spPr>
          <a:xfrm>
            <a:off x="4492800" y="1335240"/>
            <a:ext cx="41148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DKA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ovéPole 6"/>
          <p:cNvSpPr/>
          <p:nvPr/>
        </p:nvSpPr>
        <p:spPr>
          <a:xfrm>
            <a:off x="539640" y="1341360"/>
            <a:ext cx="7858080" cy="47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droj obrázku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šechny uveřejněné odkazy [cit. 2013-01-02] dostupné pod licencí Public doma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www.wikipedia.org</a:t>
            </a:r>
            <a:r>
              <a:rPr b="0" lang="cs-CZ" sz="1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Asie </a:t>
            </a: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(Mapa) –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sie (Politická mapa) – Vlastní výro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oušť Gobi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2"/>
              </a:rPr>
              <a:t>http://cs.wikipedia.org/wiki/Soubor:Gobi_Deser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opka Fudži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3"/>
              </a:rPr>
              <a:t>http://cs.wikipedia.org/wiki/Soubor:FujiSunriseKawaguchiko2025WP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Ganga (Mapa)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4"/>
              </a:rPr>
              <a:t>http://en.wikipedia.org/wiki/File:Ganges-Brahmaputra-Meghna_basin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elká čínská zeď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5"/>
              </a:rPr>
              <a:t>http://cs.wikipedia.org/wiki/Soubor:GreatWall_2004_Summer_4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Buddhistický chrám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http://en.wikipedia.org/wiki/File:Monastery_around_Dhamek_stupa,_Sarnath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osvátná koupel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7"/>
              </a:rPr>
              <a:t>http://en.wikipedia.org/wiki/File:Ganga_Dashara,_at_Haridwa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Obyvatelé Afriky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8"/>
              </a:rPr>
              <a:t>http://ru.wikipedia.org/wiki/%D0%A4%D0%B0%D0%B9%D0%BB:EthnAfric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Politická mapa Afriky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9"/>
              </a:rPr>
              <a:t>http://cs.wikipedia.org/wiki/Soubor:African_continent-cs.sv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Národní park Serengeti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0"/>
              </a:rPr>
              <a:t>http://cs.wikipedia.org/wiki/Soubor:Zebras,_Serengeti_savana_plains,_Tanzani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Pyramidy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Arial"/>
                <a:hlinkClick r:id="rId11"/>
              </a:rPr>
              <a:t>http://cs.wikipedia.org/wiki/Soubor:All_Gizah_Pyramid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Hieroglyfy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2"/>
              </a:rPr>
              <a:t>http://en.wikipedia.org/wiki/File:Egyptian_funerary_stel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Slon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3"/>
              </a:rPr>
              <a:t>http://cs.wikipedia.org/wiki/Soubor:Asian_Elephant_Prague_Zoo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Velbloud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4"/>
              </a:rPr>
              <a:t>http://cs.wikipedia.org/wiki/Soubor:Chameau_de_bactrian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Zebr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5"/>
              </a:rPr>
              <a:t>http://cs.wikipedia.org/wiki/Soubor:Zebra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Antilopa -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6"/>
              </a:rPr>
              <a:t>http://cs.wikipedia.org/wiki/Soubor:Impal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Žirafa –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7"/>
              </a:rPr>
              <a:t>http://cs.wikipedia.org/wiki/Soubor:Giraffe_standing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Nosorožec –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8"/>
              </a:rPr>
              <a:t>http://cs.wikipedia.org/wiki/Soubor:Smirolato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Gorila – </a:t>
            </a:r>
            <a:r>
              <a:rPr b="0" lang="cs-CZ" sz="1000" spc="-1" strike="noStrike" u="sng">
                <a:solidFill>
                  <a:srgbClr val="d2611c"/>
                </a:solidFill>
                <a:uFillTx/>
                <a:latin typeface="Century Schoolbook"/>
                <a:hlinkClick r:id="rId19"/>
              </a:rPr>
              <a:t>http://cs.wikipedia.org/wiki/Soubor:Male_silverback_Gorill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Hyena –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Spotted_hyena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Hroch –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Nilpferd_auftauchend_0505012_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Krokodýl –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NileCrocodil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Šimpanz –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Chimpans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Lev -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Lion_waiting_in_Namibi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55640" y="981000"/>
          <a:ext cx="7632720" cy="3494160"/>
        </p:xfrm>
        <a:graphic>
          <a:graphicData uri="http://schemas.openxmlformats.org/drawingml/2006/table">
            <a:tbl>
              <a:tblPr/>
              <a:tblGrid>
                <a:gridCol w="2952720"/>
                <a:gridCol w="4680000"/>
              </a:tblGrid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ětadíly Asie, Afr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Žáci si upevňují znalosti o světadílech, poznávají a rozlišují přírodní a společenské znaky. Získávají další nové znalosti na dané téma. Součástí prezentace je i pracovní lis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čekávaný výs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 – LM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příroda – 2. stupe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 – vyhledat na mapách jednotlivé světadíly a oceá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rozlišit zásadní přírodní a společenské znaky světových region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interak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kl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AS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Obrázek 6" descr="Asie.jpg"/>
          <p:cNvPicPr/>
          <p:nvPr/>
        </p:nvPicPr>
        <p:blipFill>
          <a:blip r:embed="rId1"/>
          <a:stretch/>
        </p:blipFill>
        <p:spPr>
          <a:xfrm>
            <a:off x="1042920" y="1484280"/>
            <a:ext cx="583272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ASIE (POLITICKÁ MAP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Obrázek 6" descr="Asie.jpg"/>
          <p:cNvPicPr/>
          <p:nvPr/>
        </p:nvPicPr>
        <p:blipFill>
          <a:blip r:embed="rId1"/>
          <a:stretch/>
        </p:blipFill>
        <p:spPr>
          <a:xfrm>
            <a:off x="179280" y="1628640"/>
            <a:ext cx="7201080" cy="4148280"/>
          </a:xfrm>
          <a:prstGeom prst="rect">
            <a:avLst/>
          </a:prstGeom>
          <a:ln w="0">
            <a:noFill/>
          </a:ln>
        </p:spPr>
      </p:pic>
      <p:sp>
        <p:nvSpPr>
          <p:cNvPr id="366" name="TextovéPole 7"/>
          <p:cNvSpPr/>
          <p:nvPr/>
        </p:nvSpPr>
        <p:spPr>
          <a:xfrm>
            <a:off x="4859280" y="350028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50 stá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větší: Rusko, Čína, In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vyspělejší: Japonsko, Iz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římá spojovací čára 15"/>
          <p:cNvSpPr/>
          <p:nvPr/>
        </p:nvSpPr>
        <p:spPr>
          <a:xfrm flipV="1">
            <a:off x="6804000" y="2636640"/>
            <a:ext cx="0" cy="122364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římá spojovací čára 17"/>
          <p:cNvSpPr/>
          <p:nvPr/>
        </p:nvSpPr>
        <p:spPr>
          <a:xfrm flipH="1" flipV="1">
            <a:off x="5219280" y="1989000"/>
            <a:ext cx="1584360" cy="648000"/>
          </a:xfrm>
          <a:prstGeom prst="line">
            <a:avLst/>
          </a:prstGeom>
          <a:ln w="3492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římá spojovací čára 19"/>
          <p:cNvSpPr/>
          <p:nvPr/>
        </p:nvSpPr>
        <p:spPr>
          <a:xfrm flipH="1" flipV="1">
            <a:off x="6948360" y="3141360"/>
            <a:ext cx="503280" cy="7189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římá spojovací čára 21"/>
          <p:cNvSpPr/>
          <p:nvPr/>
        </p:nvSpPr>
        <p:spPr>
          <a:xfrm flipH="1">
            <a:off x="4140360" y="3141720"/>
            <a:ext cx="2808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římá spojovací čára 23"/>
          <p:cNvSpPr/>
          <p:nvPr/>
        </p:nvSpPr>
        <p:spPr>
          <a:xfrm flipH="1" flipV="1">
            <a:off x="6372000" y="3428640"/>
            <a:ext cx="1655640" cy="431640"/>
          </a:xfrm>
          <a:prstGeom prst="line">
            <a:avLst/>
          </a:prstGeom>
          <a:ln w="3492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římá spojovací čára 25"/>
          <p:cNvSpPr/>
          <p:nvPr/>
        </p:nvSpPr>
        <p:spPr>
          <a:xfrm flipH="1">
            <a:off x="2555640" y="3429000"/>
            <a:ext cx="3816360" cy="0"/>
          </a:xfrm>
          <a:prstGeom prst="line">
            <a:avLst/>
          </a:prstGeom>
          <a:ln w="3492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římá spojovací čára 27"/>
          <p:cNvSpPr/>
          <p:nvPr/>
        </p:nvSpPr>
        <p:spPr>
          <a:xfrm flipH="1">
            <a:off x="5219640" y="4365720"/>
            <a:ext cx="2160720" cy="28728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30"/>
          <p:cNvSpPr/>
          <p:nvPr/>
        </p:nvSpPr>
        <p:spPr>
          <a:xfrm flipV="1">
            <a:off x="5219640" y="3068280"/>
            <a:ext cx="0" cy="1584360"/>
          </a:xfrm>
          <a:prstGeom prst="line">
            <a:avLst/>
          </a:prstGeom>
          <a:ln w="3492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římá spojovací čára 32"/>
          <p:cNvSpPr/>
          <p:nvPr/>
        </p:nvSpPr>
        <p:spPr>
          <a:xfrm flipH="1">
            <a:off x="684360" y="4365720"/>
            <a:ext cx="7775280" cy="136692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36"/>
          <p:cNvSpPr/>
          <p:nvPr/>
        </p:nvSpPr>
        <p:spPr>
          <a:xfrm flipH="1" flipV="1">
            <a:off x="610920" y="3212640"/>
            <a:ext cx="73080" cy="2519640"/>
          </a:xfrm>
          <a:prstGeom prst="line">
            <a:avLst/>
          </a:prstGeom>
          <a:ln w="34920">
            <a:solidFill>
              <a:srgbClr val="f5c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2124000" y="1628640"/>
            <a:ext cx="2136960" cy="1602000"/>
          </a:xfrm>
          <a:prstGeom prst="rect">
            <a:avLst/>
          </a:prstGeom>
          <a:ln w="0">
            <a:noFill/>
          </a:ln>
        </p:spPr>
      </p:pic>
      <p:pic>
        <p:nvPicPr>
          <p:cNvPr id="378" name="Obrázek 8" descr="800px-Krusne_hory_CZ_I3A-2.png"/>
          <p:cNvPicPr/>
          <p:nvPr/>
        </p:nvPicPr>
        <p:blipFill>
          <a:blip r:embed="rId2"/>
          <a:stretch/>
        </p:blipFill>
        <p:spPr>
          <a:xfrm>
            <a:off x="4211640" y="1628640"/>
            <a:ext cx="2448000" cy="1632240"/>
          </a:xfrm>
          <a:prstGeom prst="rect">
            <a:avLst/>
          </a:prstGeom>
          <a:ln w="0">
            <a:noFill/>
          </a:ln>
        </p:spPr>
      </p:pic>
      <p:pic>
        <p:nvPicPr>
          <p:cNvPr id="379" name="Obrázek 7" descr="800px-Cesky_les_CZ_I1A-1.png"/>
          <p:cNvPicPr/>
          <p:nvPr/>
        </p:nvPicPr>
        <p:blipFill>
          <a:blip r:embed="rId3"/>
          <a:stretch/>
        </p:blipFill>
        <p:spPr>
          <a:xfrm>
            <a:off x="2124000" y="3213000"/>
            <a:ext cx="2303640" cy="1871640"/>
          </a:xfrm>
          <a:prstGeom prst="rect">
            <a:avLst/>
          </a:prstGeom>
          <a:ln w="0">
            <a:noFill/>
          </a:ln>
        </p:spPr>
      </p:pic>
      <p:sp>
        <p:nvSpPr>
          <p:cNvPr id="380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Arial"/>
              </a:rPr>
              <a:t>PŘÍR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VÝZNAMNÉ OBJEKTY AS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ovéPole 9"/>
          <p:cNvSpPr/>
          <p:nvPr/>
        </p:nvSpPr>
        <p:spPr>
          <a:xfrm>
            <a:off x="179280" y="148428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ušť Go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a 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chladnějš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ští na svět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až -4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cels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ovéPole 10"/>
          <p:cNvSpPr/>
          <p:nvPr/>
        </p:nvSpPr>
        <p:spPr>
          <a:xfrm>
            <a:off x="6804000" y="155736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pka Fudž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ále 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pka, posled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rupce 17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Japonsk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ovéPole 11"/>
          <p:cNvSpPr/>
          <p:nvPr/>
        </p:nvSpPr>
        <p:spPr>
          <a:xfrm>
            <a:off x="179280" y="378936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eka Ga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vátná ře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dů, nacház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v sever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d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ovéPole 12"/>
          <p:cNvSpPr/>
          <p:nvPr/>
        </p:nvSpPr>
        <p:spPr>
          <a:xfrm>
            <a:off x="6732720" y="371628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vátné koup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dové věří, 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ud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koupete 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anze, vaše duš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e očiště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Obrázek 13" descr="Ganga_Dashara,_at_Haridwar.jpg"/>
          <p:cNvPicPr/>
          <p:nvPr/>
        </p:nvPicPr>
        <p:blipFill>
          <a:blip r:embed="rId4"/>
          <a:stretch/>
        </p:blipFill>
        <p:spPr>
          <a:xfrm>
            <a:off x="4427640" y="3213000"/>
            <a:ext cx="2268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Arial"/>
              </a:rPr>
              <a:t>HISTO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VÝZNAMNÉ OBJEKTY AS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Obrázek 8" descr="800px-Monastery_around_Dhamek_stupa,_Sarnath.jpg"/>
          <p:cNvPicPr/>
          <p:nvPr/>
        </p:nvPicPr>
        <p:blipFill>
          <a:blip r:embed="rId1"/>
          <a:stretch/>
        </p:blipFill>
        <p:spPr>
          <a:xfrm>
            <a:off x="1258920" y="2492280"/>
            <a:ext cx="3166920" cy="2109960"/>
          </a:xfrm>
          <a:prstGeom prst="rect">
            <a:avLst/>
          </a:prstGeom>
          <a:ln w="0">
            <a:noFill/>
          </a:ln>
        </p:spPr>
      </p:pic>
      <p:pic>
        <p:nvPicPr>
          <p:cNvPr id="392" name="Obrázek 9" descr="800px-GreatWall_2004_Summer_4.jpg"/>
          <p:cNvPicPr/>
          <p:nvPr/>
        </p:nvPicPr>
        <p:blipFill>
          <a:blip r:embed="rId2"/>
          <a:stretch/>
        </p:blipFill>
        <p:spPr>
          <a:xfrm>
            <a:off x="4427640" y="2492280"/>
            <a:ext cx="2808360" cy="2106720"/>
          </a:xfrm>
          <a:prstGeom prst="rect">
            <a:avLst/>
          </a:prstGeom>
          <a:ln w="0">
            <a:noFill/>
          </a:ln>
        </p:spPr>
      </p:pic>
      <p:sp>
        <p:nvSpPr>
          <p:cNvPr id="393" name="TextovéPole 10"/>
          <p:cNvSpPr/>
          <p:nvPr/>
        </p:nvSpPr>
        <p:spPr>
          <a:xfrm>
            <a:off x="179280" y="12682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dh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uddhismus je nábožensko-filosofický systém, jehož základ vytvořil Gautama Buddha pravděpodobně v 5. století př. n. l. v severovýchodní Indii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má stanoveného boh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ovéPole 11"/>
          <p:cNvSpPr/>
          <p:nvPr/>
        </p:nvSpPr>
        <p:spPr>
          <a:xfrm>
            <a:off x="179280" y="472428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ká čínská ze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arý systém opevnění táhnoucí se napříč severní Čín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eď se táhne v ohromující délce cca 6000 km (se všemi odbočkami 8858,8k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2000" spc="-1" strike="noStrike">
                <a:solidFill>
                  <a:srgbClr val="575f6d"/>
                </a:solidFill>
                <a:latin typeface="Century Schoolbook"/>
              </a:rPr>
              <a:t>OBYVATEL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AFR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Obrázek 8" descr="600px-EthnAfrica.jpg"/>
          <p:cNvPicPr/>
          <p:nvPr/>
        </p:nvPicPr>
        <p:blipFill>
          <a:blip r:embed="rId1"/>
          <a:stretch/>
        </p:blipFill>
        <p:spPr>
          <a:xfrm>
            <a:off x="539640" y="1341360"/>
            <a:ext cx="4437000" cy="4437000"/>
          </a:xfrm>
          <a:prstGeom prst="rect">
            <a:avLst/>
          </a:prstGeom>
          <a:ln w="0">
            <a:noFill/>
          </a:ln>
        </p:spPr>
      </p:pic>
      <p:sp>
        <p:nvSpPr>
          <p:cNvPr id="399" name="TextovéPole 9"/>
          <p:cNvSpPr/>
          <p:nvPr/>
        </p:nvSpPr>
        <p:spPr>
          <a:xfrm>
            <a:off x="5148360" y="1773360"/>
            <a:ext cx="34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rozšířenější etnika Afr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Arab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Afriča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erbe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asaj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Himb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Obrázek 6" descr="Asie.jpg"/>
          <p:cNvPicPr/>
          <p:nvPr/>
        </p:nvPicPr>
        <p:blipFill>
          <a:blip r:embed="rId1"/>
          <a:stretch/>
        </p:blipFill>
        <p:spPr>
          <a:xfrm>
            <a:off x="1332000" y="765000"/>
            <a:ext cx="5425920" cy="5126040"/>
          </a:xfrm>
          <a:prstGeom prst="rect">
            <a:avLst/>
          </a:prstGeom>
          <a:ln w="0">
            <a:noFill/>
          </a:ln>
        </p:spPr>
      </p:pic>
      <p:sp>
        <p:nvSpPr>
          <p:cNvPr id="401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AFRIKA - STÁ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. 1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VÝZNAMNÉ OBJEKTY AFRI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Obrázek 8" descr="800px-Monastery_around_Dhamek_stupa,_Sarnath.jpg"/>
          <p:cNvPicPr/>
          <p:nvPr/>
        </p:nvPicPr>
        <p:blipFill>
          <a:blip r:embed="rId1"/>
          <a:stretch/>
        </p:blipFill>
        <p:spPr>
          <a:xfrm>
            <a:off x="250920" y="2637000"/>
            <a:ext cx="3384360" cy="1823760"/>
          </a:xfrm>
          <a:prstGeom prst="rect">
            <a:avLst/>
          </a:prstGeom>
          <a:ln w="0">
            <a:noFill/>
          </a:ln>
        </p:spPr>
      </p:pic>
      <p:pic>
        <p:nvPicPr>
          <p:cNvPr id="408" name="Obrázek 9" descr="800px-GreatWall_2004_Summer_4.jpg"/>
          <p:cNvPicPr/>
          <p:nvPr/>
        </p:nvPicPr>
        <p:blipFill>
          <a:blip r:embed="rId2"/>
          <a:stretch/>
        </p:blipFill>
        <p:spPr>
          <a:xfrm>
            <a:off x="3635280" y="2637000"/>
            <a:ext cx="2737080" cy="1819080"/>
          </a:xfrm>
          <a:prstGeom prst="rect">
            <a:avLst/>
          </a:prstGeom>
          <a:ln w="0">
            <a:noFill/>
          </a:ln>
        </p:spPr>
      </p:pic>
      <p:sp>
        <p:nvSpPr>
          <p:cNvPr id="409" name="TextovéPole 10"/>
          <p:cNvSpPr/>
          <p:nvPr/>
        </p:nvSpPr>
        <p:spPr>
          <a:xfrm>
            <a:off x="179280" y="12682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rodní park Sereng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verní Tanzanie, východně od Viktoriina jezera. Jedná se o jedno z nejslavnějších a nejrozsáhlejších chráněných území Afr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ložen v roce 195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ovéPole 11"/>
          <p:cNvSpPr/>
          <p:nvPr/>
        </p:nvSpPr>
        <p:spPr>
          <a:xfrm>
            <a:off x="179280" y="472428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gyptské pyramidy a hierogly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yramidy jsou pohřební budovy pro dávné faraony Egypta. Přes 100 metrů vysok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gypťané nazývali hieroglyfy "písmo bohů" neboť věřili, že jej vynalezl bůh Thov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Obrázek 12" descr="Egyptian_funerary_stela.jpg"/>
          <p:cNvPicPr/>
          <p:nvPr/>
        </p:nvPicPr>
        <p:blipFill>
          <a:blip r:embed="rId3"/>
          <a:stretch/>
        </p:blipFill>
        <p:spPr>
          <a:xfrm>
            <a:off x="6516720" y="2205000"/>
            <a:ext cx="16635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9:15:51Z</dcterms:created>
  <dc:creator>Drahuše</dc:creator>
  <dc:description/>
  <dc:language>en-US</dc:language>
  <cp:lastModifiedBy>martina</cp:lastModifiedBy>
  <dcterms:modified xsi:type="dcterms:W3CDTF">2013-06-09T07:42:06Z</dcterms:modified>
  <cp:revision>143</cp:revision>
  <dc:subject/>
  <dc:title>č. 21 – Česká republika a Evropa - opakování</dc:title>
</cp:coreProperties>
</file>