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D67-94B5-44BF-A89A-0E05056B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729-4B48-4FC3-923D-AF103E5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AEE-C772-4C50-BF6E-B3D262D9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205-58D8-46AC-9349-C5011501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F0E5-0E13-49B3-B61C-3CEF1560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7A8-D5FD-4AF0-84AD-4E1092C8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DCF-93F9-4BD2-A40C-30B0FBEF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3D1-E586-479C-97B9-F8C6964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D0D9-A623-41F8-B163-09A947F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DDD4-7976-42C5-B92C-A03A0CE8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218-B024-4786-BE79-74E4ED9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9D1-E55C-425A-A151-B769624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25B-545F-4D9A-99F5-CA193F5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6AF-5219-45CB-8794-09C47C3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EBC5-40B0-4FD6-928B-93F68D3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2CFA-9653-4D76-BCE7-74382DD5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DA6D-D860-4C8E-8CEE-9593B94C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40745-8237-4B4E-B3DA-D92F417B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0A0E2-7267-4256-84AD-44C37AA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F1487-8B4A-4C17-BC27-441ED6B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3A7EA-AECB-4A9C-BB0C-FCA1247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1EFDF-32E3-4DB0-A71E-3F0F8A9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D2E-BAB9-4543-9620-8A962B81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6F208-8CA3-4C53-8F9F-95D547A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02CC1-DD08-4110-9CCD-A9FA5A6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F5977-C714-486D-8460-67EB718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7E27D-EAF1-458A-A6E3-5ED28FA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0257B-EB60-4780-A888-ED4430FE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1A29A-E4B1-4937-9F81-2D1D956F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9736F-5209-4421-9D56-F2B6AEC8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C2D0-AB4D-4FD2-BE81-AA49FAD3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0FAD-5E14-4E33-8CC1-6CBF59E0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F648-BAF9-4BD7-9B26-B74CCC0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18D-2DDF-4997-BC23-E32FE34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565D-BED5-4685-AE8A-177718C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7D10-E982-4C80-B1C4-342F3A10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7ED8-D57A-44A3-97E5-DF44990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C87D-6570-4E90-9B2D-70E36CF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C82C-B7DD-4234-B9F9-3D4F53C8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F598-BD09-46ED-A0CC-2C2B35F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6EEC-BFB6-4074-AAB1-4542FFB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D513-1308-44FD-B60E-95C2C099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5C78-3269-4B57-AC07-A088FFF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8D05A-FE98-4A5D-8E17-A811C607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9E4-D1D5-4FA5-8196-68D07F0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8C801-18B0-4098-AC78-2FAA331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CB97E-D8DE-448A-A846-CF50BE6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E678C-AD05-4CA9-8DFA-7FB2FDFA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662E8-6EB3-4E4C-A31C-C2AD6D02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FFD14-1AB6-4053-ACEB-1173A90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A8B9E-8F4A-45FE-A5AC-C2C81FE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DD165-2370-4B2E-8DFB-4DF1947E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E75FC-9642-4153-AEB0-DDB0209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E4993-7C05-47C7-AA49-005F3717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FD961-4FB6-4FCB-A6B2-08297A5F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B94-AD30-4E38-9B09-7911918B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25BFE-B61A-4C99-9862-C05A7197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C4388-D48D-48D0-B066-3EB83770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17AA8-4E20-481F-83A3-A4CADFA8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F7512-461E-4C5C-A99C-9D737148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ADD84-AB24-4F9F-B4BE-E8C41F39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EE923-6A62-4D49-8E75-E54293C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4A0B0-1AC2-40F8-BA34-55FB0FE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AE31C-07D3-4618-AE01-8AA7388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E8AD5-F446-483E-BEE8-B4A86C3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B97AB-9EA4-4877-9AA0-AA75CCF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8ED-37D4-463A-AAB2-C4E1BB9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0F4B7-025D-4270-A4F6-217C4E0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38BB4-72F3-4B33-B6AF-C8A460ED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65FF2-AF13-4331-8A05-6ED40BDD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266ED-233F-41FC-905F-718B2F69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7DC7E-145B-4C1E-80D0-21733FA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466C0-B8FE-43AA-AAE8-A58C2E0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392E2-827C-40E8-90C8-CF36682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5BECA-54A4-4585-8573-74CC14A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A8F6A-35F4-4F1D-AF31-E4E49CB7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C6FB6-4994-4847-9019-646A46B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1A4-6E43-4F9B-B182-08FC268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087AC-89BD-4580-8721-CBE33C3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BFB75-556D-42E0-87C2-FAB3C07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39F87-77EB-4024-8AD3-CC8B3AA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AA1C5-CD6F-4FC7-B908-4723548C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287C6-62D2-43DD-9454-FF8E7808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2C8-53DF-4C0D-91E4-DEA4AAF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C57-8A7E-4412-955C-A02C87EE79D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221-C614-4FAE-A151-CA9545FD7CF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ADE-8F58-43BF-9136-C7030CD6C50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904A-8A3A-4987-BD7F-A2A9347D414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73CA-5CD3-4AB1-A171-2A7A63A75E3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D18-AE05-4FE1-8BB5-584EBE99DF8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F8F-99D7-4485-8585-9C791520F3F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6 –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ŘÍRODNÍ PODMÍNKY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6"/>
          <p:cNvSpPr/>
          <p:nvPr/>
        </p:nvSpPr>
        <p:spPr>
          <a:xfrm>
            <a:off x="500040" y="1643040"/>
            <a:ext cx="785808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2-11-02] dostupné pod licencí Public domain – 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R – světové strany (Obrysov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álický Sněžník - http://cs.wikipedia.org/wiki/Soubor:Kralicky_Sneznik_CZ_I4C-4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ubý Jeseník - http://cs.wikipedia.org/wiki/Soubor:Hruby_Jesenik_CZ_I4C-7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zký Jeseník - http://cs.wikipedia.org/wiki/Soubor:Nizky_Jesenik_CZ_I4C-8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Českomoravská vrchovina - http://cs.wikipedia.org/wiki/Soubor:Ceskomoravska_vrchovina_CZ_I2C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ížiny 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tři mapy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eky (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Říp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tunda - http://cs.wikipedia.org/wiki/Soubor:RotundaRi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31164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podmínky ČR – povrch, členitost a pohoř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získávají základní znalosti o přírodních podmínkách České republiky, povrchu, členitosti a pohoří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znát přírodní podmínky ČR, popsat povrch a jeho členit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zent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ý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REPUBLIKA (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ĚTOVÉ STRA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11" descr="800px-Czech_Republic_districts.png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3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- Smrk 112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1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 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É NÍŽI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12"/>
          <p:cNvSpPr/>
          <p:nvPr/>
        </p:nvSpPr>
        <p:spPr>
          <a:xfrm>
            <a:off x="468360" y="1484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ola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yjsko-svratec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olnomoravský ú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Obrázek 9" descr="800px-Polabi.jpg"/>
          <p:cNvPicPr/>
          <p:nvPr/>
        </p:nvPicPr>
        <p:blipFill>
          <a:blip r:embed="rId1"/>
          <a:stretch/>
        </p:blipFill>
        <p:spPr>
          <a:xfrm>
            <a:off x="3419640" y="1125360"/>
            <a:ext cx="2592360" cy="1516320"/>
          </a:xfrm>
          <a:prstGeom prst="rect">
            <a:avLst/>
          </a:prstGeom>
          <a:ln w="0">
            <a:noFill/>
          </a:ln>
        </p:spPr>
      </p:pic>
      <p:pic>
        <p:nvPicPr>
          <p:cNvPr id="391" name="Obrázek 10" descr="800px-DyjskosvrateckyUval.jpg"/>
          <p:cNvPicPr/>
          <p:nvPr/>
        </p:nvPicPr>
        <p:blipFill>
          <a:blip r:embed="rId2"/>
          <a:stretch/>
        </p:blipFill>
        <p:spPr>
          <a:xfrm>
            <a:off x="5292720" y="2565360"/>
            <a:ext cx="2584440" cy="151128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11" descr="800px-DyjskosvrateckyUval.jpg"/>
          <p:cNvPicPr/>
          <p:nvPr/>
        </p:nvPicPr>
        <p:blipFill>
          <a:blip r:embed="rId3"/>
          <a:stretch/>
        </p:blipFill>
        <p:spPr>
          <a:xfrm>
            <a:off x="3995640" y="4076640"/>
            <a:ext cx="2592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Obrázek 8" descr="RekyCR800x600.jpg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4772160"/>
          </a:xfrm>
          <a:prstGeom prst="rect">
            <a:avLst/>
          </a:prstGeom>
          <a:ln w="0">
            <a:noFill/>
          </a:ln>
        </p:spPr>
      </p:pic>
      <p:sp>
        <p:nvSpPr>
          <p:cNvPr id="39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VĚTŠÍ ČESKÉ ŘE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Obrázek 17" descr="435px-RotundaRip.jpg"/>
          <p:cNvPicPr/>
          <p:nvPr/>
        </p:nvPicPr>
        <p:blipFill>
          <a:blip r:embed="rId1"/>
          <a:stretch/>
        </p:blipFill>
        <p:spPr>
          <a:xfrm>
            <a:off x="1547640" y="2565360"/>
            <a:ext cx="2376720" cy="327204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1. 2012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ŘÍ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9" descr="rip800x600.jpg"/>
          <p:cNvPicPr/>
          <p:nvPr/>
        </p:nvPicPr>
        <p:blipFill>
          <a:blip r:embed="rId2"/>
          <a:stretch/>
        </p:blipFill>
        <p:spPr>
          <a:xfrm>
            <a:off x="4140360" y="692280"/>
            <a:ext cx="4671720" cy="2733480"/>
          </a:xfrm>
          <a:prstGeom prst="rect">
            <a:avLst/>
          </a:prstGeom>
          <a:ln w="0">
            <a:noFill/>
          </a:ln>
        </p:spPr>
      </p:pic>
      <p:sp>
        <p:nvSpPr>
          <p:cNvPr id="402" name="Přímá spojovací čára 13"/>
          <p:cNvSpPr/>
          <p:nvPr/>
        </p:nvSpPr>
        <p:spPr>
          <a:xfrm flipH="1">
            <a:off x="2987640" y="1413000"/>
            <a:ext cx="266400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14"/>
          <p:cNvSpPr/>
          <p:nvPr/>
        </p:nvSpPr>
        <p:spPr>
          <a:xfrm>
            <a:off x="2987640" y="10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p (45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ipsa 15"/>
          <p:cNvSpPr/>
          <p:nvPr/>
        </p:nvSpPr>
        <p:spPr>
          <a:xfrm>
            <a:off x="5580000" y="1341360"/>
            <a:ext cx="144360" cy="1429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16"/>
          <p:cNvSpPr/>
          <p:nvPr/>
        </p:nvSpPr>
        <p:spPr>
          <a:xfrm>
            <a:off x="395280" y="1557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mátná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le pověsti na ni vystoupil prao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ch a dovedl tak český národ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alézá se zde rotunda sv. Ji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ůvodně zasvěcena sv. Vojt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38:44Z</dcterms:modified>
  <cp:revision>98</cp:revision>
  <dc:subject/>
  <dc:title>č. 21 – Česká republika a Evropa - opakování</dc:title>
</cp:coreProperties>
</file>